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D80-79FD-4870-905C-26E205AD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66B-527A-4055-BE43-CFE33374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E8B9-13DA-46A7-A78F-61C33237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694-3D3B-4692-BB3A-C867D9E3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696-1FE7-4F21-8312-229965E2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B8D-CADC-42F4-9A95-6F16FD67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379-3DD9-4BB7-A9DA-2D521693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68E-E3C4-4E02-8D43-60FCBB3D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CD7-544D-467C-A295-9C2514CD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31F-7F15-4A0E-B88F-246320C4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151-FF19-4DAE-9804-96EBC347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4810-42A8-477E-9B20-B982E037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8B8F-B274-424C-B1AE-5E17A845D6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37000" y="1314360"/>
            <a:ext cx="4921200" cy="456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ruthCYR Thin"/>
              </a:rPr>
              <a:t>Урок окружающего ми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684360" y="18900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лиал МАОУ «Аромашевская СОШ им. В.Д.Кармацкого» Новопетровская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395280" y="6237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дич Лариса Михайловна,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720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Актуализация знани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икроцель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уализировать знания учащихся, полученные на предыдущем уроке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тоды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есный, наглядный, метод контроля «Угл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11280" y="3878280"/>
          <a:ext cx="7866000" cy="1920960"/>
        </p:xfrm>
        <a:graphic>
          <a:graphicData uri="http://schemas.openxmlformats.org/drawingml/2006/table">
            <a:tbl>
              <a:tblPr/>
              <a:tblGrid>
                <a:gridCol w="3933720"/>
                <a:gridCol w="393228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обучаю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агает две группы слов, одна группа«вещества»,другая«тела». Задание:найти «вещества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ловесное оценива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дут по классу, читают слова, находят группу слов обозначающих «вещества», доказывают свой вы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0" name="Равнобедренный треугольник 4">
            <a:hlinkClick r:id="rId2" action="ppaction://hlinksldjump"/>
          </p:cNvPr>
          <p:cNvSpPr/>
          <p:nvPr/>
        </p:nvSpPr>
        <p:spPr>
          <a:xfrm rot="5400000">
            <a:off x="8176320" y="6042600"/>
            <a:ext cx="855720" cy="7747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22360" y="2214720"/>
          <a:ext cx="6480360" cy="4373280"/>
        </p:xfrm>
        <a:graphic>
          <a:graphicData uri="http://schemas.openxmlformats.org/drawingml/2006/table">
            <a:tbl>
              <a:tblPr/>
              <a:tblGrid>
                <a:gridCol w="2838600"/>
                <a:gridCol w="1830240"/>
                <a:gridCol w="1811520"/>
              </a:tblGrid>
              <a:tr h="49032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начале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+/нет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конце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+/нет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Я знаю что такое «тело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Я знаю что такое «вещество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Я знаю вещества и  умею  определять их свой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Я могу определить какие вещества входят в состав продуктов пит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Я знаю откуда на стол пришли соль и саха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Я знаю какие бывают кисло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Rectangle 4"/>
          <p:cNvSpPr/>
          <p:nvPr/>
        </p:nvSpPr>
        <p:spPr>
          <a:xfrm>
            <a:off x="798480" y="1507320"/>
            <a:ext cx="12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ойная рефлекси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280" y="1773000"/>
            <a:ext cx="7929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горитм работы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смотри предложенное веще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Проведи исследование, запиши  результ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Сделай выв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атрица запомин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27000" y="1928880"/>
          <a:ext cx="7290000" cy="2847960"/>
        </p:xfrm>
        <a:graphic>
          <a:graphicData uri="http://schemas.openxmlformats.org/drawingml/2006/table">
            <a:tbl>
              <a:tblPr/>
              <a:tblGrid>
                <a:gridCol w="1214640"/>
                <a:gridCol w="1216080"/>
                <a:gridCol w="1214280"/>
                <a:gridCol w="1214280"/>
                <a:gridCol w="1214640"/>
                <a:gridCol w="1216080"/>
              </a:tblGrid>
              <a:tr h="823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нешний в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к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твор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х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Равнобедренный треугольник 3">
            <a:hlinkClick r:id="rId2" action="ppaction://hlinksldjump"/>
          </p:cNvPr>
          <p:cNvSpPr/>
          <p:nvPr/>
        </p:nvSpPr>
        <p:spPr>
          <a:xfrm rot="5400000">
            <a:off x="8201160" y="5874480"/>
            <a:ext cx="765360" cy="734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555720" y="74880"/>
            <a:ext cx="203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рица запоми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998280"/>
            <a:ext cx="68864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ехника безопасности при работе с различными веществам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71680" y="1628640"/>
            <a:ext cx="7929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 время урока вы должны четко следовать указаниям учите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прещается пробовать на вкус вещества, нюхать можно только направляя легким движением руки испарения, не вдыхать полной груд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 время  практической работы ученикам нельзя менять свои рабочие места или брать неразрешенные учителем вещества или оборудов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 рассыпанных веществах или разлитых реактивах ученик должен незамедлительно сообщить учителю. Учащимся запрещено проводить самостоятельную уборку веществ без разрешения учите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11280" y="5559480"/>
          <a:ext cx="7875360" cy="1371600"/>
        </p:xfrm>
        <a:graphic>
          <a:graphicData uri="http://schemas.openxmlformats.org/drawingml/2006/table">
            <a:tbl>
              <a:tblPr/>
              <a:tblGrid>
                <a:gridCol w="3938400"/>
                <a:gridCol w="393696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одит инструктаж и координирует  практическую работу в групп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1280" y="953640"/>
            <a:ext cx="720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ткрытие» новых знаний. Практическая рабо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66280" y="2438280"/>
            <a:ext cx="792972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икроцель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овать самостоятельную деятельность учеников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тод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тично-поисковый, работа с книг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66640" y="3581280"/>
          <a:ext cx="7831080" cy="3100680"/>
        </p:xfrm>
        <a:graphic>
          <a:graphicData uri="http://schemas.openxmlformats.org/drawingml/2006/table">
            <a:tbl>
              <a:tblPr/>
              <a:tblGrid>
                <a:gridCol w="3916440"/>
                <a:gridCol w="3914640"/>
              </a:tblGrid>
              <a:tr h="54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обучаю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одит инструктаж и координирует  практическую работу в группах, предлагает оценить выступления обучающихся, контролирует заполнение «Матрицы запоминания» , прием «Домысливани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тся работать в группах, выбирают лидера, соблюдают правила взаимоотношений и сотрудниче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ем «Эксперимент»,устные сообшения,проводят опыты,вносят результаты в таблицы,делают выв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836640" y="1628640"/>
          <a:ext cx="7110360" cy="4206960"/>
        </p:xfrm>
        <a:graphic>
          <a:graphicData uri="http://schemas.openxmlformats.org/drawingml/2006/table">
            <a:tbl>
              <a:tblPr/>
              <a:tblGrid>
                <a:gridCol w="3554280"/>
                <a:gridCol w="3556080"/>
              </a:tblGrid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проду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наружен ли крахмал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лый хле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бло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ртоф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и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карон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720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бобщение и закрепление знаний (8 мин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икроцель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бщить результаты групповой работы, выяснить представления детей о том, что было предметом обсуждения на уро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тод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есный, нагляд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11280" y="4194000"/>
          <a:ext cx="7875360" cy="1646280"/>
        </p:xfrm>
        <a:graphic>
          <a:graphicData uri="http://schemas.openxmlformats.org/drawingml/2006/table">
            <a:tbl>
              <a:tblPr/>
              <a:tblGrid>
                <a:gridCol w="3825720"/>
                <a:gridCol w="404964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обучаю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ует выступления групп, помогает делать выводы, анализирует работу груп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ляют результат работы, аргументируют свой ответ, анализируют ответы других выступающи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720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Итог урока. Рефлекс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икроцел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ать оценку достижений цели урока через самоанализ деятельности учащих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тод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Двойная рефлексия»(самооц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),достижение цели уро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Calibri"/>
              </a:rPr>
              <a:t>Тест« «Разнообразие веществ» (самооценивание по критериям), взаимооценивание в групп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11280" y="5273640"/>
          <a:ext cx="7875360" cy="1098720"/>
        </p:xfrm>
        <a:graphic>
          <a:graphicData uri="http://schemas.openxmlformats.org/drawingml/2006/table">
            <a:tbl>
              <a:tblPr/>
              <a:tblGrid>
                <a:gridCol w="3825720"/>
                <a:gridCol w="404964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обучаю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водит итог, проводит рефлексию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ксируют свое настроение и отношение к уро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                  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У меня все получилос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Я немного ошибал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                 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У меня ничего не получилос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Овал 3"/>
          <p:cNvSpPr/>
          <p:nvPr/>
        </p:nvSpPr>
        <p:spPr>
          <a:xfrm>
            <a:off x="1403280" y="2276640"/>
            <a:ext cx="865080" cy="792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6"/>
          <p:cNvSpPr/>
          <p:nvPr/>
        </p:nvSpPr>
        <p:spPr>
          <a:xfrm>
            <a:off x="1403280" y="3284640"/>
            <a:ext cx="865080" cy="79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7"/>
          <p:cNvSpPr/>
          <p:nvPr/>
        </p:nvSpPr>
        <p:spPr>
          <a:xfrm>
            <a:off x="1395360" y="4368960"/>
            <a:ext cx="865080" cy="792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8" descr=""/>
          <p:cNvPicPr/>
          <p:nvPr/>
        </p:nvPicPr>
        <p:blipFill>
          <a:blip r:embed="rId2"/>
          <a:stretch/>
        </p:blipFill>
        <p:spPr>
          <a:xfrm>
            <a:off x="762120" y="998640"/>
            <a:ext cx="761976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15560" y="104256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Тема урока: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Разнообразие вещест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13920" y="2660400"/>
            <a:ext cx="7929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 -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 урока – «открытие» новых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ел – «Эта удивительная природа» (урок в разделе 3,по данной теме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31640" y="1133280"/>
            <a:ext cx="8280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дготови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торение критериев устного оцени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детьми устных сообщений по теме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подготовка материала для проведения опы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91640" y="2033280"/>
            <a:ext cx="7929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Познакомить обучающихся с веществами и их свойств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борудование к уро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утбук,презентация к уроку,учебни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щества(соль,сахар,крахмал,уксу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укты для практической работы(картофель,яблоки,рис,макаро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леб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тойка йода,пипе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15560" y="95364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риемы и методы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322000" y="2484360"/>
            <a:ext cx="792972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есные мет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глядные мет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е мет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ично-поисковый мет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6640" y="95364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иды дея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76280" y="5902920"/>
            <a:ext cx="792936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1285920" y="2438280"/>
            <a:ext cx="2746440" cy="14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рупп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4751280" y="2438280"/>
            <a:ext cx="2791080" cy="14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2097000" y="4149720"/>
            <a:ext cx="4365720" cy="14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1467000" y="1089000"/>
            <a:ext cx="5535360" cy="80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9"/>
          <p:cNvCxnSpPr>
            <a:stCxn id="58" idx="2"/>
            <a:endCxn id="55" idx="0"/>
          </p:cNvCxnSpPr>
          <p:nvPr/>
        </p:nvCxnSpPr>
        <p:spPr>
          <a:xfrm flipH="1">
            <a:off x="2658240" y="1898280"/>
            <a:ext cx="157572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Прямая со стрелкой 11"/>
          <p:cNvCxnSpPr>
            <a:stCxn id="58" idx="2"/>
          </p:cNvCxnSpPr>
          <p:nvPr/>
        </p:nvCxnSpPr>
        <p:spPr>
          <a:xfrm>
            <a:off x="4233600" y="1898640"/>
            <a:ext cx="68760" cy="22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Прямая со стрелкой 13"/>
          <p:cNvCxnSpPr>
            <a:stCxn id="58" idx="2"/>
            <a:endCxn id="56" idx="0"/>
          </p:cNvCxnSpPr>
          <p:nvPr/>
        </p:nvCxnSpPr>
        <p:spPr>
          <a:xfrm>
            <a:off x="4233600" y="1898280"/>
            <a:ext cx="191340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труктур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ый момен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уализация опорных зн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ение темы, цел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зада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Открытие» новых знаний. Практическая раб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бщение и закрепление новых зна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ог урока. Рефлекс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3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рганизационный момент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отивация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икроцель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ить готовность обучащихся к уроку, настроить их на ур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тоды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ес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1280" y="3564000"/>
          <a:ext cx="7875360" cy="1920960"/>
        </p:xfrm>
        <a:graphic>
          <a:graphicData uri="http://schemas.openxmlformats.org/drawingml/2006/table">
            <a:tbl>
              <a:tblPr/>
              <a:tblGrid>
                <a:gridCol w="3940200"/>
                <a:gridCol w="393516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обучаю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ветствие. Рифмованный настрой на дальнейшую работу ;мотивирует тем, что урок-исследование. МЫ-исследовате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траиваются на работу , приветствуют учителя и г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тупают в обсуждение «Что значит- исследова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4:47:43Z</dcterms:created>
  <dc:creator>User</dc:creator>
  <dc:description/>
  <dc:language>en-US</dc:language>
  <cp:lastModifiedBy>Пользователь</cp:lastModifiedBy>
  <dcterms:modified xsi:type="dcterms:W3CDTF">2023-10-30T14:42:34Z</dcterms:modified>
  <cp:revision>29</cp:revision>
  <dc:subject/>
  <dc:title>Слайд 1</dc:title>
</cp:coreProperties>
</file>