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06D-9BB7-4093-9C1B-C1EE6DFA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15E-4C0F-423B-AFD9-346866FB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949-1EDC-4494-B246-76362755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1D9-785D-4B40-AC59-8EB6747F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5938-10B8-4346-9179-D59BDAAB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02F5-E01A-42DB-BF53-EE6F82D8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4C57-BFF0-4C1B-8A68-A7B224A5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D64C-8ABF-402C-8018-AB6FC6D4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F733-5046-4AD4-A2AB-7166E0DD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1D87-E4A6-481C-AE7F-86ACD7F8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96E0-5DF4-4113-ACB0-F215BF2C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541-AF6E-4CEE-AD2E-86E52769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94B3-5A3D-4406-B9C9-AE8BC0FF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C2AB-F5E6-4120-B712-50C92C0E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DEEC-CCD2-4631-A588-BEF14737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734C-3B02-4713-BB68-737CF8A9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A9A1-5E40-4754-BB51-40411BE6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E03B4-7A1B-4E59-9F62-5278E9A3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77342-4E36-4886-AFB1-852BF324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D11EC-96AA-4530-9152-58028DED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A2EEA8-552A-42F5-8845-C6862C21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D9A1B-EDC0-4B6A-A28C-08422590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674-FF33-428C-B4DC-77259E2D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75F0C-16B1-4597-A313-A348E1DA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A913E-2CF7-4AB0-94B6-99F664D0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95436-BE0E-43D9-92AE-C65B56A0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AB850-2AF7-4191-A068-90A9A869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9D405-AD33-4C58-B43F-5A3A7A47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90769-343F-4EE9-8E6F-EBE283F9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41AE4-0BAD-4F1D-B729-07044A21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AEFF2-F6A0-4ADF-9376-63F25088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BECA0-1388-4FF9-9887-75A2D937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CE674-C692-4216-AC9F-7BA11520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9D87-20B6-4AA6-A2CC-A54F03F3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DC94B-5FBD-4FB8-9EFF-ABF5B83C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01511-3CE7-4EFD-B817-75E437FD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A34BD-7008-48B6-BA5F-385A6DB0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4DB7B-F3D0-43D8-8A3A-C1C2EDDC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BD3FA-27FE-486E-A17F-9281780D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59FC1-F9BF-4D56-9F24-F9545C19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A8839-B179-4730-873A-C12D10B9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06B7E-F2D0-489B-BDB7-3BFCEC69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2957A-77E5-42AD-93ED-78E0DBE4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01D501-E589-4A21-A296-35604BBF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B89-3D43-4A5C-9DA6-3F0423A0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AEBAC8-8F24-4B26-858D-99E73F69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FA54E7-89EE-4DBB-82B4-DF5D0302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F7A72A-1D36-496A-9D62-1A680DFE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26E801-674C-400D-93A0-4AB471B2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F6D953-480B-4FFB-87FD-DB5DDE14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0CE324-4313-4709-907F-DDFD4468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BE2702-375D-48B6-AD74-C8BCBB6B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E717DA-53C1-45D1-9464-4188F330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7E7A20-C44B-4DCD-B8D4-BC109355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24050-3A84-4ADB-A819-36B3E9DB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CC7-8DC9-4BCB-9491-A9786602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6962FC-96D7-4C37-997C-6E0B84A5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D6CB0D-53B5-4FF2-A4AF-540373B0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100B8-BFEB-4FB9-8A12-51B80953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821AC8-D937-426E-AF1C-2A1C05DF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446650-0085-41F5-A532-9BBA131B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E80174-AA08-44A6-B5AD-F766B7D4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00767E-D052-47C0-9CF2-28AB18C4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DA924-2EE7-4E50-A82F-557B98CE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403766-3999-4874-8404-D40738AD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9D2F7-44EF-43CE-989D-6716D0AD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69D-F741-4C9B-87E8-EA62D3EB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7F70F3-B45E-4C7B-A49D-D71DE93E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CCE0EB-E94E-46C4-927D-BADB166A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3D62A-B1F2-4AE8-8890-EC114CED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9FBAB1-B32B-44ED-AC52-4DDDB495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E1F65F-C6CF-423F-A24D-06E39B0E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BB1231-1AC7-4DC2-A400-FF4A1C74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06F2A-75D3-4F0C-99E0-8D0A4BA3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2AF428-BD2F-4150-A1D8-B34347EA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B8404B-0661-417A-A489-4E3A73C6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F9F13C-602D-4792-8E20-266582E7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3E5-73A4-4A58-A5BE-210EF9FE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FA9ED2-AFB2-4920-B73D-EC4965E3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430B4E-6A86-4599-943E-A934D6EC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E9CBC0-0E03-431F-BEE0-503FF58B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7AB3C-CA45-4EA2-8A49-98C6EA53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30EA3B-F3A9-4284-9777-B11B6BB1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455-DA93-4021-96B5-CD8854F7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BC3A-675C-4A9C-BBC7-F99C7507849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bebe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2f2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9f9f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bebe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9f9f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bebe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bebe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CB98-C2F8-43AE-8FA8-C61FED83979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E51A-28EE-4B50-994F-C9D0E0774D6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bebe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2f2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9f9f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bebe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9f9f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bebe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bebe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89B2-F8A0-4181-9BDB-A9F3BCB684C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AFC0-4219-420A-81D6-AEDA35BBCD8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5A31-8449-4929-991E-1537B3E573D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c3c3"/>
            </a:gs>
            <a:gs pos="100000">
              <a:srgbClr val="fcfcf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c2c2c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ebebe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5d5d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224A-0E65-48A3-AE0C-21BB983C637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4"/>
          <p:cNvSpPr/>
          <p:nvPr/>
        </p:nvSpPr>
        <p:spPr>
          <a:xfrm>
            <a:off x="179280" y="189000"/>
            <a:ext cx="8747280" cy="6408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500040" y="1202760"/>
            <a:ext cx="8215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9640" tIns="46800" bIns="46800" anchor="ctr">
            <a:spAutoFit/>
          </a:bodyPr>
          <a:p>
            <a:pPr algn="ctr"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Койло Ольг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Учитель математики филиала МАОУ «Аромашевская СОШ им. В.Д. Кармацкого» Юрм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Формирование познавательных универсальных учебных действий учащихся 8 классов в процессе проектной деятельности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250920" y="260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Конкурсное испыт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«Методическая мастерск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Прямоугольник 4" descr=""/>
          <p:cNvPicPr/>
          <p:nvPr/>
        </p:nvPicPr>
        <p:blipFill>
          <a:blip r:embed="rId1"/>
          <a:stretch/>
        </p:blipFill>
        <p:spPr>
          <a:xfrm>
            <a:off x="493560" y="530280"/>
            <a:ext cx="83692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99"/>
                </a:solidFill>
                <a:latin typeface="Arial"/>
                <a:ea typeface="Arial"/>
              </a:rPr>
              <a:t>ПОЗНАВАТЕЛЬНЫЕ УНИВЕРСАЛЬНЫЕ УЧЕБНЫЕ ДЕЙСТВИЯ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85480" y="1125000"/>
            <a:ext cx="87152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 универсальные учебные действия – это, прежде всего умение самостоятельно искать необходимую информацию, структурировать ее и делать соответствующие выводы, т.е. умение учитьс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ФГОС познавательные универсальные учебные действия включают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базовые логические действи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базовые исследовательские действи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аботу с информаци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ипы учебных проект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Содержимое 2"/>
          <p:cNvSpPr/>
          <p:nvPr/>
        </p:nvSpPr>
        <p:spPr>
          <a:xfrm>
            <a:off x="571680" y="1000080"/>
            <a:ext cx="314316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(по доминирующей дея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следователь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вор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кла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актико-ориентир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одержимое 2"/>
          <p:cNvSpPr/>
          <p:nvPr/>
        </p:nvSpPr>
        <p:spPr>
          <a:xfrm>
            <a:off x="4357800" y="3286080"/>
            <a:ext cx="4429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(по продолжите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ратковременный (урок, спаренный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редней продолжительности (от недели до меся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ительные (от месяца и бол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одержимое 2"/>
          <p:cNvSpPr/>
          <p:nvPr/>
        </p:nvSpPr>
        <p:spPr>
          <a:xfrm>
            <a:off x="4429080" y="1143000"/>
            <a:ext cx="4464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entury Schoolbook"/>
                <a:ea typeface="Arial"/>
              </a:rPr>
              <a:t>(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по предметно-содержательной обла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нопредме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жпредме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дпредме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одержимое 2"/>
          <p:cNvSpPr/>
          <p:nvPr/>
        </p:nvSpPr>
        <p:spPr>
          <a:xfrm>
            <a:off x="500040" y="4000680"/>
            <a:ext cx="36432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(по количеству участни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упп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ллек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Скругленный прямоугольник 12"/>
          <p:cNvSpPr/>
          <p:nvPr/>
        </p:nvSpPr>
        <p:spPr>
          <a:xfrm>
            <a:off x="142920" y="2286000"/>
            <a:ext cx="878688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ЛОГИЧЕСКАЯ СТРУКТУРА ПРОЕКТ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Скругленный прямоугольник 4"/>
          <p:cNvSpPr/>
          <p:nvPr/>
        </p:nvSpPr>
        <p:spPr>
          <a:xfrm>
            <a:off x="285840" y="1428840"/>
            <a:ext cx="15714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кругленный прямоугольник 5"/>
          <p:cNvSpPr/>
          <p:nvPr/>
        </p:nvSpPr>
        <p:spPr>
          <a:xfrm>
            <a:off x="3500280" y="1428840"/>
            <a:ext cx="16434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кругленный прямоугольник 6"/>
          <p:cNvSpPr/>
          <p:nvPr/>
        </p:nvSpPr>
        <p:spPr>
          <a:xfrm>
            <a:off x="6500880" y="1428840"/>
            <a:ext cx="20001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кругленный прямоугольник 7"/>
          <p:cNvSpPr/>
          <p:nvPr/>
        </p:nvSpPr>
        <p:spPr>
          <a:xfrm>
            <a:off x="214200" y="2500200"/>
            <a:ext cx="185760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 Этап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гружение в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ис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кругленный прямоугольник 8"/>
          <p:cNvSpPr/>
          <p:nvPr/>
        </p:nvSpPr>
        <p:spPr>
          <a:xfrm>
            <a:off x="2214720" y="2500200"/>
            <a:ext cx="200016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Этап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нали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9"/>
          <p:cNvSpPr/>
          <p:nvPr/>
        </p:nvSpPr>
        <p:spPr>
          <a:xfrm>
            <a:off x="4357800" y="2500200"/>
            <a:ext cx="214308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 Этап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уществление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10"/>
          <p:cNvSpPr/>
          <p:nvPr/>
        </p:nvSpPr>
        <p:spPr>
          <a:xfrm>
            <a:off x="6643800" y="250020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 Этап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зентация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ключ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кругленный прямоугольник 11"/>
          <p:cNvSpPr/>
          <p:nvPr/>
        </p:nvSpPr>
        <p:spPr>
          <a:xfrm>
            <a:off x="2786040" y="4643280"/>
            <a:ext cx="35719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нализ реализаци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Прямая со стрелкой 14"/>
          <p:cNvCxnSpPr>
            <a:stCxn id="363" idx="2"/>
            <a:endCxn id="366" idx="0"/>
          </p:cNvCxnSpPr>
          <p:nvPr/>
        </p:nvCxnSpPr>
        <p:spPr>
          <a:xfrm>
            <a:off x="1071720" y="1999800"/>
            <a:ext cx="72000" cy="500760"/>
          </a:xfrm>
          <a:prstGeom prst="straightConnector1">
            <a:avLst/>
          </a:prstGeom>
          <a:ln w="9360">
            <a:solidFill>
              <a:srgbClr val="d8d8d8"/>
            </a:solidFill>
            <a:miter/>
            <a:tailEnd len="med" type="arrow" w="med"/>
          </a:ln>
        </p:spPr>
      </p:cxnSp>
      <p:cxnSp>
        <p:nvCxnSpPr>
          <p:cNvPr id="372" name="Прямая со стрелкой 17"/>
          <p:cNvCxnSpPr>
            <a:stCxn id="363" idx="3"/>
            <a:endCxn id="364" idx="1"/>
          </p:cNvCxnSpPr>
          <p:nvPr/>
        </p:nvCxnSpPr>
        <p:spPr>
          <a:xfrm>
            <a:off x="1857240" y="1714680"/>
            <a:ext cx="1643760" cy="2160"/>
          </a:xfrm>
          <a:prstGeom prst="straightConnector1">
            <a:avLst/>
          </a:prstGeom>
          <a:ln w="9360">
            <a:solidFill>
              <a:srgbClr val="d8d8d8"/>
            </a:solidFill>
            <a:miter/>
            <a:tailEnd len="med" type="arrow" w="med"/>
          </a:ln>
        </p:spPr>
      </p:cxnSp>
      <p:cxnSp>
        <p:nvCxnSpPr>
          <p:cNvPr id="373" name="Прямая со стрелкой 20"/>
          <p:cNvCxnSpPr>
            <a:stCxn id="364" idx="3"/>
            <a:endCxn id="365" idx="1"/>
          </p:cNvCxnSpPr>
          <p:nvPr/>
        </p:nvCxnSpPr>
        <p:spPr>
          <a:xfrm>
            <a:off x="5143680" y="1714680"/>
            <a:ext cx="1357920" cy="2160"/>
          </a:xfrm>
          <a:prstGeom prst="straightConnector1">
            <a:avLst/>
          </a:prstGeom>
          <a:ln w="9360">
            <a:solidFill>
              <a:srgbClr val="d8d8d8"/>
            </a:solidFill>
            <a:miter/>
            <a:tailEnd len="med" type="arrow" w="med"/>
          </a:ln>
        </p:spPr>
      </p:cxnSp>
      <p:cxnSp>
        <p:nvCxnSpPr>
          <p:cNvPr id="374" name="Прямая со стрелкой 23"/>
          <p:cNvCxnSpPr>
            <a:stCxn id="365" idx="2"/>
            <a:endCxn id="369" idx="0"/>
          </p:cNvCxnSpPr>
          <p:nvPr/>
        </p:nvCxnSpPr>
        <p:spPr>
          <a:xfrm>
            <a:off x="7499880" y="1999800"/>
            <a:ext cx="251640" cy="500760"/>
          </a:xfrm>
          <a:prstGeom prst="straightConnector1">
            <a:avLst/>
          </a:prstGeom>
          <a:ln w="9360">
            <a:solidFill>
              <a:srgbClr val="d8d8d8"/>
            </a:solidFill>
            <a:miter/>
            <a:tailEnd len="med" type="arrow" w="med"/>
          </a:ln>
        </p:spPr>
      </p:cxnSp>
      <p:cxnSp>
        <p:nvCxnSpPr>
          <p:cNvPr id="375" name="Прямая со стрелкой 26"/>
          <p:cNvCxnSpPr>
            <a:stCxn id="364" idx="2"/>
            <a:endCxn id="367" idx="0"/>
          </p:cNvCxnSpPr>
          <p:nvPr/>
        </p:nvCxnSpPr>
        <p:spPr>
          <a:xfrm flipH="1">
            <a:off x="3214080" y="1999800"/>
            <a:ext cx="1107000" cy="500760"/>
          </a:xfrm>
          <a:prstGeom prst="straightConnector1">
            <a:avLst/>
          </a:prstGeom>
          <a:ln w="9360">
            <a:solidFill>
              <a:srgbClr val="d8d8d8"/>
            </a:solidFill>
            <a:miter/>
            <a:tailEnd len="med" type="arrow" w="med"/>
          </a:ln>
        </p:spPr>
      </p:cxnSp>
      <p:cxnSp>
        <p:nvCxnSpPr>
          <p:cNvPr id="376" name="Прямая со стрелкой 29"/>
          <p:cNvCxnSpPr>
            <a:stCxn id="364" idx="2"/>
            <a:endCxn id="368" idx="0"/>
          </p:cNvCxnSpPr>
          <p:nvPr/>
        </p:nvCxnSpPr>
        <p:spPr>
          <a:xfrm>
            <a:off x="4321080" y="1999800"/>
            <a:ext cx="1108800" cy="500760"/>
          </a:xfrm>
          <a:prstGeom prst="straightConnector1">
            <a:avLst/>
          </a:prstGeom>
          <a:ln w="9360">
            <a:solidFill>
              <a:srgbClr val="d8d8d8"/>
            </a:solidFill>
            <a:miter/>
            <a:tailEnd len="med" type="arrow" w="med"/>
          </a:ln>
        </p:spPr>
      </p:cxnSp>
      <p:cxnSp>
        <p:nvCxnSpPr>
          <p:cNvPr id="377" name="Прямая со стрелкой 32"/>
          <p:cNvCxnSpPr>
            <a:stCxn id="361" idx="2"/>
            <a:endCxn id="370" idx="0"/>
          </p:cNvCxnSpPr>
          <p:nvPr/>
        </p:nvCxnSpPr>
        <p:spPr>
          <a:xfrm>
            <a:off x="4534560" y="4071600"/>
            <a:ext cx="37080" cy="572040"/>
          </a:xfrm>
          <a:prstGeom prst="straightConnector1">
            <a:avLst/>
          </a:prstGeom>
          <a:ln w="9360">
            <a:solidFill>
              <a:srgbClr val="d8d8d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ТЕМЫ УЧЕБНЫХ ПРОЕКТОВ ПО МАТЕМАТИКЕ ДЛЯ УЧАЩИХСЯ 8 КЛАССОВ </a:t>
            </a: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468360" y="981000"/>
          <a:ext cx="8074080" cy="4591080"/>
        </p:xfrm>
        <a:graphic>
          <a:graphicData uri="http://schemas.openxmlformats.org/drawingml/2006/table">
            <a:tbl>
              <a:tblPr/>
              <a:tblGrid>
                <a:gridCol w="882720"/>
                <a:gridCol w="3363840"/>
                <a:gridCol w="3827520"/>
              </a:tblGrid>
              <a:tr h="633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звание про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ормируемые ПУУ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61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Статистические характеристики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амостоятельное выделение и формулирование познавательной цел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иск и выделение необходимой информаци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нализ объектов с целью выделения признак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ормулирование пробле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амостоятельное создание способов решения проблем поискового характер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нтроль и оценка процесса результатов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Ремонт спортивного зала школ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Многоугольники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1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Линейная функция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"/>
          <p:cNvPicPr/>
          <p:nvPr/>
        </p:nvPicPr>
        <p:blipFill>
          <a:blip r:embed="rId1"/>
          <a:stretch/>
        </p:blipFill>
        <p:spPr>
          <a:xfrm>
            <a:off x="0" y="1052640"/>
            <a:ext cx="5219640" cy="3593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3708360" y="2708280"/>
            <a:ext cx="5249880" cy="37260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4483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ПРОЕКТ «МНОГОУГОЛЬНИКИ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  <a:ea typeface="Arial"/>
              </a:rPr>
              <a:t>ПРОЕКТ «СТАТИСТИЧЕСКИЕ ХАРАКТЕРИСТИКИ</a:t>
            </a:r>
            <a:br>
              <a:rPr sz="30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КАРТОЧКИ-ЗАДАНИЯ ДЛЯ ПЕРВОЙ И ВТОРОЙ ГРУПП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19960" cy="2232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"/>
          <p:cNvPicPr/>
          <p:nvPr/>
        </p:nvPicPr>
        <p:blipFill>
          <a:blip r:embed="rId2"/>
          <a:stretch/>
        </p:blipFill>
        <p:spPr>
          <a:xfrm>
            <a:off x="382680" y="4495680"/>
            <a:ext cx="815004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  <a:ea typeface="Arial"/>
              </a:rPr>
              <a:t>ПРОЕКТ «СТАТИСТИЧЕСКИЕ ХАРАКТЕРИСТИКИ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052280"/>
            <a:ext cx="80024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ртрет среднестатистического восьмиклассника нашей школ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Рисунок 4" descr="C:\Users\user\Desktop\К ВКР\Проверено\depositphotos_119642338-stock-illustration-vector-illustration-of-school-girl.jpg"/>
          <p:cNvPicPr/>
          <p:nvPr/>
        </p:nvPicPr>
        <p:blipFill>
          <a:blip r:embed="rId1"/>
          <a:stretch/>
        </p:blipFill>
        <p:spPr>
          <a:xfrm>
            <a:off x="1908000" y="1927080"/>
            <a:ext cx="51850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РЕЗУЛЬТАТЫ РЕШЕНИЯ КОНТРОЛЬНОЙ РАБОТЫ  В НАЧАЛЕ И В КОНЦЕ ЭКСПЕРИМЕНТ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Диаграмма 9" descr=""/>
          <p:cNvPicPr/>
          <p:nvPr/>
        </p:nvPicPr>
        <p:blipFill>
          <a:blip r:embed="rId1"/>
          <a:stretch/>
        </p:blipFill>
        <p:spPr>
          <a:xfrm>
            <a:off x="317520" y="1407960"/>
            <a:ext cx="85820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катерина Койло</cp:lastModifiedBy>
  <dcterms:modified xsi:type="dcterms:W3CDTF">2023-01-30T16:18:46Z</dcterms:modified>
  <cp:revision>115</cp:revision>
  <dc:subject/>
  <dc:title>Слайд 1</dc:title>
</cp:coreProperties>
</file>