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69F-16F8-4EE9-9203-6E2A354D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6D0-861F-4A95-9BA3-E67718A7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17F-82F5-4E02-BEF0-6549E346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E9C-E418-4162-BB73-0F146101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0108-1769-47F5-8E4F-6C56B90B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0780-850A-4980-9BFE-B71FDD44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1392-9A99-44D9-B979-05259894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D6E8-637E-41A3-A836-457FE6B8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8FF4-85E2-4E4D-8BF3-2BFAB870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B4D5-5D70-4B66-B7DD-71B9C1EC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B242-A96B-4FD2-83DF-296756EB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C41-6343-41A5-9577-219005A4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BA6E-403E-4947-9FCF-FF672BF5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E5FC-6215-4595-8474-4D825B13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94C2-427B-43F2-823D-6A071E2B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DF9C-A844-4593-9AF3-3AD445F9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D251-5A5C-4934-AE99-5AD86E1A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381-C336-4908-A069-94F2A2B6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68D-CB23-43D6-9AF2-919E8DF0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F52-B985-4289-86A7-A70C48D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361-C28E-4DAA-A609-DF2C4CA1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9BC-50B7-4C60-990F-956512B7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FE5-70E9-4AEE-BD6D-3CA0663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DEA-A10C-4984-932D-4A5D523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E21A-9C18-43A5-AE00-5FA8085B2C8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37BD-96D5-4A90-91E0-D987ECC869C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6400" y="762120"/>
            <a:ext cx="7851960" cy="993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2276280"/>
            <a:ext cx="7854840" cy="316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Constantia"/>
              </a:rPr>
              <a:t>«Формирование навыков смыслового чтения через организацию работы с текстом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Учитель : Бруцкая Н.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9680" y="69228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Эти добрые люди и не подозревают, каких трудов и времени стоит научиться читать. Я сам на это употребил 80 лет и все не могу сказать, что вполне достиг це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И.В.Гет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итательские уме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ходить и извлекать информаци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тегрировать и интерпретировать информацию, осмысливать и оценивать содержание и форму текс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общать информацию и использовать ее на практи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5400"/>
            </a:br>
            <a:r>
              <a:rPr b="1" lang="ru-RU" sz="3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Работа с текстом до чтения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рием предугадывания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: развитие умения предполагать, прогнозировать содержание текста по заглавию, фамилии автора, иллюстраци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Главная задача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: вызвать у ребёнка желание, мотивацию прочитать текст или книг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Работа с текстом во время чтения: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онимание текста и создание его читательской интерпретации (истолкования, оценк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Главная задача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обеспечить полноценное восприятие текста всеми доступными средствами (чтение вслух, чтение про себя с вопросами, чтение с пометками (понятно, непонятно), выделение главной мысли, самостоятельная постановка вопросов к тексту,  ответы на вопросы по тексту, работа с опорными слов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бота с текстом после чтения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Цель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рректировка читательской интерпретации в соответствии с авторским замысл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лавная задач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еспечить углубление восприятия и понимания текста (составление плана, краткий пересказ, составление схем и таблиц, восстановление последовательности событий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5:30:03Z</dcterms:created>
  <dc:creator>Марина</dc:creator>
  <dc:description/>
  <dc:language>en-US</dc:language>
  <cp:lastModifiedBy>Shool</cp:lastModifiedBy>
  <dcterms:modified xsi:type="dcterms:W3CDTF">2023-02-20T08:22:58Z</dcterms:modified>
  <cp:revision>138</cp:revision>
  <dc:subject/>
  <dc:title>Слайд 1</dc:title>
</cp:coreProperties>
</file>