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FE2-D85B-45BE-B1B7-B7428080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40C-4C63-4E9B-A1E2-1A71A91B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45E-F17D-4774-B73B-03B25343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952-4664-4E93-9C3D-124D7442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E50-9B64-4CC5-B8E9-A1CC101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BD0-8732-4F33-917A-83080DF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6DC-22E2-4BEF-AAA8-DA5FE82C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891-77B7-4DD9-9ED4-4BD759AC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9E6-2B3B-466B-81F0-F0DE1DDB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C45-D9FC-495E-BD8D-1D06A52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2FF-D503-495E-B68F-7196418D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D23-7F60-4290-A837-2E899917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D9B3-67AD-4E78-AD98-40448EA425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рок родного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(русского) язы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Упр.181 (задание 1 или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63640" y="47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Мурка-моя любимая кошка. У нее короткая шерстка, мягкие лапки, умная мордоч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У нас в доме живет кошка Мурка. Она просыпается и идет завтракать. Потом она долго игр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Мурка-замечательная кошка, потому что она охотится за мыш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14680" y="9288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вятое  февра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ассная работ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обенности описания, повествования, рассужд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9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к определить тип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71640" y="1125360"/>
          <a:ext cx="7777080" cy="4702320"/>
        </p:xfrm>
        <a:graphic>
          <a:graphicData uri="http://schemas.openxmlformats.org/drawingml/2006/table">
            <a:tbl>
              <a:tblPr/>
              <a:tblGrid>
                <a:gridCol w="1655640"/>
                <a:gridCol w="1368360"/>
                <a:gridCol w="1944720"/>
                <a:gridCol w="1330560"/>
                <a:gridCol w="1477800"/>
              </a:tblGrid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е части речи преоблад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какой вопрос отвечает 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 фото передает содержание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вествова-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су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к определить тип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03280" y="1417680"/>
          <a:ext cx="7307280" cy="4954680"/>
        </p:xfrm>
        <a:graphic>
          <a:graphicData uri="http://schemas.openxmlformats.org/drawingml/2006/table">
            <a:tbl>
              <a:tblPr/>
              <a:tblGrid>
                <a:gridCol w="1871640"/>
                <a:gridCol w="1735200"/>
                <a:gridCol w="961920"/>
                <a:gridCol w="1479600"/>
                <a:gridCol w="1258920"/>
              </a:tblGrid>
              <a:tr h="210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е части речи преоблад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какой вопрос отвечает 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 фото передает содержание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агатель-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исовать словами, опис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 ф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веств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су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к определить тип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19280" y="1557360"/>
          <a:ext cx="7129440" cy="5357880"/>
        </p:xfrm>
        <a:graphic>
          <a:graphicData uri="http://schemas.openxmlformats.org/drawingml/2006/table">
            <a:tbl>
              <a:tblPr/>
              <a:tblGrid>
                <a:gridCol w="1584360"/>
                <a:gridCol w="1665360"/>
                <a:gridCol w="1320840"/>
                <a:gridCol w="1406520"/>
                <a:gridCol w="1152360"/>
              </a:tblGrid>
              <a:tr h="210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е части речи преоблад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какой вопрос отвечает 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 фото передает содержание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агатель-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исовать словами, опис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 ф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вествова-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г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произош-л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казать о последова-тельных действ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коль-ко ф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су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к определить тип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76360" y="1441440"/>
          <a:ext cx="7416720" cy="5259240"/>
        </p:xfrm>
        <a:graphic>
          <a:graphicData uri="http://schemas.openxmlformats.org/drawingml/2006/table">
            <a:tbl>
              <a:tblPr/>
              <a:tblGrid>
                <a:gridCol w="1511280"/>
                <a:gridCol w="1440000"/>
                <a:gridCol w="1512720"/>
                <a:gridCol w="1440000"/>
                <a:gridCol w="1512720"/>
              </a:tblGrid>
              <a:tr h="1753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е части речи преоблад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какой вопрос отвечает 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 фото передает содержание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ага-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исовать словами, опис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 ф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вествова-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г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произошл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казать о последова-тельных действ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колько ф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сужде-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части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аз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ф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с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1600200"/>
          <a:ext cx="7067520" cy="3746520"/>
        </p:xfrm>
        <a:graphic>
          <a:graphicData uri="http://schemas.openxmlformats.org/drawingml/2006/table">
            <a:tbl>
              <a:tblPr/>
              <a:tblGrid>
                <a:gridCol w="3533760"/>
                <a:gridCol w="35337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терии оце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5» – 5 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4» – 4 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3» – 3 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2» – 1 или 2 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0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-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Shool</cp:lastModifiedBy>
  <dcterms:modified xsi:type="dcterms:W3CDTF">2023-02-07T07:12:08Z</dcterms:modified>
  <cp:revision>100</cp:revision>
  <dc:subject/>
  <dc:title>Слайд 1</dc:title>
</cp:coreProperties>
</file>