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A0C-08E9-4155-907F-A24465AD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3D6-9AED-4F1A-BA56-40BD4142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8A8-0EA6-4EBA-A9BA-F2422C04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5E8-EDF5-49D4-9ADE-D040F4D4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7C5B-679F-4785-8861-105C9E59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BD8E-B5A9-41EE-891E-E784FE78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EB6D-DCEE-4918-B1CA-E365739B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3E3B-99D0-476C-90E0-00C66D23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63CE-F086-4488-BCA3-15C91E37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C5EA-C365-4C11-A989-D3A8EE37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01D9-174E-49FA-AA44-719AAAC0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CCF-6095-4FFA-AE53-06807876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3996-8AF5-4D3D-A5C1-BB11923C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70BB-C604-49AF-AFDB-51EA4A07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3088-14BA-4BE8-9EFE-4447E598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CB12-A687-4B0D-AF8C-DC1EE650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F638-3CB8-4815-BEEF-F56091C3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E64-F132-40A5-A945-A738C275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7CF-A2B5-48C8-81AA-B82FE1C9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1CE-3046-4BE4-8624-9FBA7BCD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4DB-0298-46BF-B21D-5CB49FD0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CE5-F9B0-4124-9E68-5AD9C8CD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520-2200-4702-B329-F0F821F1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C5E-659D-4859-ABC6-3D0680FD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9E5A-A74D-4C9C-932A-64A3EB93F4D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49B0-412D-4281-87A9-A1DA04E5D45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53880" y="695160"/>
            <a:ext cx="8210520" cy="2024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Calibri"/>
              </a:rPr>
              <a:t>«Использование приемов смыслового чтения на уроках русского и родного (русского) языков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Учитель: Бруцкая Н.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Синквейн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части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радательное и действительно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гласуется, склоняется, образуе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знаки глагола и прилагательног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часть реч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езультативность 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1542960"/>
          <a:ext cx="8496000" cy="4481640"/>
        </p:xfrm>
        <a:graphic>
          <a:graphicData uri="http://schemas.openxmlformats.org/drawingml/2006/table">
            <a:tbl>
              <a:tblPr/>
              <a:tblGrid>
                <a:gridCol w="1511280"/>
                <a:gridCol w="3033720"/>
                <a:gridCol w="1827000"/>
                <a:gridCol w="21240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ы ГИ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а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20-21  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21-22 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щая ус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кон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Всероссийский творческий конкурс «Горизонты педагогики». Номинация «Детские исследовательские проект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Диплом, 3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лесовских 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Всероссийский конкурс «Наша истор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час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Богатырева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айонный конкурс «Мы эту войну будем помнить вовек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онкурс чтецов «Бессметный горо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час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Эгнер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Богатырева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611280" y="83664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Люди перестают мыслить, когда перестают чита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ени Ди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Users\Dexp\OneDrive\Desktop\20210126_083623.jpg"/>
          <p:cNvPicPr/>
          <p:nvPr/>
        </p:nvPicPr>
        <p:blipFill>
          <a:blip r:embed="rId1"/>
          <a:stretch/>
        </p:blipFill>
        <p:spPr>
          <a:xfrm>
            <a:off x="2268360" y="2997360"/>
            <a:ext cx="4375440" cy="3282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920" y="692280"/>
            <a:ext cx="8208720" cy="5689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Calibri"/>
              </a:rPr>
              <a:t>Смысловое чтени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1.Восприятие текс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2.Интерпретация текс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3.Нахождение в тексте информации для решения учебных задач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4.Восстановление деформированного текс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5.Воспроизведение текс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7920000" cy="3784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Низкий уровень техники чтения – 2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Низкий уровень сформированности читательской грамотности – 2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Задания ОГЭ, ЕГЭ (работа с текстом) являются самыми сложны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риемы смыслового чте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32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«Ассоциация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«Антиципация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«Мозговой штурм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«Кластер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«Толстые и тонкие вопросы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«Синквейн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libri"/>
              </a:rPr>
              <a:t>«Ассоциация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Тем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«Частица как часть речи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Ассоциации: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служебная часть речи, смысловые оттенки, чувства, эмоции, формы слов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водится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определени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: частица –это часть речи, которая служит для выражения смысловых оттенков слов и целых высказываний или для образования форм сл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Антиципация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Задание: попробуйте спрогнозировать содержание текста, просмотрев к нему иллюстр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Задание: прочитайте заголовок и предположите, о чем пойдет речь в текст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spcAft>
                <a:spcPts val="75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ние: ответьте на вопросы перед чтением текста А.Ф.Савчука «Шоколадный торт».  Как вы думаете, о чем будет текст? Кто может быть главным героем? Какое событие в тексте может быть описано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12560" y="581040"/>
            <a:ext cx="476244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ластер»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Овал 1"/>
          <p:cNvSpPr/>
          <p:nvPr/>
        </p:nvSpPr>
        <p:spPr>
          <a:xfrm>
            <a:off x="2252520" y="3314880"/>
            <a:ext cx="3546720" cy="1358640"/>
          </a:xfrm>
          <a:prstGeom prst="ellipse">
            <a:avLst/>
          </a:prstGeom>
          <a:solidFill>
            <a:srgbClr val="ffc000">
              <a:alpha val="50000"/>
            </a:srgbClr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Calibri"/>
                <a:ea typeface="Calibri"/>
              </a:rPr>
              <a:t>Имя</a:t>
            </a:r>
            <a:r>
              <a:rPr b="1" lang="ru-RU" sz="2400" spc="-1" strike="noStrike">
                <a:solidFill>
                  <a:srgbClr val="2f5597"/>
                </a:solidFill>
                <a:latin typeface="Arial Rounded MT Bold"/>
                <a:ea typeface="Calibri"/>
              </a:rPr>
              <a:t> </a:t>
            </a:r>
            <a:r>
              <a:rPr b="1" lang="ru-RU" sz="2400" spc="-1" strike="noStrike">
                <a:solidFill>
                  <a:srgbClr val="2f5597"/>
                </a:solidFill>
                <a:latin typeface="Calibri"/>
                <a:ea typeface="Calibri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"/>
          <p:cNvSpPr/>
          <p:nvPr/>
        </p:nvSpPr>
        <p:spPr>
          <a:xfrm>
            <a:off x="1908000" y="1565280"/>
            <a:ext cx="3168720" cy="116856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мостоятельная</a:t>
            </a: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часть</a:t>
            </a: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3"/>
          <p:cNvSpPr/>
          <p:nvPr/>
        </p:nvSpPr>
        <p:spPr>
          <a:xfrm>
            <a:off x="6804000" y="3468600"/>
            <a:ext cx="1749600" cy="116676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мет</a:t>
            </a: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4"/>
          <p:cNvSpPr/>
          <p:nvPr/>
        </p:nvSpPr>
        <p:spPr>
          <a:xfrm>
            <a:off x="306360" y="3227400"/>
            <a:ext cx="1398600" cy="82548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адеж</a:t>
            </a:r>
            <a:r>
              <a:rPr b="1" lang="ru-RU" sz="14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5"/>
          <p:cNvSpPr/>
          <p:nvPr/>
        </p:nvSpPr>
        <p:spPr>
          <a:xfrm>
            <a:off x="712800" y="5299200"/>
            <a:ext cx="1341360" cy="73188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Число</a:t>
            </a: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"/>
          <p:cNvSpPr/>
          <p:nvPr/>
        </p:nvSpPr>
        <p:spPr>
          <a:xfrm>
            <a:off x="6012000" y="5318280"/>
            <a:ext cx="1439640" cy="89676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то</a:t>
            </a: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?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Что</a:t>
            </a: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7"/>
          <p:cNvSpPr/>
          <p:nvPr/>
        </p:nvSpPr>
        <p:spPr>
          <a:xfrm>
            <a:off x="3333600" y="5611680"/>
            <a:ext cx="1513080" cy="9288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Род</a:t>
            </a: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8"/>
          <p:cNvSpPr/>
          <p:nvPr/>
        </p:nvSpPr>
        <p:spPr>
          <a:xfrm>
            <a:off x="5786280" y="1728720"/>
            <a:ext cx="2376720" cy="114624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длежащее</a:t>
            </a: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18"/>
          <p:cNvCxnSpPr/>
          <p:nvPr/>
        </p:nvCxnSpPr>
        <p:spPr>
          <a:xfrm flipV="1">
            <a:off x="5916240" y="3993480"/>
            <a:ext cx="816840" cy="396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</p:cxnSp>
      <p:cxnSp>
        <p:nvCxnSpPr>
          <p:cNvPr id="117" name="Прямая со стрелкой 19"/>
          <p:cNvCxnSpPr/>
          <p:nvPr/>
        </p:nvCxnSpPr>
        <p:spPr>
          <a:xfrm flipH="1">
            <a:off x="1907280" y="4635360"/>
            <a:ext cx="847080" cy="66456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</p:cxnSp>
      <p:cxnSp>
        <p:nvCxnSpPr>
          <p:cNvPr id="118" name="Прямая со стрелкой 20"/>
          <p:cNvCxnSpPr/>
          <p:nvPr/>
        </p:nvCxnSpPr>
        <p:spPr>
          <a:xfrm flipH="1">
            <a:off x="4066560" y="4842000"/>
            <a:ext cx="22680" cy="67536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</p:cxnSp>
      <p:cxnSp>
        <p:nvCxnSpPr>
          <p:cNvPr id="119" name="Прямая со стрелкой 21"/>
          <p:cNvCxnSpPr/>
          <p:nvPr/>
        </p:nvCxnSpPr>
        <p:spPr>
          <a:xfrm>
            <a:off x="5435640" y="4562280"/>
            <a:ext cx="792720" cy="78156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</p:cxnSp>
      <p:cxnSp>
        <p:nvCxnSpPr>
          <p:cNvPr id="120" name="Прямая со стрелкой 22"/>
          <p:cNvCxnSpPr/>
          <p:nvPr/>
        </p:nvCxnSpPr>
        <p:spPr>
          <a:xfrm flipH="1" flipV="1">
            <a:off x="1722240" y="3793320"/>
            <a:ext cx="475200" cy="11052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</p:cxnSp>
      <p:cxnSp>
        <p:nvCxnSpPr>
          <p:cNvPr id="121" name="Прямая со стрелкой 23"/>
          <p:cNvCxnSpPr/>
          <p:nvPr/>
        </p:nvCxnSpPr>
        <p:spPr>
          <a:xfrm flipV="1">
            <a:off x="5076720" y="2814120"/>
            <a:ext cx="1008720" cy="54864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</p:cxnSp>
      <p:cxnSp>
        <p:nvCxnSpPr>
          <p:cNvPr id="122" name="Прямая со стрелкой 24"/>
          <p:cNvCxnSpPr/>
          <p:nvPr/>
        </p:nvCxnSpPr>
        <p:spPr>
          <a:xfrm flipH="1" flipV="1">
            <a:off x="3707640" y="2744280"/>
            <a:ext cx="143640" cy="48816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</p:cxnSp>
      <p:sp>
        <p:nvSpPr>
          <p:cNvPr id="12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олстые и тонкие вопросы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35000"/>
          <a:ext cx="8229600" cy="4023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«Тонкие»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«Толстые»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рилагательное – это самостоятельная или служебная часть реч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очему  так думаете? Докажи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Что  такое имя прилагательно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Какова роль имени прилагательного в текст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а какие группы делятся имена прилагательны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Как согласуется прилагательное с другими частями реч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Каким членом предложения является имя прилагательно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 какой целью используется прилагательно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5:30:03Z</dcterms:created>
  <dc:creator>Марина</dc:creator>
  <dc:description/>
  <dc:language>en-US</dc:language>
  <cp:lastModifiedBy>Shool</cp:lastModifiedBy>
  <dcterms:modified xsi:type="dcterms:W3CDTF">2023-01-30T05:11:43Z</dcterms:modified>
  <cp:revision>157</cp:revision>
  <dc:subject/>
  <dc:title>Слайд 1</dc:title>
</cp:coreProperties>
</file>