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6786-6023-48E7-AD9D-33C65F0076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2B42-5D5D-43A1-B053-DC25266C5F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из направлений совершенствования образования в России является усиление внимания к формированию функциональной грамо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A7D-66FA-4AC0-81CD-625DC244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3F7-1685-43D1-BC02-6884B835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F74-966D-41E4-97DA-72673425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0E7-82AE-4A8D-8683-3792D1B4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FD37-67E6-42A7-8AE9-A09835AE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F47E-21C8-4879-84D3-E1A77669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EC38-572A-4021-88F5-115CF4CE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D03B-6C70-4E08-B4C3-EA01AC22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9A21-8E98-43E6-8E48-3EC6591E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2B35-6513-4DBA-8B57-33A68339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2D63-C15F-4AAC-B3DE-BEDC2F13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829-EB55-4BB5-BC7E-257B1378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E43E-6189-48AC-82E2-93118DE5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91D8-1DEF-47C4-AD45-A73AC26F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6CAC-5C66-495D-B541-A6B3A220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A997-383E-4EB7-A73C-991F39FE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0089-5B45-478B-9227-06CA85BE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98B1C-6C4A-43FF-BC95-0B05F705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B9A62-8EDF-4517-9733-2EE187D2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6D7E1-29C1-4378-8B44-8C831E29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78D30-57FC-43BA-9C4D-7627F50F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59357-A7C2-4359-A339-7A19D80A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9D0-CED5-4CE4-AA73-156F3938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A5475-1D8A-4CD8-AF4B-CBAD80A0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C9038-AF91-46D5-A718-6856D7BE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E9C8-8790-4EBF-908D-5139E32D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873F-4BF6-49EB-B194-5353D879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8B6F-D4A5-4E4E-B1F7-9A56ED05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6C6EE-EF8B-428A-B051-0014A384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2D188-4548-4CB2-A344-923FEDCE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967FE-9519-4264-8D2E-20DA76EC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5A0A9-1485-4B77-89F9-4DEDB161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03DEC-4FF4-43CA-8226-4215BC94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4FD-BB6C-42AE-B37E-175CE4EA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4FEEE-75DF-4A2F-958C-C51AE9C9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6F940-4BDA-43DB-8698-9F38A9ED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7D1CC-3466-4455-94D8-75980772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43888-CF89-4BA7-B01C-8DE4F05A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248E3-3850-48E5-A676-5BA05984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652DD-B062-4987-8EE9-E7401093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20CDD-0E5A-4CD4-9B8F-A34797B6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41DD8-5DEF-4D17-B478-D947E59F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F1B77-F503-4DAA-B599-7EF0DC69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BF7DF-11AF-4811-9B6D-3AB5BDEF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653-9603-4657-AE7D-08B75856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42EA0-9CD9-45DA-B434-7A39D719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746F7-948D-4F34-8E5A-83A5B980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3F6BF-7451-40DF-9A3A-DE840623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3C35A-A26A-4C95-BD0B-498CB309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C05CE-3DE7-43C5-86F4-04AB3DD6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AD591-3E32-478E-B689-9B2C4B12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5CD82-AB3E-474F-AA22-0F75BB35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22FD1-47AD-46C4-9358-AE20C0CD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BC3A4-5A34-4714-AFC0-1B16BB86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F8053-0E2A-4691-8754-A2640610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3E1-2BEC-4362-B5BD-5457D292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40CA3-0CF9-45B5-8492-58D7E298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7A7-36B8-4B31-9E0D-1339E848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37B-CD60-403B-8551-A6217E8A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EF5-B9E4-4F20-ABFD-2FDBCE68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6F72-11E8-452C-8604-D6C14F413506}" type="slidenum">
              <a:rPr b="1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0074-2777-43E2-931C-4B4851972AA3}" type="slidenum">
              <a:rPr b="1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5B4D-57F5-47A0-B3FA-EDE140779232}" type="slidenum">
              <a:rPr b="1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2FB5-3AA5-4F85-ADE8-AFF4DD75DC68}" type="slidenum">
              <a:rPr b="1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97F7-2452-41B9-9B20-8FE11036FAD2}" type="slidenum">
              <a:rPr b="1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685800" y="2133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120" y="1311120"/>
            <a:ext cx="66294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2e4e"/>
                </a:solidFill>
                <a:latin typeface="Arial"/>
              </a:rPr>
              <a:t>Использование цифровых технологий (инструментов) в процессе формирования функциональной грамотност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</a:rPr>
              <a:t>МС 24.09.2022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спользование цифровых ресурсов в новых образовательных реалиях подталкивают учащихся  к применению знаний в новых условиях, стимулирует их к компактному и структурированному изложению информации, что ведёт за собой развитие функциональной грамотности: математической, читательской, естественнонаучной, финансовой, ИКТ – грамотности и  други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228600" y="3808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важно использовать именно цифровые технологии при формировании функцинальной грамотности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838080" y="1447920"/>
            <a:ext cx="6782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мен детства меняется,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иза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один из ключевых факторов, влияющих на эти измен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нтерн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 важным агентом социализации, составляя конкуренцию семье и школе. Ученые выяснили, что интенсивность использования интернета за последние 6 лет существенно возросла и среди взрослых, и среди детей: каждый второй подросток проводит онлайн около 6 часов в день, а каждый пятый — 9 часов и больше.  Поэтому современные дети не делят реальность на онлайн и оффлайн — для них она одна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6840" y="2286000"/>
            <a:ext cx="746748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ой образовательный ресур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нформационный образовательный ресурс, хранимый и передаваемый  в цифровой форме. Однако понятие технология включает в себя способы работы (алгоритм действий), её режим. Исходя из этого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ые образовательные технологи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пособ организации образовательной среды, основанной на цифровых технология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533160" y="1752120"/>
            <a:ext cx="693396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латформ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ласс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ro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.д.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формы учебников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свещение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риложения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i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le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hoo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лайн-сервисы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tu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gl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окументы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gl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зентации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gl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лендарь, месседжеры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609480" y="1600200"/>
            <a:ext cx="792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520" y="129492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: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формы учебников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параграф учебника – это новый для ученика текст, к которому учитель должен построить группу вопросов/заданий разного уровня сложности, формирующих различные умения: находить в тексте информацию и формулировать выводы, интерпретировать информацию и применять ее в новых ситуациях, в том числе, не рассмотренных в учебнике. В электронных формах учебников, часто, содержится дополнительная информация, расширяющая материал темы, тесты, ссылки на видео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спользование образовательных приложени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сто полезных приложений в учебный процесс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ыделять главную мысль текста; понимать информацию текста; преобразовывать текстовую информацию; применять информацию в измененной ситуации; критически оценивать информацию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 осмысления текста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, таблицы, тезисы, план, комментированное чтение, схема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аботы с тексто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анализ заголовка, первичное чтение текста (выделение ключевых слов), повторное чтение текста, анализ информации, составление плана, вопросы к тексту, поэтапная компрессия текста по абзацам, представление материала в виде схемы, таблицы, графика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ы не заменяем умения работать с текстом, а расширяем возможности работы с помощью цифровых образовательных ресурсов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Прямоугольник 7"/>
          <p:cNvSpPr/>
          <p:nvPr/>
        </p:nvSpPr>
        <p:spPr>
          <a:xfrm>
            <a:off x="609480" y="304920"/>
            <a:ext cx="708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дной из составляющих функциональной грамотности является читательская грамотность. Какие цифровые образовательные инструменты необходимо внедрить для формирования читательской грамотности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09480" y="1600200"/>
            <a:ext cx="792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520" y="685800"/>
            <a:ext cx="723924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дним из направлений в развитии функциональной грамотности является использование интерактивного оборудования на уроках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пособствует формированию такого важнейшего общеучебного умения, как подбор учащимися оборудования в соответствии с целью проведения самостоятельного исследования. Позволяет проводить экспериментальную работу на любом этапе уро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609480" y="1600200"/>
            <a:ext cx="792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685800"/>
            <a:ext cx="723924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ехнические средства позволяют привнести в образовательную деятельность возможность оперирования с информацией разных типов, таких, как звук, текст, фото и видео изображени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мпьютер может использоваться на всех этапах процесса обучения: при объяснении нового материала, закреплении, повторении, контрол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609480" y="237564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онлайн обучении  используют различные коммуникационные сервисы, такие как Skype, Zoom, Merapolis, Uberconference, FreeConferenceCall.com  и другие. Основными функциями этих приложений является возможность проведения видеоконференций в режиме реального времени, запись лекции, демонстрация экрана. Различия состоят в количестве человек, которые можно подключить к одной конференци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609480" y="60948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которые технические возможности сервисов, которые можно эффективно использовать в образовательном процесс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838080" y="2191680"/>
            <a:ext cx="63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монстрации экра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зволяет работать с информацией, представленной в различных формах: текст, таблица, диаграмма, схема, рисунок, чертеж. Это  даёт возможность учителю формулировать задания в различных видах. Ответы учащиеся могут оставлять не только в общем чате, а в приватном – только учителю. И учитель сразу может оценить уровень освоения материа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6"/>
          <p:cNvSpPr/>
          <p:nvPr/>
        </p:nvSpPr>
        <p:spPr>
          <a:xfrm>
            <a:off x="838080" y="685800"/>
            <a:ext cx="647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которые технические возможности сервисов, которые можно эффективно использовать в образовательном процессе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5T22:54:21Z</dcterms:created>
  <dc:creator>Константин</dc:creator>
  <dc:description/>
  <dc:language>en-US</dc:language>
  <cp:lastModifiedBy>EP</cp:lastModifiedBy>
  <dcterms:modified xsi:type="dcterms:W3CDTF">2022-09-27T06:20:18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