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88163" cy="10020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C560C3-5B55-4E8A-880A-8C9720E39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3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49360" cy="45097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5"/>
          </p:nvPr>
        </p:nvSpPr>
        <p:spPr>
          <a:xfrm>
            <a:off x="3903840" y="9518760"/>
            <a:ext cx="2984040" cy="5011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91D157-97EE-4AA9-8EFB-836890BC8160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53B9C-B51C-410E-A001-CDFB48D89B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71640" y="152280"/>
            <a:ext cx="4716000" cy="108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6000" y="1700280"/>
            <a:ext cx="864036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6000" y="3355560"/>
            <a:ext cx="864036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EBF34-3620-4C1A-93BD-0D85AAC4FE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71640" y="152280"/>
            <a:ext cx="4716000" cy="108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6000" y="1700280"/>
            <a:ext cx="421632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43640" y="1700280"/>
            <a:ext cx="421632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6000" y="3355560"/>
            <a:ext cx="421632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43640" y="3355560"/>
            <a:ext cx="421632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71DB9-517D-4FBA-9492-688930C8F6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871640" y="152280"/>
            <a:ext cx="4716000" cy="108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6000" y="1700280"/>
            <a:ext cx="278208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37400" y="1700280"/>
            <a:ext cx="278208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59160" y="1700280"/>
            <a:ext cx="278208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6000" y="3355560"/>
            <a:ext cx="278208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37400" y="3355560"/>
            <a:ext cx="278208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59160" y="3355560"/>
            <a:ext cx="278208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07D72-4E1E-4B99-BA34-32FAEBB0E5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71640" y="152280"/>
            <a:ext cx="4716000" cy="108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6000" y="1700280"/>
            <a:ext cx="8640360" cy="31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8F6E8-ED3F-43AF-90FA-9B3665DD11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71640" y="152280"/>
            <a:ext cx="4716000" cy="108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6000" y="1700280"/>
            <a:ext cx="8640360" cy="31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867B0-5122-47CF-9842-325D941008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71640" y="152280"/>
            <a:ext cx="4716000" cy="108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6000" y="1700280"/>
            <a:ext cx="4216320" cy="31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3640" y="1700280"/>
            <a:ext cx="4216320" cy="31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292BE-27CB-4435-8E1E-C90ED82588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71640" y="152280"/>
            <a:ext cx="4716000" cy="108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77BC4-7637-4C9C-A9FB-813F96F406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871640" y="152280"/>
            <a:ext cx="4716000" cy="50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62A1D-4A7F-479E-8A97-563E9C6959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71640" y="152280"/>
            <a:ext cx="4716000" cy="108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00" y="1700280"/>
            <a:ext cx="421632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3640" y="1700280"/>
            <a:ext cx="4216320" cy="31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6000" y="3355560"/>
            <a:ext cx="421632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3B244-D8C2-4D85-BF52-1292CEBB8E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71640" y="152280"/>
            <a:ext cx="4716000" cy="108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00" y="1700280"/>
            <a:ext cx="4216320" cy="31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3640" y="1700280"/>
            <a:ext cx="421632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43640" y="3355560"/>
            <a:ext cx="421632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958D5-ABAD-4D57-A0C1-997FFAFFBB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71640" y="152280"/>
            <a:ext cx="4716000" cy="108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00" y="1700280"/>
            <a:ext cx="421632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3640" y="1700280"/>
            <a:ext cx="421632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6000" y="3355560"/>
            <a:ext cx="864036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DEEE9-BE84-4FCC-82FC-A9D505AEDD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250560" y="0"/>
            <a:ext cx="8713800" cy="6597360"/>
            <a:chOff x="250560" y="0"/>
            <a:chExt cx="8713800" cy="6597360"/>
          </a:xfrm>
        </p:grpSpPr>
        <p:sp>
          <p:nvSpPr>
            <p:cNvPr id="1" name="Line 2"/>
            <p:cNvSpPr/>
            <p:nvPr/>
          </p:nvSpPr>
          <p:spPr>
            <a:xfrm flipV="1">
              <a:off x="468000" y="0"/>
              <a:ext cx="360" cy="6597360"/>
            </a:xfrm>
            <a:prstGeom prst="line">
              <a:avLst/>
            </a:prstGeom>
            <a:ln w="3175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1" lang="ru-RU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" name="Line 10"/>
            <p:cNvSpPr/>
            <p:nvPr/>
          </p:nvSpPr>
          <p:spPr>
            <a:xfrm flipH="1">
              <a:off x="250560" y="588960"/>
              <a:ext cx="8713800" cy="360"/>
            </a:xfrm>
            <a:prstGeom prst="line">
              <a:avLst/>
            </a:prstGeom>
            <a:ln w="635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1" lang="ru-RU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3" name="Line 11"/>
            <p:cNvSpPr/>
            <p:nvPr/>
          </p:nvSpPr>
          <p:spPr>
            <a:xfrm flipH="1">
              <a:off x="250560" y="1052280"/>
              <a:ext cx="8713800" cy="360"/>
            </a:xfrm>
            <a:prstGeom prst="line">
              <a:avLst/>
            </a:prstGeom>
            <a:ln w="635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1" lang="ru-RU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" name="Line 15"/>
          <p:cNvSpPr/>
          <p:nvPr/>
        </p:nvSpPr>
        <p:spPr>
          <a:xfrm>
            <a:off x="468000" y="0"/>
            <a:ext cx="360" cy="6858000"/>
          </a:xfrm>
          <a:prstGeom prst="line">
            <a:avLst/>
          </a:prstGeom>
          <a:ln w="9525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1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" name="Picture 24" descr="Layer 2"/>
          <p:cNvPicPr/>
          <p:nvPr/>
        </p:nvPicPr>
        <p:blipFill>
          <a:blip r:embed="rId2"/>
          <a:stretch/>
        </p:blipFill>
        <p:spPr>
          <a:xfrm>
            <a:off x="142920" y="152280"/>
            <a:ext cx="1800000" cy="1415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71640" y="152280"/>
            <a:ext cx="4716000" cy="1080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0000"/>
              </a:lnSpc>
              <a:buNone/>
            </a:pPr>
            <a:r>
              <a:rPr b="1" lang="ru-RU" sz="2300" spc="-1" strike="noStrike">
                <a:solidFill>
                  <a:srgbClr val="292929"/>
                </a:solidFill>
                <a:latin typeface="Arial"/>
              </a:rPr>
              <a:t>Образец заголовка</a:t>
            </a:r>
            <a:endParaRPr b="0" lang="ru-RU" sz="2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216000" y="1700280"/>
            <a:ext cx="8640360" cy="3168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162000" indent="-1620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Образец текста</a:t>
            </a: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  <a:p>
            <a:pPr lvl="1" marL="344520" indent="-181080">
              <a:lnSpc>
                <a:spcPct val="100000"/>
              </a:lnSpc>
              <a:spcBef>
                <a:spcPts val="360"/>
              </a:spcBef>
              <a:spcAft>
                <a:spcPts val="541"/>
              </a:spcAft>
              <a:buClr>
                <a:srgbClr val="cc3300"/>
              </a:buClr>
              <a:buFont typeface="Symbol" charset="2"/>
              <a:buChar char=""/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Второй уровень</a:t>
            </a:r>
            <a:endParaRPr b="0" lang="ru-RU" sz="1800" spc="-1" strike="noStrike">
              <a:solidFill>
                <a:srgbClr val="292929"/>
              </a:solidFill>
              <a:latin typeface="Arial"/>
            </a:endParaRPr>
          </a:p>
          <a:p>
            <a:pPr lvl="2" marL="536400" indent="-190440">
              <a:lnSpc>
                <a:spcPct val="100000"/>
              </a:lnSpc>
              <a:spcBef>
                <a:spcPts val="320"/>
              </a:spcBef>
              <a:spcAft>
                <a:spcPts val="320"/>
              </a:spcAft>
              <a:buClr>
                <a:srgbClr val="cc0000"/>
              </a:buClr>
              <a:buFont typeface="Symbol" charset="2"/>
              <a:buChar char=""/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Третий уровень</a:t>
            </a:r>
            <a:endParaRPr b="0" lang="ru-RU" sz="1600" spc="-1" strike="noStrike">
              <a:solidFill>
                <a:srgbClr val="292929"/>
              </a:solidFill>
              <a:latin typeface="Arial"/>
            </a:endParaRPr>
          </a:p>
          <a:p>
            <a:pPr lvl="3" marL="709560" indent="-171360">
              <a:lnSpc>
                <a:spcPct val="100000"/>
              </a:lnSpc>
              <a:spcBef>
                <a:spcPts val="281"/>
              </a:spcBef>
              <a:spcAft>
                <a:spcPts val="281"/>
              </a:spcAft>
              <a:buClr>
                <a:srgbClr val="cc0000"/>
              </a:buClr>
              <a:buFont typeface="Symbol" charset="2"/>
              <a:buChar char=""/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Четвертый уровень</a:t>
            </a:r>
            <a:endParaRPr b="0" lang="ru-RU" sz="1400" spc="-1" strike="noStrike">
              <a:solidFill>
                <a:srgbClr val="292929"/>
              </a:solidFill>
              <a:latin typeface="Arial"/>
            </a:endParaRPr>
          </a:p>
          <a:p>
            <a:pPr lvl="4" marL="876240" indent="-162000">
              <a:lnSpc>
                <a:spcPct val="100000"/>
              </a:lnSpc>
              <a:spcBef>
                <a:spcPts val="241"/>
              </a:spcBef>
              <a:buClr>
                <a:srgbClr val="cc0000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ятый уровень</a:t>
            </a:r>
            <a:endParaRPr b="0" lang="ru-RU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8388360" y="6345360"/>
            <a:ext cx="571320" cy="367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2131871-C847-402D-B9A5-54D12BCA11FA}" type="slidenum">
              <a:rPr b="0" lang="ru-RU" sz="18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0" y="441360"/>
            <a:ext cx="9143640" cy="4897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511280" y="5338800"/>
            <a:ext cx="7453080" cy="1339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spcAft>
                <a:spcPts val="1400"/>
              </a:spcAft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66b7c"/>
                </a:solidFill>
                <a:latin typeface="Arial"/>
              </a:rPr>
              <a:t>Проект</a:t>
            </a:r>
            <a:endParaRPr b="0" lang="ru-RU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spcAft>
                <a:spcPts val="1400"/>
              </a:spcAft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66b7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66b7c"/>
                </a:solidFill>
                <a:latin typeface="Arial"/>
              </a:rPr>
              <a:t>«Цифровой образовательный центр»</a:t>
            </a:r>
            <a:endParaRPr b="0" lang="ru-RU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0" y="-19080"/>
            <a:ext cx="9143640" cy="45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bb6d2"/>
              </a:gs>
            </a:gsLst>
            <a:lin ang="2700000"/>
          </a:gradFill>
          <a:ln>
            <a:noFill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10000"/>
              </a:lnSpc>
              <a:spcBef>
                <a:spcPts val="901"/>
              </a:spcBef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МАОУ «Аромашевская СОШ им. В.Д. Кармацког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4"/>
          <p:cNvSpPr/>
          <p:nvPr/>
        </p:nvSpPr>
        <p:spPr>
          <a:xfrm>
            <a:off x="0" y="-19080"/>
            <a:ext cx="9143640" cy="45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bb6d2"/>
              </a:gs>
            </a:gsLst>
            <a:lin ang="2700000"/>
          </a:gradFill>
          <a:ln>
            <a:noFill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36000" bIns="360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</a:pPr>
            <a:endParaRPr b="1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" name="Прямоугольник 13"/>
          <p:cNvSpPr/>
          <p:nvPr/>
        </p:nvSpPr>
        <p:spPr>
          <a:xfrm>
            <a:off x="0" y="447840"/>
            <a:ext cx="9143640" cy="1186560"/>
          </a:xfrm>
          <a:prstGeom prst="rect">
            <a:avLst/>
          </a:prstGeom>
          <a:solidFill>
            <a:srgbClr val="85d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каз Президента РФ  «О национальных целях и стратегических задачах развития Российской Федерации на период до 2024 год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мая 2018 года N 2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1760" y="1499400"/>
            <a:ext cx="8827560" cy="5146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1300" spc="-1" strike="noStrike">
                <a:solidFill>
                  <a:srgbClr val="020c22"/>
                </a:solidFill>
                <a:latin typeface="Arial"/>
              </a:rPr>
              <a:t>а) достижение следующих целей и целевых показателей:</a:t>
            </a:r>
            <a:br>
              <a:rPr sz="1300"/>
            </a:br>
            <a:br>
              <a:rPr sz="1200"/>
            </a:b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- </a:t>
            </a:r>
            <a:r>
              <a:rPr b="0" lang="ru-RU" sz="1300" spc="-1" strike="noStrike">
                <a:solidFill>
                  <a:srgbClr val="020c22"/>
                </a:solidFill>
                <a:latin typeface="Arial"/>
              </a:rPr>
              <a:t>обеспечение глобальной конкурентоспособности российского образования, вхождение Российской Федерации в число 10 ведущих стран мира по качеству общего образования;</a:t>
            </a:r>
            <a:br>
              <a:rPr sz="1300"/>
            </a:b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Arial"/>
              </a:rPr>
              <a:t>- </a:t>
            </a:r>
            <a:r>
              <a:rPr b="0" lang="ru-RU" sz="1300" spc="-1" strike="noStrike">
                <a:solidFill>
                  <a:srgbClr val="020c22"/>
                </a:solidFill>
                <a:latin typeface="Arial"/>
              </a:rPr>
              <a:t>воспитание гармонично развитой и социально ответственной личности на основе духовно-нравственных ценностей народов Российской Федерации, исторических и национально-культурных традиций;</a:t>
            </a:r>
            <a:br>
              <a:rPr sz="1300"/>
            </a:br>
            <a:br>
              <a:rPr sz="1200"/>
            </a:br>
            <a:r>
              <a:rPr b="0" lang="ru-RU" sz="1300" spc="-1" strike="noStrike">
                <a:solidFill>
                  <a:srgbClr val="020c22"/>
                </a:solidFill>
                <a:latin typeface="Arial"/>
              </a:rPr>
              <a:t>б) решение следующих задач:</a:t>
            </a:r>
            <a:br>
              <a:rPr sz="1200"/>
            </a:br>
            <a:r>
              <a:rPr b="0" lang="ru-RU" sz="1200" spc="-1" strike="noStrike">
                <a:solidFill>
                  <a:srgbClr val="5f0000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8000"/>
                </a:solidFill>
                <a:latin typeface="Arial"/>
              </a:rPr>
              <a:t>. </a:t>
            </a:r>
            <a:r>
              <a:rPr b="0" lang="ru-RU" sz="1300" spc="-1" strike="noStrike">
                <a:solidFill>
                  <a:srgbClr val="020c22"/>
                </a:solidFill>
                <a:latin typeface="Arial"/>
              </a:rPr>
              <a:t>внедрение на уровнях основного общего и среднего общего образования новых методов обучения и воспитания, образовательных технологий, обеспечивающих освоение обучающимися базовых навыков и умений, повышение их мотивации к обучению и вовлечённости в образовательный процесс,</a:t>
            </a:r>
            <a:br>
              <a:rPr sz="1300"/>
            </a:br>
            <a:r>
              <a:rPr b="0" lang="ru-RU" sz="1300" spc="-1" strike="noStrike">
                <a:solidFill>
                  <a:srgbClr val="020c22"/>
                </a:solidFill>
                <a:latin typeface="Arial"/>
              </a:rPr>
              <a:t>а также обновление содержания и совершенствование методов обучения предметной области «Технология»;</a:t>
            </a:r>
            <a:br>
              <a:rPr sz="13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300" spc="-1" strike="noStrike">
                <a:solidFill>
                  <a:srgbClr val="020c22"/>
                </a:solidFill>
                <a:latin typeface="Arial"/>
              </a:rPr>
              <a:t>формирование эффективной системы выявления, поддержки и развития способностей и талантов у детей и молодёжи, основанной на принципах справедливости, всеобщности и направленной на самоопределение и профессиональную ориентацию всех обучающихся;</a:t>
            </a:r>
            <a:br>
              <a:rPr sz="1300"/>
            </a:br>
            <a:br>
              <a:rPr sz="1300"/>
            </a:br>
            <a:r>
              <a:rPr b="0" lang="ru-RU" sz="1600" spc="-1" strike="noStrike">
                <a:solidFill>
                  <a:srgbClr val="020c22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оздание к 2024 году современной и безопасной цифровой образовательной среды, обеспечивающей высокое качество и доступность образования всех видов и уровней;</a:t>
            </a:r>
            <a:br>
              <a:rPr sz="1600"/>
            </a:br>
            <a:br>
              <a:rPr sz="1300"/>
            </a:br>
            <a:r>
              <a:rPr b="0" lang="ru-RU" sz="1300" spc="-1" strike="noStrike">
                <a:solidFill>
                  <a:srgbClr val="292929"/>
                </a:solidFill>
                <a:latin typeface="Arial"/>
              </a:rPr>
              <a:t>4.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внедрение национальной системы профессионального роста педагогических работников, охватывающей не менее 50% учителей общеобразовательных учреждений.</a:t>
            </a:r>
            <a:br>
              <a:rPr sz="1300"/>
            </a:br>
            <a:endParaRPr b="0" lang="ru-RU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4"/>
          <p:cNvSpPr/>
          <p:nvPr/>
        </p:nvSpPr>
        <p:spPr>
          <a:xfrm>
            <a:off x="0" y="-19080"/>
            <a:ext cx="9143640" cy="45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bb6d2"/>
              </a:gs>
            </a:gsLst>
            <a:lin ang="2700000"/>
          </a:gradFill>
          <a:ln>
            <a:noFill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36000" bIns="360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</a:pPr>
            <a:endParaRPr b="1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" name="Прямоугольник 13"/>
          <p:cNvSpPr/>
          <p:nvPr/>
        </p:nvSpPr>
        <p:spPr>
          <a:xfrm>
            <a:off x="0" y="722160"/>
            <a:ext cx="9143640" cy="637920"/>
          </a:xfrm>
          <a:prstGeom prst="rect">
            <a:avLst/>
          </a:prstGeom>
          <a:solidFill>
            <a:srgbClr val="85d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5f0000"/>
                </a:solidFill>
                <a:latin typeface="Arial"/>
              </a:rPr>
              <a:t>Федеральные проек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1760" y="1418040"/>
            <a:ext cx="8827560" cy="4770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0000"/>
              </a:lnSpc>
              <a:buNone/>
            </a:pPr>
            <a:br>
              <a:rPr sz="2400"/>
            </a:b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•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«Современная школа»; </a:t>
            </a:r>
            <a:br>
              <a:rPr sz="3200"/>
            </a:b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• «Успех каждого ребенка»; </a:t>
            </a:r>
            <a:br>
              <a:rPr sz="3200"/>
            </a:b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• «Поддержка семей, имеющих детей»; </a:t>
            </a:r>
            <a:br>
              <a:rPr sz="3200"/>
            </a:b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• «Цифровая образовательная среда»; </a:t>
            </a:r>
            <a:br>
              <a:rPr sz="3200"/>
            </a:b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• «Учитель будущего»; </a:t>
            </a:r>
            <a:br>
              <a:rPr sz="3200"/>
            </a:b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• «Молодые профессионалы»; </a:t>
            </a:r>
            <a:br>
              <a:rPr sz="3200"/>
            </a:b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• «Новые возможности для каждого»; </a:t>
            </a:r>
            <a:br>
              <a:rPr sz="3200"/>
            </a:b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• «Социальная активность»; </a:t>
            </a:r>
            <a:br>
              <a:rPr sz="3200"/>
            </a:b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• «Экспорт образования»; </a:t>
            </a:r>
            <a:br>
              <a:rPr sz="3200"/>
            </a:b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• «Социальные лифты для каждого». </a:t>
            </a:r>
            <a:br>
              <a:rPr sz="3200"/>
            </a:br>
            <a:endParaRPr b="0" lang="ru-RU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Users\user\Pictures\img5.jpg"/>
          <p:cNvPicPr/>
          <p:nvPr/>
        </p:nvPicPr>
        <p:blipFill>
          <a:blip r:embed="rId1"/>
          <a:srcRect l="0" t="34685" r="0" b="0"/>
          <a:stretch/>
        </p:blipFill>
        <p:spPr>
          <a:xfrm>
            <a:off x="354960" y="2349000"/>
            <a:ext cx="8525160" cy="4176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0080" y="357120"/>
            <a:ext cx="7671600" cy="1622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80000"/>
              </a:lnSpc>
              <a:buNone/>
            </a:pPr>
            <a:r>
              <a:rPr b="1" lang="ru-RU" sz="2300" spc="-1" strike="noStrike">
                <a:solidFill>
                  <a:srgbClr val="002060"/>
                </a:solidFill>
                <a:latin typeface="Arial"/>
              </a:rPr>
              <a:t>Цифровая образовательная среда – важнейший компонент новой системы образования</a:t>
            </a:r>
            <a:endParaRPr b="0" lang="ru-RU" sz="23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4"/>
          <p:cNvSpPr/>
          <p:nvPr/>
        </p:nvSpPr>
        <p:spPr>
          <a:xfrm>
            <a:off x="0" y="-19080"/>
            <a:ext cx="9143640" cy="45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bb6d2"/>
              </a:gs>
            </a:gsLst>
            <a:lin ang="2700000"/>
          </a:gradFill>
          <a:ln>
            <a:noFill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36000" bIns="360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</a:pPr>
            <a:endParaRPr b="1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" name="Прямоугольник 13"/>
          <p:cNvSpPr/>
          <p:nvPr/>
        </p:nvSpPr>
        <p:spPr>
          <a:xfrm>
            <a:off x="738000" y="445320"/>
            <a:ext cx="7594200" cy="4476240"/>
          </a:xfrm>
          <a:prstGeom prst="rect">
            <a:avLst/>
          </a:prstGeom>
          <a:solidFill>
            <a:srgbClr val="85d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f0000"/>
                </a:solidFill>
                <a:latin typeface="Arial"/>
              </a:rPr>
              <a:t>Цель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5f0000"/>
                </a:solidFill>
                <a:latin typeface="Arial"/>
              </a:rPr>
              <a:t>«Цифровой образовательный центр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5f0000"/>
                </a:solidFill>
                <a:latin typeface="Arial"/>
              </a:rPr>
              <a:t>Создание в образовательной организации ЦОЦ, обеспечивающего высокое качество и доступность образования всех видов и уров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1760" y="3123000"/>
            <a:ext cx="8827560" cy="1359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just">
              <a:lnSpc>
                <a:spcPct val="80000"/>
              </a:lnSpc>
              <a:buNone/>
            </a:pPr>
            <a:br>
              <a:rPr sz="3200"/>
            </a:b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 </a:t>
            </a:r>
            <a:br>
              <a:rPr sz="3200"/>
            </a:br>
            <a:endParaRPr b="0" lang="ru-RU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5" name="Picture 2" descr="https://agsft.com/wp-content/uploads/2016/04/web-development-publication.jpg"/>
          <p:cNvPicPr/>
          <p:nvPr/>
        </p:nvPicPr>
        <p:blipFill>
          <a:blip r:embed="rId1"/>
          <a:stretch/>
        </p:blipFill>
        <p:spPr>
          <a:xfrm>
            <a:off x="539640" y="5035680"/>
            <a:ext cx="2588760" cy="13586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66" name="Picture 61" descr="https://cod76.ru/wp-content/uploads/2018/02/5f8ed0b73ae395ec6d259e20a4f753e9.jpeg"/>
          <p:cNvPicPr/>
          <p:nvPr/>
        </p:nvPicPr>
        <p:blipFill>
          <a:blip r:embed="rId2"/>
          <a:stretch/>
        </p:blipFill>
        <p:spPr>
          <a:xfrm>
            <a:off x="3348000" y="5035680"/>
            <a:ext cx="2558520" cy="13586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67" name="Picture 6" descr="https://postupi.online/images/images823/16345.jpg"/>
          <p:cNvPicPr/>
          <p:nvPr/>
        </p:nvPicPr>
        <p:blipFill>
          <a:blip r:embed="rId3"/>
          <a:stretch/>
        </p:blipFill>
        <p:spPr>
          <a:xfrm>
            <a:off x="6119640" y="5035680"/>
            <a:ext cx="2615760" cy="13586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4"/>
          <p:cNvSpPr/>
          <p:nvPr/>
        </p:nvSpPr>
        <p:spPr>
          <a:xfrm>
            <a:off x="0" y="-19080"/>
            <a:ext cx="9143640" cy="45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bb6d2"/>
              </a:gs>
            </a:gsLst>
            <a:lin ang="2700000"/>
          </a:gradFill>
          <a:ln>
            <a:noFill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36000" bIns="360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</a:pPr>
            <a:endParaRPr b="1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" name="Прямоугольник 13"/>
          <p:cNvSpPr/>
          <p:nvPr/>
        </p:nvSpPr>
        <p:spPr>
          <a:xfrm>
            <a:off x="409680" y="343080"/>
            <a:ext cx="8507160" cy="6305040"/>
          </a:xfrm>
          <a:prstGeom prst="rect">
            <a:avLst/>
          </a:prstGeom>
          <a:solidFill>
            <a:srgbClr val="85d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5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5f00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5f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5f0000"/>
                </a:solidFill>
                <a:latin typeface="Arial"/>
              </a:rPr>
              <a:t>повышение цифровой компетентности педагогов  и обучающихся (вебинары, семинары и т.д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5f0000"/>
                </a:solidFill>
                <a:latin typeface="Arial"/>
              </a:rPr>
              <a:t>- внедрение на всех уровнях образования новых методов обучения и воспитания, новых образовательных технолог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5f0000"/>
              </a:buClr>
              <a:buFont typeface="StarSymbol"/>
              <a:buChar char="-"/>
            </a:pPr>
            <a:r>
              <a:rPr b="1" lang="ru-RU" sz="2800" spc="-1" strike="noStrike">
                <a:solidFill>
                  <a:srgbClr val="5f0000"/>
                </a:solidFill>
                <a:latin typeface="Arial"/>
              </a:rPr>
              <a:t>использование ЦОЦ для участия в региональных, федеральных проектах (учи.ру, </a:t>
            </a:r>
            <a:r>
              <a:rPr b="1" lang="en-US" sz="2800" spc="-1" strike="noStrike">
                <a:solidFill>
                  <a:srgbClr val="5f0000"/>
                </a:solidFill>
                <a:latin typeface="Arial"/>
              </a:rPr>
              <a:t>educont.ru</a:t>
            </a:r>
            <a:r>
              <a:rPr b="1" lang="ru-RU" sz="2800" spc="-1" strike="noStrike">
                <a:solidFill>
                  <a:srgbClr val="5f0000"/>
                </a:solidFill>
                <a:latin typeface="Arial"/>
              </a:rPr>
              <a:t> и т. д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5f0000"/>
              </a:buClr>
              <a:buFont typeface="StarSymbol"/>
              <a:buChar char="-"/>
            </a:pPr>
            <a:r>
              <a:rPr b="1" lang="ru-RU" sz="2800" spc="-1" strike="noStrike">
                <a:solidFill>
                  <a:srgbClr val="5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5f0000"/>
                </a:solidFill>
                <a:latin typeface="Arial"/>
              </a:rPr>
              <a:t>обеспечить взаимодействие всех участников ОП (филиал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8000" y="2827800"/>
            <a:ext cx="7594200" cy="1236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0000"/>
              </a:lnSpc>
              <a:buNone/>
            </a:pPr>
            <a:br>
              <a:rPr sz="3200"/>
            </a:b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lang="ru-RU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4"/>
          <p:cNvSpPr/>
          <p:nvPr/>
        </p:nvSpPr>
        <p:spPr>
          <a:xfrm>
            <a:off x="0" y="-19080"/>
            <a:ext cx="9143640" cy="45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bb6d2"/>
              </a:gs>
            </a:gsLst>
            <a:lin ang="2700000"/>
          </a:gradFill>
          <a:ln>
            <a:noFill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36000" bIns="360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</a:pPr>
            <a:endParaRPr b="1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2" name="Прямоугольник 13"/>
          <p:cNvSpPr/>
          <p:nvPr/>
        </p:nvSpPr>
        <p:spPr>
          <a:xfrm>
            <a:off x="738000" y="866160"/>
            <a:ext cx="7594200" cy="4476240"/>
          </a:xfrm>
          <a:prstGeom prst="rect">
            <a:avLst/>
          </a:prstGeom>
          <a:solidFill>
            <a:srgbClr val="85d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f0000"/>
                </a:solidFill>
                <a:latin typeface="Arial"/>
              </a:rPr>
              <a:t>Организация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5f0000"/>
              </a:buClr>
              <a:buFont typeface="StarSymbol"/>
              <a:buChar char="-"/>
            </a:pPr>
            <a:r>
              <a:rPr b="1" lang="ru-RU" sz="3200" spc="-1" strike="noStrike">
                <a:solidFill>
                  <a:srgbClr val="5f0000"/>
                </a:solidFill>
                <a:latin typeface="Arial"/>
              </a:rPr>
              <a:t>урочная деятель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5f0000"/>
              </a:buClr>
              <a:buFont typeface="StarSymbol"/>
              <a:buChar char="-"/>
            </a:pPr>
            <a:r>
              <a:rPr b="1" lang="ru-RU" sz="3200" spc="-1" strike="noStrike">
                <a:solidFill>
                  <a:srgbClr val="5f0000"/>
                </a:solidFill>
                <a:latin typeface="Arial"/>
              </a:rPr>
              <a:t>внеурочная деятельность (подготовка к ГИА, работа над проектами, доп.образование, подготовка к участию и участие  в конкурсах и т.д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8000" y="2663640"/>
            <a:ext cx="7594200" cy="1236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ru-RU" sz="23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9" descr="http://news-ru.arsu.kz/wp-content/uploads/2018/02/185.jpg"/>
          <p:cNvPicPr/>
          <p:nvPr/>
        </p:nvPicPr>
        <p:blipFill>
          <a:blip r:embed="rId1"/>
          <a:stretch/>
        </p:blipFill>
        <p:spPr>
          <a:xfrm>
            <a:off x="69840" y="260280"/>
            <a:ext cx="9143640" cy="6000480"/>
          </a:xfrm>
          <a:prstGeom prst="rect">
            <a:avLst/>
          </a:prstGeom>
          <a:ln w="0">
            <a:noFill/>
          </a:ln>
        </p:spPr>
      </p:pic>
      <p:sp>
        <p:nvSpPr>
          <p:cNvPr id="75" name="Пятиугольник 6"/>
          <p:cNvSpPr/>
          <p:nvPr/>
        </p:nvSpPr>
        <p:spPr>
          <a:xfrm flipH="1">
            <a:off x="2842560" y="4508640"/>
            <a:ext cx="6300360" cy="2341080"/>
          </a:xfrm>
          <a:custGeom>
            <a:avLst/>
            <a:gdLst>
              <a:gd name="textAreaLeft" fmla="*/ -360 w 6300360"/>
              <a:gd name="textAreaRight" fmla="*/ 6300360 w 6300360"/>
              <a:gd name="textAreaTop" fmla="*/ 0 h 2341080"/>
              <a:gd name="textAreaBottom" fmla="*/ 2341440 h 2341080"/>
            </a:gdLst>
            <a:ahLst/>
            <a:rect l="textAreaLeft" t="textAreaTop" r="textAreaRight" b="textAreaBottom"/>
            <a:pathLst>
              <a:path w="3714709" h="5400600">
                <a:moveTo>
                  <a:pt x="0" y="0"/>
                </a:moveTo>
                <a:lnTo>
                  <a:pt x="3714709" y="0"/>
                </a:lnTo>
                <a:lnTo>
                  <a:pt x="3473784" y="5400600"/>
                </a:lnTo>
                <a:lnTo>
                  <a:pt x="0" y="5400600"/>
                </a:lnTo>
                <a:lnTo>
                  <a:pt x="0" y="0"/>
                </a:lnTo>
                <a:close/>
              </a:path>
            </a:pathLst>
          </a:custGeom>
          <a:solidFill>
            <a:srgbClr val="85dbe9">
              <a:alpha val="60000"/>
            </a:srgbClr>
          </a:solidFill>
          <a:ln>
            <a:noFill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</a:pPr>
            <a:endParaRPr b="1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03640" y="5270400"/>
            <a:ext cx="5652720" cy="756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Прямоугольник 12"/>
          <p:cNvSpPr/>
          <p:nvPr/>
        </p:nvSpPr>
        <p:spPr>
          <a:xfrm>
            <a:off x="0" y="0"/>
            <a:ext cx="9143640" cy="45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bb6d2"/>
              </a:gs>
            </a:gsLst>
            <a:lin ang="2700000"/>
          </a:gradFill>
          <a:ln>
            <a:noFill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36000" bIns="360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</a:pPr>
            <a:endParaRPr b="1" lang="ru-RU" sz="2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914_шаблон">
  <a:themeElements>
    <a:clrScheme name="914_шаблон 1">
      <a:dk1>
        <a:srgbClr val="5f0000"/>
      </a:dk1>
      <a:lt1>
        <a:srgbClr val="ffffff"/>
      </a:lt1>
      <a:dk2>
        <a:srgbClr val="cc3300"/>
      </a:dk2>
      <a:lt2>
        <a:srgbClr val="808080"/>
      </a:lt2>
      <a:accent1>
        <a:srgbClr val="f9e383"/>
      </a:accent1>
      <a:accent2>
        <a:srgbClr val="369900"/>
      </a:accent2>
      <a:accent3>
        <a:srgbClr val="ffffff"/>
      </a:accent3>
      <a:accent4>
        <a:srgbClr val="500000"/>
      </a:accent4>
      <a:accent5>
        <a:srgbClr val="fbefc1"/>
      </a:accent5>
      <a:accent6>
        <a:srgbClr val="308a00"/>
      </a:accent6>
      <a:hlink>
        <a:srgbClr val="0033cc"/>
      </a:hlink>
      <a:folHlink>
        <a:srgbClr val="cc33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cc3300"/>
      </a:dk2>
      <a:lt2>
        <a:srgbClr val="808080"/>
      </a:lt2>
      <a:accent1>
        <a:srgbClr val="f9e383"/>
      </a:accent1>
      <a:accent2>
        <a:srgbClr val="369900"/>
      </a:accent2>
      <a:accent3>
        <a:srgbClr val="ffffff"/>
      </a:accent3>
      <a:accent4>
        <a:srgbClr val="500000"/>
      </a:accent4>
      <a:accent5>
        <a:srgbClr val="fbefc1"/>
      </a:accent5>
      <a:accent6>
        <a:srgbClr val="308a00"/>
      </a:accent6>
      <a:hlink>
        <a:srgbClr val="0033cc"/>
      </a:hlink>
      <a:folHlink>
        <a:srgbClr val="cc33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0909_шаблон</Template>
  <TotalTime>12118</TotalTime>
  <Application>LibreOffice/7.4.7.2$Linux_X86_64 LibreOffice_project/40$Build-2</Application>
  <AppVersion>15.0000</AppVersion>
  <Words>154</Words>
  <Paragraphs>27</Paragraphs>
  <Company>1C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0:55:42Z</dcterms:created>
  <dc:creator>0</dc:creator>
  <dc:description/>
  <dc:language>en-US</dc:language>
  <cp:lastModifiedBy>NOTEBUK</cp:lastModifiedBy>
  <cp:lastPrinted>2018-03-04T08:03:05Z</cp:lastPrinted>
  <dcterms:modified xsi:type="dcterms:W3CDTF">2022-08-21T12:19:02Z</dcterms:modified>
  <cp:revision>77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8</vt:r8>
  </property>
</Properties>
</file>