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9672-9966-4463-925F-EA011EF6A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3863-C2D4-4572-8479-CA5978ED7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99CA-CA4D-4C06-AB87-4D750EF42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4D24-B9F2-4477-9AB2-4C6113052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691DF-264F-4439-AEED-3D10521EA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74928-D112-4897-B7D5-03D9DCC8D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00B5A-D435-4228-8AC9-E8E3ED90E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652DA-203D-4DBD-B25A-FE638D49A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1F2E2-95EB-4724-9830-DF8B47015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62FC8-790E-48B3-934C-AF250DA6C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28360-7415-476D-A121-D7B9E0BA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0139-00B2-4F61-985B-1FF8FD809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3E6DE-2A93-4D64-8654-63DB6B56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6E01F-8D97-43EA-B78A-58042F10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4C2BA-3F5C-44C6-A699-9ACE9E2E8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73D5A-787D-474F-A89D-B7561C376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3C101-9BC9-4F1E-81BB-2E3B83559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C692D-3C12-4ACF-A366-1D5D88D73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5A999-61AE-4340-A1E5-2F3B290D6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E005D-C60E-4333-BB53-BDF431B1F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8A54D-4835-45D8-94C1-1542FA26A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803DA-98D3-4B1C-ADB1-C2E081719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7A13-1800-4F98-8B8D-5B3D40FDA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4A377-7EF9-4813-B089-409ECF421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E84CE-81D8-4B19-9F91-364CA514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DD420-EF4E-43E2-89CB-AC5070B4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7A836-BD1D-4D8D-A839-F48E8507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8D900-A111-4C5B-B8D3-905A9D455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EAA70-9A03-4574-AA0F-A3C713052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467A5-C949-455D-AA08-3083F0085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24383-AFB3-40F2-8F60-272E51C27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61E99-CC8E-4030-881F-181D1C4F4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F833D-B39B-46E7-BE54-45CDB530A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BF8D-8AB9-4DF1-9A6E-92EEE9FCB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E22FA-26B4-49CB-B46A-94448C8F9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0BBF1-DBAA-4211-897D-C37EA5A64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BB084-EAFB-43A2-A804-174AA73F2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3CE67-AF87-447C-8461-7D3F3724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23056-AF6C-4DE5-8A65-979AC627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E5268-093B-475D-A5A3-24928BEF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69D56-BD79-4CCF-8327-D4863D874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5F6E0-2EDC-49AE-B569-238EB927C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F7476-CCEE-4639-827C-8C4686942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30EAC-7F2E-44C9-980D-83B277A54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562B-3E30-4E4F-A220-8E07AFA28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B28EC8-67FD-4A27-BA53-687A93D03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912C0-C416-490C-AB20-3EF5EE223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2503E-120F-4EAC-B7E0-3289F68E6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AD9C92-4CDA-47C8-942A-39E7D3278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6F295-18E0-48D8-9773-2ABB19F57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E68D4-4302-40A5-9074-D1CD15BA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8D329-3A5F-4AA5-A9A8-44D351213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530DB-489B-4321-B458-80C5A024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FE684-B6ED-4E78-800F-72CBE3FBD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2559A-37A0-4F97-AD34-64A609558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D50B-2F96-4CA1-AC2A-EB9FCE428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A1854-5D91-4326-943D-B852E8E01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62EE4-C35E-49B8-9A95-E1D7E7882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6FB94-ED71-4BDD-B091-DFC8181F5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3756C-1EE7-4D92-A8A1-7966171B7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F46AB-830F-46A0-946B-B1BC4F77F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F0CFA-18BD-4356-97D8-902254532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788D9-F7C9-4C88-B690-911EBF99D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1AE2A-AC8F-4FDF-927E-6BC48637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5F2AAA-9AAB-4BA8-9402-B47D6F12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AE414-57B3-4CAB-9495-6449BFDB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5BDA-6CC8-4EFE-AE74-9409C409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781C7-734C-4F44-AEFB-A82DC8885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430720-1ADA-4316-B63F-C96C13B8F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7047D-0339-47A4-ACC2-749A14C8A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9FC05-D4F4-44B7-8718-2373CCCFA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273BB2-CBD8-4241-A117-D5719F873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A2E300-B382-44D5-9152-F727A1C15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440F3-3E90-4C00-9C3B-44BBF40D1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C05FA2-239D-49DD-B825-B1F8CDBB3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A3277-5BD0-4903-B8E9-A13D7E623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FEAB17-952F-4728-AAE7-C45C12CD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D3BC-1956-4050-9CE1-45BF1758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6EACE6-0F0B-46C7-B444-3EA02131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C1F39-44D2-495E-8752-A0D795BB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DC75D-FFA0-45EF-BCF9-A18E4313E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4B53A-66FF-4ED1-B0C6-D27A145B3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6B7E3C-33D1-4353-82D5-CA075C69D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635A-A4AE-4AB6-AEDB-35692B27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A4E1C-17A5-49C3-B35E-5EFE70C7F83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77264-072E-4254-B8F5-9D4302AC0B5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4C2B0-B395-4D66-ABAF-DA72E4D8D2A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A663E-4A0F-4B3E-AC19-C3B3777D33E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B6001-C148-4B70-9DA5-701AA5ABBB6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A48DB-7960-4E95-B186-21ED07F74E2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C5347-3195-4C52-A528-2517A407D2F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55640" y="177336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572314"/>
                </a:solidFill>
                <a:latin typeface="Corbel"/>
              </a:rPr>
              <a:t>Районный конкурс </a:t>
            </a:r>
            <a:br>
              <a:rPr sz="3600"/>
            </a:br>
            <a:r>
              <a:rPr b="1" lang="ru-RU" sz="3600" spc="-1" strike="noStrike">
                <a:solidFill>
                  <a:srgbClr val="572314"/>
                </a:solidFill>
                <a:latin typeface="Corbel"/>
              </a:rPr>
              <a:t>«Педагог года»</a:t>
            </a:r>
            <a:br>
              <a:rPr sz="3600"/>
            </a:br>
            <a:br>
              <a:rPr sz="3600"/>
            </a:br>
            <a:r>
              <a:rPr b="0" i="1" lang="ru-RU" sz="3600" spc="-1" strike="noStrike">
                <a:solidFill>
                  <a:srgbClr val="572314"/>
                </a:solidFill>
                <a:latin typeface="Corbel"/>
              </a:rPr>
              <a:t>НОМИНАЦИЯ</a:t>
            </a:r>
            <a:br>
              <a:rPr sz="3600"/>
            </a:br>
            <a:r>
              <a:rPr b="0" i="1" lang="ru-RU" sz="3600" spc="-1" strike="noStrike">
                <a:solidFill>
                  <a:srgbClr val="572314"/>
                </a:solidFill>
                <a:latin typeface="Corbel"/>
              </a:rPr>
              <a:t>Методический семинар </a:t>
            </a:r>
            <a:br>
              <a:rPr sz="3600"/>
            </a:br>
            <a:r>
              <a:rPr b="1" lang="ru-RU" sz="3600" spc="-1" strike="noStrike" u="sng">
                <a:solidFill>
                  <a:srgbClr val="572314"/>
                </a:solidFill>
                <a:uFillTx/>
                <a:latin typeface="Corbel"/>
              </a:rPr>
              <a:t>«У меня это хорошо получается»</a:t>
            </a:r>
            <a:br>
              <a:rPr sz="36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2735280" y="5087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ыполнила: Гамза Ольга Викторовн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МАОУ «Аромашевская СОШ им. В.Д. Кармацкого»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Моё педагогическое кредо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4360" y="292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Чтобы быть хорошим преподавателем, нужно любить то, что преподаешь, и любить тех, кому преподаешь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асилий Ключевски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394920" y="907560"/>
            <a:ext cx="7467480" cy="487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Методы мотивации: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Эмоциональный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Волевой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Познавательный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Социальный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Corbel"/>
              </a:rPr>
              <a:t>Упражнение 1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Corbel"/>
              </a:rPr>
              <a:t>Невыполнимое задание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Corbel"/>
              </a:rPr>
              <a:t>Что такое склонение?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ru-RU" sz="2700" spc="-1" strike="noStrike">
                <a:solidFill>
                  <a:srgbClr val="000000"/>
                </a:solidFill>
                <a:latin typeface="Corbel"/>
              </a:rPr>
              <a:t>Какие части речи мы научились склонять? 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- </a:t>
            </a:r>
            <a:r>
              <a:rPr b="0" i="1" lang="ru-RU" sz="2700" spc="-1" strike="noStrike">
                <a:solidFill>
                  <a:srgbClr val="000000"/>
                </a:solidFill>
                <a:latin typeface="Corbel"/>
              </a:rPr>
              <a:t>Попробуйте просклонять глагол ПРЫГАТЬ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Corbel"/>
              </a:rPr>
              <a:t>Получилось?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Corbel"/>
              </a:rPr>
              <a:t>В чём затруднение?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- </a:t>
            </a:r>
            <a:r>
              <a:rPr b="0" i="1" lang="ru-RU" sz="2700" spc="-1" strike="noStrike">
                <a:solidFill>
                  <a:srgbClr val="000000"/>
                </a:solidFill>
                <a:latin typeface="Corbel"/>
              </a:rPr>
              <a:t>Какой вопрос возникает?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1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885204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Упражнение 2.</a:t>
            </a: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Категория состояния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Самостоятельная ли это часть речи или служебная?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Чтобы доказать, что категория состояния – самостоятельная часть речи, ребята должны привести такие аргументы, которые бы подтверждали, что слова категории состояния обладают таким набором признаков, которые позволяют выделить её в особую часть речи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Упражнение 3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верьте работу ученика, которому надо было расставить знаки препинания в предложениях. Что вы ему посоветуете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orbel"/>
              </a:rPr>
              <a:t>Дети шли по лесу! Вдруг раздался шорох. Кто там. Это ёжик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2-09T12:00:22Z</dcterms:created>
  <dc:creator>User</dc:creator>
  <dc:description/>
  <dc:language>en-US</dc:language>
  <cp:lastModifiedBy>Пользователь Windows</cp:lastModifiedBy>
  <dcterms:modified xsi:type="dcterms:W3CDTF">2022-02-11T05:59:21Z</dcterms:modified>
  <cp:revision>11</cp:revision>
  <dc:subject/>
  <dc:title>Презентация PowerPoint</dc:title>
</cp:coreProperties>
</file>