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6400" spc="-1" strike="noStrike">
              <a:solidFill>
                <a:srgbClr val="314864"/>
              </a:solidFill>
              <a:latin typeface="Dido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12293640" cy="30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55320" y="6287760"/>
            <a:ext cx="12293640" cy="30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6400" spc="-1" strike="noStrike">
              <a:solidFill>
                <a:srgbClr val="314864"/>
              </a:solidFill>
              <a:latin typeface="Dido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54600" y="298404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55320" y="628776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54600" y="628776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6400" spc="-1" strike="noStrike">
              <a:solidFill>
                <a:srgbClr val="314864"/>
              </a:solidFill>
              <a:latin typeface="Dido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3958200" cy="30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11880" y="2984040"/>
            <a:ext cx="3958200" cy="30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668440" y="2984040"/>
            <a:ext cx="3958200" cy="30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55320" y="6287760"/>
            <a:ext cx="3958200" cy="30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511880" y="6287760"/>
            <a:ext cx="3958200" cy="30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668440" y="6287760"/>
            <a:ext cx="3958200" cy="30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6400" spc="-1" strike="noStrike">
              <a:solidFill>
                <a:srgbClr val="314864"/>
              </a:solidFill>
              <a:latin typeface="Dido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55320" y="2984040"/>
            <a:ext cx="12293640" cy="63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6400" spc="-1" strike="noStrike">
              <a:solidFill>
                <a:srgbClr val="314864"/>
              </a:solidFill>
              <a:latin typeface="Dido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12293640" cy="63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6400" spc="-1" strike="noStrike">
              <a:solidFill>
                <a:srgbClr val="314864"/>
              </a:solidFill>
              <a:latin typeface="Dido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5999040" cy="63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654600" y="2984040"/>
            <a:ext cx="5999040" cy="63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6400" spc="-1" strike="noStrike">
              <a:solidFill>
                <a:srgbClr val="314864"/>
              </a:solidFill>
              <a:latin typeface="Dido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55320" y="444240"/>
            <a:ext cx="12293640" cy="94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6400" spc="-1" strike="noStrike">
              <a:solidFill>
                <a:srgbClr val="314864"/>
              </a:solidFill>
              <a:latin typeface="Dido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54600" y="2984040"/>
            <a:ext cx="5999040" cy="63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55320" y="628776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6400" spc="-1" strike="noStrike">
              <a:solidFill>
                <a:srgbClr val="314864"/>
              </a:solidFill>
              <a:latin typeface="Dido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55320" y="2984040"/>
            <a:ext cx="12293640" cy="63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6400" spc="-1" strike="noStrike">
              <a:solidFill>
                <a:srgbClr val="314864"/>
              </a:solidFill>
              <a:latin typeface="Dido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5999040" cy="63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54600" y="298404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654600" y="628776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6400" spc="-1" strike="noStrike">
              <a:solidFill>
                <a:srgbClr val="314864"/>
              </a:solidFill>
              <a:latin typeface="Dido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54600" y="298404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55320" y="6287760"/>
            <a:ext cx="12293640" cy="30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6400" spc="-1" strike="noStrike">
              <a:solidFill>
                <a:srgbClr val="314864"/>
              </a:solidFill>
              <a:latin typeface="Dido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12293640" cy="30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55320" y="6287760"/>
            <a:ext cx="12293640" cy="30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6400" spc="-1" strike="noStrike">
              <a:solidFill>
                <a:srgbClr val="314864"/>
              </a:solidFill>
              <a:latin typeface="Dido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654600" y="298404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55320" y="628776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654600" y="628776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6400" spc="-1" strike="noStrike">
              <a:solidFill>
                <a:srgbClr val="314864"/>
              </a:solidFill>
              <a:latin typeface="Dido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3958200" cy="30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1880" y="2984040"/>
            <a:ext cx="3958200" cy="30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668440" y="2984040"/>
            <a:ext cx="3958200" cy="30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55320" y="6287760"/>
            <a:ext cx="3958200" cy="30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511880" y="6287760"/>
            <a:ext cx="3958200" cy="30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668440" y="6287760"/>
            <a:ext cx="3958200" cy="30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6400" spc="-1" strike="noStrike">
              <a:solidFill>
                <a:srgbClr val="314864"/>
              </a:solidFill>
              <a:latin typeface="Dido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55320" y="2984040"/>
            <a:ext cx="12293640" cy="63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6400" spc="-1" strike="noStrike">
              <a:solidFill>
                <a:srgbClr val="314864"/>
              </a:solidFill>
              <a:latin typeface="Dido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12293640" cy="63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6400" spc="-1" strike="noStrike">
              <a:solidFill>
                <a:srgbClr val="314864"/>
              </a:solidFill>
              <a:latin typeface="Dido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5999040" cy="63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54600" y="2984040"/>
            <a:ext cx="5999040" cy="63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6400" spc="-1" strike="noStrike">
              <a:solidFill>
                <a:srgbClr val="314864"/>
              </a:solidFill>
              <a:latin typeface="Dido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6400" spc="-1" strike="noStrike">
              <a:solidFill>
                <a:srgbClr val="314864"/>
              </a:solidFill>
              <a:latin typeface="Dido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12293640" cy="63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55320" y="444240"/>
            <a:ext cx="12293640" cy="94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6400" spc="-1" strike="noStrike">
              <a:solidFill>
                <a:srgbClr val="314864"/>
              </a:solidFill>
              <a:latin typeface="Dido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654600" y="2984040"/>
            <a:ext cx="5999040" cy="63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55320" y="628776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6400" spc="-1" strike="noStrike">
              <a:solidFill>
                <a:srgbClr val="314864"/>
              </a:solidFill>
              <a:latin typeface="Dido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5999040" cy="63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654600" y="298404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654600" y="628776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6400" spc="-1" strike="noStrike">
              <a:solidFill>
                <a:srgbClr val="314864"/>
              </a:solidFill>
              <a:latin typeface="Dido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654600" y="298404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55320" y="6287760"/>
            <a:ext cx="12293640" cy="30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6400" spc="-1" strike="noStrike">
              <a:solidFill>
                <a:srgbClr val="314864"/>
              </a:solidFill>
              <a:latin typeface="Dido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12293640" cy="30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55320" y="6287760"/>
            <a:ext cx="12293640" cy="30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6400" spc="-1" strike="noStrike">
              <a:solidFill>
                <a:srgbClr val="314864"/>
              </a:solidFill>
              <a:latin typeface="Dido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654600" y="298404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55320" y="628776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654600" y="628776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6400" spc="-1" strike="noStrike">
              <a:solidFill>
                <a:srgbClr val="314864"/>
              </a:solidFill>
              <a:latin typeface="Dido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3958200" cy="30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11880" y="2984040"/>
            <a:ext cx="3958200" cy="30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668440" y="2984040"/>
            <a:ext cx="3958200" cy="30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355320" y="6287760"/>
            <a:ext cx="3958200" cy="30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4511880" y="6287760"/>
            <a:ext cx="3958200" cy="30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8668440" y="6287760"/>
            <a:ext cx="3958200" cy="30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6400" spc="-1" strike="noStrike">
              <a:solidFill>
                <a:srgbClr val="314864"/>
              </a:solidFill>
              <a:latin typeface="Dido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55320" y="2984040"/>
            <a:ext cx="12293640" cy="63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6400" spc="-1" strike="noStrike">
              <a:solidFill>
                <a:srgbClr val="314864"/>
              </a:solidFill>
              <a:latin typeface="Dido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12293640" cy="63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6400" spc="-1" strike="noStrike">
              <a:solidFill>
                <a:srgbClr val="314864"/>
              </a:solidFill>
              <a:latin typeface="Dido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5999040" cy="63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54600" y="2984040"/>
            <a:ext cx="5999040" cy="63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6400" spc="-1" strike="noStrike">
              <a:solidFill>
                <a:srgbClr val="314864"/>
              </a:solidFill>
              <a:latin typeface="Dido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5999040" cy="63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654600" y="2984040"/>
            <a:ext cx="5999040" cy="63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6400" spc="-1" strike="noStrike">
              <a:solidFill>
                <a:srgbClr val="314864"/>
              </a:solidFill>
              <a:latin typeface="Dido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355320" y="444240"/>
            <a:ext cx="12293640" cy="94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6400" spc="-1" strike="noStrike">
              <a:solidFill>
                <a:srgbClr val="314864"/>
              </a:solidFill>
              <a:latin typeface="Dido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54600" y="2984040"/>
            <a:ext cx="5999040" cy="63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55320" y="628776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6400" spc="-1" strike="noStrike">
              <a:solidFill>
                <a:srgbClr val="314864"/>
              </a:solidFill>
              <a:latin typeface="Dido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5999040" cy="63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654600" y="298404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654600" y="628776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6400" spc="-1" strike="noStrike">
              <a:solidFill>
                <a:srgbClr val="314864"/>
              </a:solidFill>
              <a:latin typeface="Dido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654600" y="298404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355320" y="6287760"/>
            <a:ext cx="12293640" cy="30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6400" spc="-1" strike="noStrike">
              <a:solidFill>
                <a:srgbClr val="314864"/>
              </a:solidFill>
              <a:latin typeface="Dido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12293640" cy="30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55320" y="6287760"/>
            <a:ext cx="12293640" cy="30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6400" spc="-1" strike="noStrike">
              <a:solidFill>
                <a:srgbClr val="314864"/>
              </a:solidFill>
              <a:latin typeface="Dido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654600" y="298404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55320" y="628776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6654600" y="628776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6400" spc="-1" strike="noStrike">
              <a:solidFill>
                <a:srgbClr val="314864"/>
              </a:solidFill>
              <a:latin typeface="Dido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3958200" cy="30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11880" y="2984040"/>
            <a:ext cx="3958200" cy="30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668440" y="2984040"/>
            <a:ext cx="3958200" cy="30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355320" y="6287760"/>
            <a:ext cx="3958200" cy="30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4511880" y="6287760"/>
            <a:ext cx="3958200" cy="30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8668440" y="6287760"/>
            <a:ext cx="3958200" cy="30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6400" spc="-1" strike="noStrike">
              <a:solidFill>
                <a:srgbClr val="314864"/>
              </a:solidFill>
              <a:latin typeface="Dido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6400" spc="-1" strike="noStrike">
              <a:solidFill>
                <a:srgbClr val="314864"/>
              </a:solidFill>
              <a:latin typeface="Dido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355320" y="2984040"/>
            <a:ext cx="12293640" cy="63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6400" spc="-1" strike="noStrike">
              <a:solidFill>
                <a:srgbClr val="314864"/>
              </a:solidFill>
              <a:latin typeface="Dido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12293640" cy="63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6400" spc="-1" strike="noStrike">
              <a:solidFill>
                <a:srgbClr val="314864"/>
              </a:solidFill>
              <a:latin typeface="Dido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5999040" cy="63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54600" y="2984040"/>
            <a:ext cx="5999040" cy="63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6400" spc="-1" strike="noStrike">
              <a:solidFill>
                <a:srgbClr val="314864"/>
              </a:solidFill>
              <a:latin typeface="Dido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355320" y="444240"/>
            <a:ext cx="12293640" cy="94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6400" spc="-1" strike="noStrike">
              <a:solidFill>
                <a:srgbClr val="314864"/>
              </a:solidFill>
              <a:latin typeface="Dido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54600" y="2984040"/>
            <a:ext cx="5999040" cy="63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355320" y="628776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6400" spc="-1" strike="noStrike">
              <a:solidFill>
                <a:srgbClr val="314864"/>
              </a:solidFill>
              <a:latin typeface="Dido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5999040" cy="63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654600" y="298404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654600" y="628776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6400" spc="-1" strike="noStrike">
              <a:solidFill>
                <a:srgbClr val="314864"/>
              </a:solidFill>
              <a:latin typeface="Dido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54600" y="298404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55320" y="6287760"/>
            <a:ext cx="12293640" cy="30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6400" spc="-1" strike="noStrike">
              <a:solidFill>
                <a:srgbClr val="314864"/>
              </a:solidFill>
              <a:latin typeface="Dido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12293640" cy="30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55320" y="6287760"/>
            <a:ext cx="12293640" cy="30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6400" spc="-1" strike="noStrike">
              <a:solidFill>
                <a:srgbClr val="314864"/>
              </a:solidFill>
              <a:latin typeface="Dido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654600" y="298404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355320" y="628776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654600" y="628776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55320" y="444240"/>
            <a:ext cx="12293640" cy="94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6400" spc="-1" strike="noStrike">
              <a:solidFill>
                <a:srgbClr val="314864"/>
              </a:solidFill>
              <a:latin typeface="Dido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3958200" cy="30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11880" y="2984040"/>
            <a:ext cx="3958200" cy="30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668440" y="2984040"/>
            <a:ext cx="3958200" cy="30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355320" y="6287760"/>
            <a:ext cx="3958200" cy="30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4511880" y="6287760"/>
            <a:ext cx="3958200" cy="30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8668440" y="6287760"/>
            <a:ext cx="3958200" cy="30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6400" spc="-1" strike="noStrike">
              <a:solidFill>
                <a:srgbClr val="314864"/>
              </a:solidFill>
              <a:latin typeface="Dido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54600" y="2984040"/>
            <a:ext cx="5999040" cy="63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55320" y="628776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6400" spc="-1" strike="noStrike">
              <a:solidFill>
                <a:srgbClr val="314864"/>
              </a:solidFill>
              <a:latin typeface="Dido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5999040" cy="63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54600" y="298404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54600" y="628776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6400" spc="-1" strike="noStrike">
              <a:solidFill>
                <a:srgbClr val="314864"/>
              </a:solidFill>
              <a:latin typeface="Dido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55320" y="298404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54600" y="2984040"/>
            <a:ext cx="5999040" cy="30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55320" y="6287760"/>
            <a:ext cx="12293640" cy="30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400" spc="-1" strike="noStrike">
                <a:solidFill>
                  <a:srgbClr val="314864"/>
                </a:solidFill>
                <a:latin typeface="Didot"/>
              </a:rPr>
              <a:t>Click to edit the title text format</a:t>
            </a:r>
            <a:endParaRPr b="0" lang="en-US" sz="6400" spc="-1" strike="noStrike">
              <a:solidFill>
                <a:srgbClr val="314864"/>
              </a:solidFill>
              <a:latin typeface="Dido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55320" y="2984040"/>
            <a:ext cx="12293640" cy="63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7000"/>
          </a:bodyPr>
          <a:p>
            <a:pPr marL="441720" indent="-441720">
              <a:spcBef>
                <a:spcPts val="4201"/>
              </a:spcBef>
              <a:buClr>
                <a:srgbClr val="5c86b9"/>
              </a:buClr>
              <a:buSzPct val="70000"/>
              <a:buFont typeface="Zapf Dingbats"/>
              <a:buChar char="✤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324863"/>
                </a:solidFill>
                <a:latin typeface="Palatino"/>
              </a:rPr>
              <a:t>Click to edit the outline text format</a:t>
            </a: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  <a:p>
            <a:pPr lvl="1" marL="883800" indent="-441720">
              <a:spcBef>
                <a:spcPts val="4201"/>
              </a:spcBef>
              <a:buClr>
                <a:srgbClr val="5c86b9"/>
              </a:buClr>
              <a:buSzPct val="70000"/>
              <a:buFont typeface="Zapf Dingbats"/>
              <a:buChar char="✤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324863"/>
                </a:solidFill>
                <a:latin typeface="Palatino"/>
              </a:rPr>
              <a:t>Second Outline Level</a:t>
            </a: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  <a:p>
            <a:pPr lvl="2" marL="1325520" indent="-441720">
              <a:spcBef>
                <a:spcPts val="4201"/>
              </a:spcBef>
              <a:buClr>
                <a:srgbClr val="5c86b9"/>
              </a:buClr>
              <a:buSzPct val="70000"/>
              <a:buFont typeface="Zapf Dingbats"/>
              <a:buChar char="✤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324863"/>
                </a:solidFill>
                <a:latin typeface="Palatino"/>
              </a:rPr>
              <a:t>Third Outline Level</a:t>
            </a: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  <a:p>
            <a:pPr lvl="3" marL="1767600" indent="-441720">
              <a:spcBef>
                <a:spcPts val="4201"/>
              </a:spcBef>
              <a:buClr>
                <a:srgbClr val="5c86b9"/>
              </a:buClr>
              <a:buSzPct val="70000"/>
              <a:buFont typeface="Zapf Dingbats"/>
              <a:buChar char="✤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324863"/>
                </a:solidFill>
                <a:latin typeface="Palatino"/>
              </a:rPr>
              <a:t>Fourth Outline Level</a:t>
            </a: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  <a:p>
            <a:pPr lvl="4" marL="2209680" indent="-442080">
              <a:spcBef>
                <a:spcPts val="4201"/>
              </a:spcBef>
              <a:buClr>
                <a:srgbClr val="5c86b9"/>
              </a:buClr>
              <a:buSzPct val="70000"/>
              <a:buFont typeface="Zapf Dingbats"/>
              <a:buChar char="✤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324863"/>
                </a:solidFill>
                <a:latin typeface="Palatino"/>
              </a:rPr>
              <a:t>Fifth Outline Level</a:t>
            </a: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  <a:p>
            <a:pPr lvl="5" marL="2209680" indent="-442080">
              <a:spcBef>
                <a:spcPts val="4201"/>
              </a:spcBef>
              <a:buClr>
                <a:srgbClr val="324863"/>
              </a:buClr>
              <a:buSzPct val="70000"/>
              <a:buFont typeface="Zapf Dingbats"/>
              <a:buChar char="✤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324863"/>
                </a:solidFill>
                <a:latin typeface="Palatino"/>
              </a:rPr>
              <a:t>Sixth Outline Level</a:t>
            </a: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  <a:p>
            <a:pPr lvl="6" marL="2209680" indent="-442080">
              <a:spcBef>
                <a:spcPts val="4201"/>
              </a:spcBef>
              <a:buClr>
                <a:srgbClr val="324863"/>
              </a:buClr>
              <a:buSzPct val="70000"/>
              <a:buFont typeface="Zapf Dingbats"/>
              <a:buChar char="✤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324863"/>
                </a:solidFill>
                <a:latin typeface="Palatino"/>
              </a:rPr>
              <a:t>Seventh Outline Level</a:t>
            </a: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Shape 5"/>
          <p:cNvSpPr/>
          <p:nvPr/>
        </p:nvSpPr>
        <p:spPr>
          <a:xfrm>
            <a:off x="406440" y="8623440"/>
            <a:ext cx="12192120" cy="36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7996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324863"/>
              </a:solidFill>
              <a:latin typeface="Palatino"/>
            </a:endParaRPr>
          </a:p>
        </p:txBody>
      </p:sp>
      <p:sp>
        <p:nvSpPr>
          <p:cNvPr id="39" name="Shape 6"/>
          <p:cNvSpPr/>
          <p:nvPr/>
        </p:nvSpPr>
        <p:spPr>
          <a:xfrm>
            <a:off x="406440" y="8674200"/>
            <a:ext cx="12192120" cy="36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7996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324863"/>
              </a:solidFill>
              <a:latin typeface="Palatino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400" spc="-1" strike="noStrike">
                <a:solidFill>
                  <a:srgbClr val="314864"/>
                </a:solidFill>
                <a:latin typeface="Didot"/>
              </a:rPr>
              <a:t>Click to edit the title text format</a:t>
            </a:r>
            <a:endParaRPr b="0" lang="en-US" sz="6400" spc="-1" strike="noStrike">
              <a:solidFill>
                <a:srgbClr val="314864"/>
              </a:solidFill>
              <a:latin typeface="Dido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355320" y="2984040"/>
            <a:ext cx="12293640" cy="63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7000"/>
          </a:bodyPr>
          <a:p>
            <a:pPr marL="441720" indent="-441720">
              <a:spcBef>
                <a:spcPts val="4201"/>
              </a:spcBef>
              <a:buClr>
                <a:srgbClr val="5c86b9"/>
              </a:buClr>
              <a:buSzPct val="70000"/>
              <a:buFont typeface="Zapf Dingbats"/>
              <a:buChar char="✤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324863"/>
                </a:solidFill>
                <a:latin typeface="Palatino"/>
              </a:rPr>
              <a:t>Click to edit the outline text format</a:t>
            </a: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  <a:p>
            <a:pPr lvl="1" marL="883800" indent="-441720">
              <a:spcBef>
                <a:spcPts val="4201"/>
              </a:spcBef>
              <a:buClr>
                <a:srgbClr val="5c86b9"/>
              </a:buClr>
              <a:buSzPct val="70000"/>
              <a:buFont typeface="Zapf Dingbats"/>
              <a:buChar char="✤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324863"/>
                </a:solidFill>
                <a:latin typeface="Palatino"/>
              </a:rPr>
              <a:t>Second Outline Level</a:t>
            </a: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  <a:p>
            <a:pPr lvl="2" marL="1325520" indent="-441720">
              <a:spcBef>
                <a:spcPts val="4201"/>
              </a:spcBef>
              <a:buClr>
                <a:srgbClr val="5c86b9"/>
              </a:buClr>
              <a:buSzPct val="70000"/>
              <a:buFont typeface="Zapf Dingbats"/>
              <a:buChar char="✤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324863"/>
                </a:solidFill>
                <a:latin typeface="Palatino"/>
              </a:rPr>
              <a:t>Third Outline Level</a:t>
            </a: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  <a:p>
            <a:pPr lvl="3" marL="1767600" indent="-441720">
              <a:spcBef>
                <a:spcPts val="4201"/>
              </a:spcBef>
              <a:buClr>
                <a:srgbClr val="5c86b9"/>
              </a:buClr>
              <a:buSzPct val="70000"/>
              <a:buFont typeface="Zapf Dingbats"/>
              <a:buChar char="✤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324863"/>
                </a:solidFill>
                <a:latin typeface="Palatino"/>
              </a:rPr>
              <a:t>Fourth Outline Level</a:t>
            </a: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  <a:p>
            <a:pPr lvl="4" marL="2209680" indent="-442080">
              <a:spcBef>
                <a:spcPts val="4201"/>
              </a:spcBef>
              <a:buClr>
                <a:srgbClr val="5c86b9"/>
              </a:buClr>
              <a:buSzPct val="70000"/>
              <a:buFont typeface="Zapf Dingbats"/>
              <a:buChar char="✤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324863"/>
                </a:solidFill>
                <a:latin typeface="Palatino"/>
              </a:rPr>
              <a:t>Fifth Outline Level</a:t>
            </a: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  <a:p>
            <a:pPr lvl="5" marL="2209680" indent="-442080">
              <a:spcBef>
                <a:spcPts val="4201"/>
              </a:spcBef>
              <a:buClr>
                <a:srgbClr val="324863"/>
              </a:buClr>
              <a:buSzPct val="70000"/>
              <a:buFont typeface="Zapf Dingbats"/>
              <a:buChar char="✤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324863"/>
                </a:solidFill>
                <a:latin typeface="Palatino"/>
              </a:rPr>
              <a:t>Sixth Outline Level</a:t>
            </a: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  <a:p>
            <a:pPr lvl="6" marL="2209680" indent="-442080">
              <a:spcBef>
                <a:spcPts val="4201"/>
              </a:spcBef>
              <a:buClr>
                <a:srgbClr val="324863"/>
              </a:buClr>
              <a:buSzPct val="70000"/>
              <a:buFont typeface="Zapf Dingbats"/>
              <a:buChar char="✤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324863"/>
                </a:solidFill>
                <a:latin typeface="Palatino"/>
              </a:rPr>
              <a:t>Seventh Outline Level</a:t>
            </a: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hape 19"/>
          <p:cNvSpPr/>
          <p:nvPr/>
        </p:nvSpPr>
        <p:spPr>
          <a:xfrm>
            <a:off x="406440" y="5270400"/>
            <a:ext cx="5689440" cy="360"/>
          </a:xfrm>
          <a:custGeom>
            <a:avLst/>
            <a:gdLst>
              <a:gd name="textAreaLeft" fmla="*/ 0 w 5689440"/>
              <a:gd name="textAreaRight" fmla="*/ 5689800 w 568944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7996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324863"/>
              </a:solidFill>
              <a:latin typeface="Palatino"/>
            </a:endParaRPr>
          </a:p>
        </p:txBody>
      </p:sp>
      <p:sp>
        <p:nvSpPr>
          <p:cNvPr id="79" name="Shape 20"/>
          <p:cNvSpPr/>
          <p:nvPr/>
        </p:nvSpPr>
        <p:spPr>
          <a:xfrm>
            <a:off x="406440" y="5321160"/>
            <a:ext cx="5689440" cy="360"/>
          </a:xfrm>
          <a:custGeom>
            <a:avLst/>
            <a:gdLst>
              <a:gd name="textAreaLeft" fmla="*/ 0 w 5689440"/>
              <a:gd name="textAreaRight" fmla="*/ 5689800 w 568944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7996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000" spc="-1" strike="noStrike">
              <a:solidFill>
                <a:srgbClr val="324863"/>
              </a:solidFill>
              <a:latin typeface="Palatino"/>
            </a:endParaRPr>
          </a:p>
        </p:txBody>
      </p:sp>
      <p:sp>
        <p:nvSpPr>
          <p:cNvPr id="80" name="Shape 21"/>
          <p:cNvSpPr/>
          <p:nvPr/>
        </p:nvSpPr>
        <p:spPr>
          <a:xfrm>
            <a:off x="12377160" y="92761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Palatino"/>
              </a:rPr>
              <a:t>01</a:t>
            </a:r>
            <a:endParaRPr b="0" lang="en-US" sz="1600" spc="-1" strike="noStrike">
              <a:solidFill>
                <a:srgbClr val="324863"/>
              </a:solidFill>
              <a:latin typeface="Palatino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400" spc="-1" strike="noStrike">
                <a:solidFill>
                  <a:srgbClr val="314864"/>
                </a:solidFill>
                <a:latin typeface="Didot"/>
              </a:rPr>
              <a:t>Click to edit the title text format</a:t>
            </a:r>
            <a:endParaRPr b="0" lang="en-US" sz="6400" spc="-1" strike="noStrike">
              <a:solidFill>
                <a:srgbClr val="314864"/>
              </a:solidFill>
              <a:latin typeface="Dido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355320" y="2984040"/>
            <a:ext cx="12293640" cy="63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7000"/>
          </a:bodyPr>
          <a:p>
            <a:pPr marL="441720" indent="-441720">
              <a:spcBef>
                <a:spcPts val="4201"/>
              </a:spcBef>
              <a:buClr>
                <a:srgbClr val="5c86b9"/>
              </a:buClr>
              <a:buSzPct val="70000"/>
              <a:buFont typeface="Zapf Dingbats"/>
              <a:buChar char="✤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324863"/>
                </a:solidFill>
                <a:latin typeface="Palatino"/>
              </a:rPr>
              <a:t>Click to edit the outline text format</a:t>
            </a: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  <a:p>
            <a:pPr lvl="1" marL="883800" indent="-441720">
              <a:spcBef>
                <a:spcPts val="4201"/>
              </a:spcBef>
              <a:buClr>
                <a:srgbClr val="5c86b9"/>
              </a:buClr>
              <a:buSzPct val="70000"/>
              <a:buFont typeface="Zapf Dingbats"/>
              <a:buChar char="✤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324863"/>
                </a:solidFill>
                <a:latin typeface="Palatino"/>
              </a:rPr>
              <a:t>Second Outline Level</a:t>
            </a: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  <a:p>
            <a:pPr lvl="2" marL="1325520" indent="-441720">
              <a:spcBef>
                <a:spcPts val="4201"/>
              </a:spcBef>
              <a:buClr>
                <a:srgbClr val="5c86b9"/>
              </a:buClr>
              <a:buSzPct val="70000"/>
              <a:buFont typeface="Zapf Dingbats"/>
              <a:buChar char="✤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324863"/>
                </a:solidFill>
                <a:latin typeface="Palatino"/>
              </a:rPr>
              <a:t>Third Outline Level</a:t>
            </a: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  <a:p>
            <a:pPr lvl="3" marL="1767600" indent="-441720">
              <a:spcBef>
                <a:spcPts val="4201"/>
              </a:spcBef>
              <a:buClr>
                <a:srgbClr val="5c86b9"/>
              </a:buClr>
              <a:buSzPct val="70000"/>
              <a:buFont typeface="Zapf Dingbats"/>
              <a:buChar char="✤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324863"/>
                </a:solidFill>
                <a:latin typeface="Palatino"/>
              </a:rPr>
              <a:t>Fourth Outline Level</a:t>
            </a: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  <a:p>
            <a:pPr lvl="4" marL="2209680" indent="-442080">
              <a:spcBef>
                <a:spcPts val="4201"/>
              </a:spcBef>
              <a:buClr>
                <a:srgbClr val="5c86b9"/>
              </a:buClr>
              <a:buSzPct val="70000"/>
              <a:buFont typeface="Zapf Dingbats"/>
              <a:buChar char="✤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324863"/>
                </a:solidFill>
                <a:latin typeface="Palatino"/>
              </a:rPr>
              <a:t>Fifth Outline Level</a:t>
            </a: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  <a:p>
            <a:pPr lvl="5" marL="2209680" indent="-442080">
              <a:spcBef>
                <a:spcPts val="4201"/>
              </a:spcBef>
              <a:buClr>
                <a:srgbClr val="324863"/>
              </a:buClr>
              <a:buSzPct val="70000"/>
              <a:buFont typeface="Zapf Dingbats"/>
              <a:buChar char="✤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324863"/>
                </a:solidFill>
                <a:latin typeface="Palatino"/>
              </a:rPr>
              <a:t>Sixth Outline Level</a:t>
            </a: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  <a:p>
            <a:pPr lvl="6" marL="2209680" indent="-442080">
              <a:spcBef>
                <a:spcPts val="4201"/>
              </a:spcBef>
              <a:buClr>
                <a:srgbClr val="324863"/>
              </a:buClr>
              <a:buSzPct val="70000"/>
              <a:buFont typeface="Zapf Dingbats"/>
              <a:buChar char="✤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324863"/>
                </a:solidFill>
                <a:latin typeface="Palatino"/>
              </a:rPr>
              <a:t>Seventh Outline Level</a:t>
            </a: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hape 30"/>
          <p:cNvSpPr/>
          <p:nvPr/>
        </p:nvSpPr>
        <p:spPr>
          <a:xfrm>
            <a:off x="12377160" y="92761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Palatino"/>
              </a:rPr>
              <a:t>01</a:t>
            </a:r>
            <a:endParaRPr b="0" lang="en-US" sz="1600" spc="-1" strike="noStrike">
              <a:solidFill>
                <a:srgbClr val="324863"/>
              </a:solidFill>
              <a:latin typeface="Palatino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400" spc="-1" strike="noStrike">
                <a:solidFill>
                  <a:srgbClr val="314864"/>
                </a:solidFill>
                <a:latin typeface="Didot"/>
              </a:rPr>
              <a:t>Click to edit the title text format</a:t>
            </a:r>
            <a:endParaRPr b="0" lang="en-US" sz="6400" spc="-1" strike="noStrike">
              <a:solidFill>
                <a:srgbClr val="314864"/>
              </a:solidFill>
              <a:latin typeface="Dido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355320" y="2984040"/>
            <a:ext cx="12293640" cy="63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7000"/>
          </a:bodyPr>
          <a:p>
            <a:pPr marL="441720" indent="-441720">
              <a:spcBef>
                <a:spcPts val="4201"/>
              </a:spcBef>
              <a:buClr>
                <a:srgbClr val="5c86b9"/>
              </a:buClr>
              <a:buSzPct val="70000"/>
              <a:buFont typeface="Zapf Dingbats"/>
              <a:buChar char="✤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324863"/>
                </a:solidFill>
                <a:latin typeface="Palatino"/>
              </a:rPr>
              <a:t>Click to edit the outline text format</a:t>
            </a: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  <a:p>
            <a:pPr lvl="1" marL="883800" indent="-441720">
              <a:spcBef>
                <a:spcPts val="4201"/>
              </a:spcBef>
              <a:buClr>
                <a:srgbClr val="5c86b9"/>
              </a:buClr>
              <a:buSzPct val="70000"/>
              <a:buFont typeface="Zapf Dingbats"/>
              <a:buChar char="✤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324863"/>
                </a:solidFill>
                <a:latin typeface="Palatino"/>
              </a:rPr>
              <a:t>Second Outline Level</a:t>
            </a: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  <a:p>
            <a:pPr lvl="2" marL="1325520" indent="-441720">
              <a:spcBef>
                <a:spcPts val="4201"/>
              </a:spcBef>
              <a:buClr>
                <a:srgbClr val="5c86b9"/>
              </a:buClr>
              <a:buSzPct val="70000"/>
              <a:buFont typeface="Zapf Dingbats"/>
              <a:buChar char="✤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324863"/>
                </a:solidFill>
                <a:latin typeface="Palatino"/>
              </a:rPr>
              <a:t>Third Outline Level</a:t>
            </a: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  <a:p>
            <a:pPr lvl="3" marL="1767600" indent="-441720">
              <a:spcBef>
                <a:spcPts val="4201"/>
              </a:spcBef>
              <a:buClr>
                <a:srgbClr val="5c86b9"/>
              </a:buClr>
              <a:buSzPct val="70000"/>
              <a:buFont typeface="Zapf Dingbats"/>
              <a:buChar char="✤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324863"/>
                </a:solidFill>
                <a:latin typeface="Palatino"/>
              </a:rPr>
              <a:t>Fourth Outline Level</a:t>
            </a: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  <a:p>
            <a:pPr lvl="4" marL="2209680" indent="-442080">
              <a:spcBef>
                <a:spcPts val="4201"/>
              </a:spcBef>
              <a:buClr>
                <a:srgbClr val="5c86b9"/>
              </a:buClr>
              <a:buSzPct val="70000"/>
              <a:buFont typeface="Zapf Dingbats"/>
              <a:buChar char="✤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324863"/>
                </a:solidFill>
                <a:latin typeface="Palatino"/>
              </a:rPr>
              <a:t>Fifth Outline Level</a:t>
            </a: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  <a:p>
            <a:pPr lvl="5" marL="2209680" indent="-442080">
              <a:spcBef>
                <a:spcPts val="4201"/>
              </a:spcBef>
              <a:buClr>
                <a:srgbClr val="324863"/>
              </a:buClr>
              <a:buSzPct val="70000"/>
              <a:buFont typeface="Zapf Dingbats"/>
              <a:buChar char="✤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324863"/>
                </a:solidFill>
                <a:latin typeface="Palatino"/>
              </a:rPr>
              <a:t>Sixth Outline Level</a:t>
            </a: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  <a:p>
            <a:pPr lvl="6" marL="2209680" indent="-442080">
              <a:spcBef>
                <a:spcPts val="4201"/>
              </a:spcBef>
              <a:buClr>
                <a:srgbClr val="324863"/>
              </a:buClr>
              <a:buSzPct val="70000"/>
              <a:buFont typeface="Zapf Dingbats"/>
              <a:buChar char="✤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324863"/>
                </a:solidFill>
                <a:latin typeface="Palatino"/>
              </a:rPr>
              <a:t>Seventh Outline Level</a:t>
            </a: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hape 38"/>
          <p:cNvSpPr/>
          <p:nvPr/>
        </p:nvSpPr>
        <p:spPr>
          <a:xfrm>
            <a:off x="12377160" y="92761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Palatino"/>
              </a:rPr>
              <a:t>01</a:t>
            </a:r>
            <a:endParaRPr b="0" lang="en-US" sz="1600" spc="-1" strike="noStrike">
              <a:solidFill>
                <a:srgbClr val="324863"/>
              </a:solidFill>
              <a:latin typeface="Palatino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400" spc="-1" strike="noStrike">
                <a:solidFill>
                  <a:srgbClr val="314864"/>
                </a:solidFill>
                <a:latin typeface="Didot"/>
              </a:rPr>
              <a:t>Click to edit the title text format</a:t>
            </a:r>
            <a:endParaRPr b="0" lang="en-US" sz="6400" spc="-1" strike="noStrike">
              <a:solidFill>
                <a:srgbClr val="314864"/>
              </a:solidFill>
              <a:latin typeface="Dido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355320" y="2984040"/>
            <a:ext cx="12293640" cy="63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7000"/>
          </a:bodyPr>
          <a:p>
            <a:pPr marL="441720" indent="-441720">
              <a:spcBef>
                <a:spcPts val="4201"/>
              </a:spcBef>
              <a:buClr>
                <a:srgbClr val="5c86b9"/>
              </a:buClr>
              <a:buSzPct val="70000"/>
              <a:buFont typeface="Zapf Dingbats"/>
              <a:buChar char="✤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324863"/>
                </a:solidFill>
                <a:latin typeface="Palatino"/>
              </a:rPr>
              <a:t>Click to edit the outline text format</a:t>
            </a: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  <a:p>
            <a:pPr lvl="1" marL="883800" indent="-441720">
              <a:spcBef>
                <a:spcPts val="4201"/>
              </a:spcBef>
              <a:buClr>
                <a:srgbClr val="5c86b9"/>
              </a:buClr>
              <a:buSzPct val="70000"/>
              <a:buFont typeface="Zapf Dingbats"/>
              <a:buChar char="✤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324863"/>
                </a:solidFill>
                <a:latin typeface="Palatino"/>
              </a:rPr>
              <a:t>Second Outline Level</a:t>
            </a: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  <a:p>
            <a:pPr lvl="2" marL="1325520" indent="-441720">
              <a:spcBef>
                <a:spcPts val="4201"/>
              </a:spcBef>
              <a:buClr>
                <a:srgbClr val="5c86b9"/>
              </a:buClr>
              <a:buSzPct val="70000"/>
              <a:buFont typeface="Zapf Dingbats"/>
              <a:buChar char="✤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324863"/>
                </a:solidFill>
                <a:latin typeface="Palatino"/>
              </a:rPr>
              <a:t>Third Outline Level</a:t>
            </a: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  <a:p>
            <a:pPr lvl="3" marL="1767600" indent="-441720">
              <a:spcBef>
                <a:spcPts val="4201"/>
              </a:spcBef>
              <a:buClr>
                <a:srgbClr val="5c86b9"/>
              </a:buClr>
              <a:buSzPct val="70000"/>
              <a:buFont typeface="Zapf Dingbats"/>
              <a:buChar char="✤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324863"/>
                </a:solidFill>
                <a:latin typeface="Palatino"/>
              </a:rPr>
              <a:t>Fourth Outline Level</a:t>
            </a: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  <a:p>
            <a:pPr lvl="4" marL="2209680" indent="-442080">
              <a:spcBef>
                <a:spcPts val="4201"/>
              </a:spcBef>
              <a:buClr>
                <a:srgbClr val="5c86b9"/>
              </a:buClr>
              <a:buSzPct val="70000"/>
              <a:buFont typeface="Zapf Dingbats"/>
              <a:buChar char="✤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324863"/>
                </a:solidFill>
                <a:latin typeface="Palatino"/>
              </a:rPr>
              <a:t>Fifth Outline Level</a:t>
            </a: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  <a:p>
            <a:pPr lvl="5" marL="2209680" indent="-442080">
              <a:spcBef>
                <a:spcPts val="4201"/>
              </a:spcBef>
              <a:buClr>
                <a:srgbClr val="324863"/>
              </a:buClr>
              <a:buSzPct val="70000"/>
              <a:buFont typeface="Zapf Dingbats"/>
              <a:buChar char="✤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324863"/>
                </a:solidFill>
                <a:latin typeface="Palatino"/>
              </a:rPr>
              <a:t>Sixth Outline Level</a:t>
            </a: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  <a:p>
            <a:pPr lvl="6" marL="2209680" indent="-442080">
              <a:spcBef>
                <a:spcPts val="4201"/>
              </a:spcBef>
              <a:buClr>
                <a:srgbClr val="324863"/>
              </a:buClr>
              <a:buSzPct val="70000"/>
              <a:buFont typeface="Zapf Dingbats"/>
              <a:buChar char="✤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324863"/>
                </a:solidFill>
                <a:latin typeface="Palatino"/>
              </a:rPr>
              <a:t>Seventh Outline Level</a:t>
            </a:r>
            <a:endParaRPr b="0" lang="en-US" sz="3800" spc="-1" strike="noStrike">
              <a:solidFill>
                <a:srgbClr val="324863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9240" y="2860560"/>
            <a:ext cx="8496360" cy="28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268200"/>
                <a:tab algn="l" pos="536400"/>
                <a:tab algn="l" pos="804960"/>
                <a:tab algn="l" pos="1073160"/>
                <a:tab algn="l" pos="1341360"/>
                <a:tab algn="l" pos="1609560"/>
                <a:tab algn="l" pos="1878120"/>
                <a:tab algn="l" pos="2146320"/>
                <a:tab algn="l" pos="2414520"/>
                <a:tab algn="l" pos="2682720"/>
                <a:tab algn="l" pos="2951280"/>
                <a:tab algn="l" pos="3219480"/>
                <a:tab algn="l" pos="3487680"/>
                <a:tab algn="l" pos="3755880"/>
                <a:tab algn="l" pos="4024440"/>
                <a:tab algn="l" pos="4292640"/>
                <a:tab algn="l" pos="4560840"/>
                <a:tab algn="l" pos="4829040"/>
                <a:tab algn="l" pos="5097600"/>
                <a:tab algn="l" pos="5365800"/>
              </a:tabLst>
            </a:pPr>
            <a:r>
              <a:rPr b="1" lang="ru-RU" sz="3200" spc="-1" strike="noStrike">
                <a:solidFill>
                  <a:srgbClr val="314864"/>
                </a:solidFill>
                <a:latin typeface="Didot"/>
              </a:rPr>
              <a:t>Использование Икт на уроках математики</a:t>
            </a:r>
            <a:endParaRPr b="0" lang="en-US" sz="3200" spc="-1" strike="noStrike">
              <a:solidFill>
                <a:srgbClr val="314864"/>
              </a:solidFill>
              <a:latin typeface="Dido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25240" y="6892920"/>
            <a:ext cx="581652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ambria"/>
              </a:rPr>
              <a:t>Шарова Мария Юрьевна</a:t>
            </a:r>
            <a:endParaRPr b="0" lang="en-US" sz="3000" spc="-1" strike="noStrike">
              <a:solidFill>
                <a:srgbClr val="324863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mbria"/>
              </a:rPr>
              <a:t>учитель математики</a:t>
            </a:r>
            <a:endParaRPr b="0" lang="en-US" sz="1800" spc="-1" strike="noStrike">
              <a:solidFill>
                <a:srgbClr val="324863"/>
              </a:solidFill>
              <a:latin typeface="Palatino"/>
            </a:endParaRPr>
          </a:p>
        </p:txBody>
      </p:sp>
      <p:pic>
        <p:nvPicPr>
          <p:cNvPr id="199" name="pasted-image.png" descr=""/>
          <p:cNvPicPr/>
          <p:nvPr/>
        </p:nvPicPr>
        <p:blipFill>
          <a:blip r:embed="rId2"/>
          <a:stretch/>
        </p:blipFill>
        <p:spPr>
          <a:xfrm>
            <a:off x="281160" y="304920"/>
            <a:ext cx="2131920" cy="1530360"/>
          </a:xfrm>
          <a:prstGeom prst="rect">
            <a:avLst/>
          </a:prstGeom>
          <a:ln w="0">
            <a:noFill/>
          </a:ln>
        </p:spPr>
      </p:pic>
      <p:sp>
        <p:nvSpPr>
          <p:cNvPr id="200" name="Shape 47"/>
          <p:cNvSpPr/>
          <p:nvPr/>
        </p:nvSpPr>
        <p:spPr>
          <a:xfrm>
            <a:off x="2001960" y="8879040"/>
            <a:ext cx="8366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ru-RU" sz="2400" spc="-1" strike="noStrike">
                <a:solidFill>
                  <a:srgbClr val="26364a"/>
                </a:solidFill>
                <a:latin typeface="Cambria"/>
              </a:rPr>
              <a:t>МАОУ «Аромашевская СОШ им. В.Д. Кармацкого»</a:t>
            </a:r>
            <a:endParaRPr b="0" lang="en-US" sz="2400" spc="-1" strike="noStrike">
              <a:solidFill>
                <a:srgbClr val="324863"/>
              </a:solidFill>
              <a:latin typeface="Palatino"/>
            </a:endParaRPr>
          </a:p>
        </p:txBody>
      </p:sp>
      <p:sp>
        <p:nvSpPr>
          <p:cNvPr id="201" name="Shape 48"/>
          <p:cNvSpPr/>
          <p:nvPr/>
        </p:nvSpPr>
        <p:spPr>
          <a:xfrm>
            <a:off x="4054320" y="411480"/>
            <a:ext cx="542952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ru-RU" sz="2400" spc="-1" strike="noStrike">
                <a:solidFill>
                  <a:srgbClr val="5c86b9"/>
                </a:solidFill>
                <a:latin typeface="Cambria"/>
              </a:rPr>
              <a:t>Конкурс </a:t>
            </a:r>
            <a:endParaRPr b="0" lang="en-US" sz="2400" spc="-1" strike="noStrike">
              <a:solidFill>
                <a:srgbClr val="324863"/>
              </a:solidFill>
              <a:latin typeface="Palatino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ru-RU" sz="2400" spc="-1" strike="noStrike">
                <a:solidFill>
                  <a:srgbClr val="5c86b9"/>
                </a:solidFill>
                <a:latin typeface="Cambria"/>
              </a:rPr>
              <a:t>профессионального мастерства</a:t>
            </a:r>
            <a:endParaRPr b="0" lang="en-US" sz="2400" spc="-1" strike="noStrike">
              <a:solidFill>
                <a:srgbClr val="324863"/>
              </a:solidFill>
              <a:latin typeface="Palatino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ru-RU" sz="2400" spc="-1" strike="noStrike">
                <a:solidFill>
                  <a:srgbClr val="5c86b9"/>
                </a:solidFill>
                <a:latin typeface="Cambria"/>
              </a:rPr>
              <a:t>«Педагогический дебют Аромашевского района – 2021»</a:t>
            </a:r>
            <a:endParaRPr b="0" lang="en-US" sz="2400" spc="-1" strike="noStrike">
              <a:solidFill>
                <a:srgbClr val="324863"/>
              </a:solidFill>
              <a:latin typeface="Palatino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400" spc="-1" strike="noStrike">
                <a:solidFill>
                  <a:srgbClr val="314864"/>
                </a:solidFill>
                <a:latin typeface="Didot"/>
              </a:rPr>
              <a:t>5</a:t>
            </a:r>
            <a:r>
              <a:rPr b="0" lang="ru-RU" sz="6400" spc="-1" strike="noStrike">
                <a:solidFill>
                  <a:srgbClr val="314864"/>
                </a:solidFill>
                <a:latin typeface="Didot"/>
              </a:rPr>
              <a:t>. Видеоуроки.нет</a:t>
            </a:r>
            <a:endParaRPr b="0" lang="en-US" sz="6400" spc="-1" strike="noStrike">
              <a:solidFill>
                <a:srgbClr val="314864"/>
              </a:solidFill>
              <a:latin typeface="Didot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1173240" y="2068560"/>
            <a:ext cx="10728360" cy="730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29840" y="1947960"/>
            <a:ext cx="12287160" cy="49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80880" indent="0"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ru-RU" sz="4000" spc="-1" strike="noStrike">
                <a:solidFill>
                  <a:srgbClr val="324863"/>
                </a:solidFill>
                <a:latin typeface="Palatino"/>
              </a:rPr>
              <a:t>   </a:t>
            </a:r>
            <a:r>
              <a:rPr b="0" lang="ru-RU" sz="4000" spc="-1" strike="noStrike">
                <a:solidFill>
                  <a:srgbClr val="324863"/>
                </a:solidFill>
                <a:latin typeface="Palatino"/>
              </a:rPr>
              <a:t>Применение ИКТ в образовательном процессе, позволяет решать для меня одну из важных задач обучения – повышение эффективности урока.</a:t>
            </a:r>
            <a:endParaRPr b="0" lang="en-US" sz="4000" spc="-1" strike="noStrike">
              <a:solidFill>
                <a:srgbClr val="324863"/>
              </a:solidFill>
              <a:latin typeface="Palatino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25240" y="412920"/>
            <a:ext cx="12123720" cy="25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5800"/>
            </a:br>
            <a:r>
              <a:rPr b="1" lang="ru-RU" sz="5800" spc="-1" strike="noStrike">
                <a:solidFill>
                  <a:srgbClr val="002060"/>
                </a:solidFill>
                <a:latin typeface="Didot"/>
              </a:rPr>
              <a:t> </a:t>
            </a:r>
            <a:r>
              <a:rPr b="1" lang="ru-RU" sz="5800" spc="-1" strike="noStrike">
                <a:solidFill>
                  <a:srgbClr val="324863"/>
                </a:solidFill>
                <a:latin typeface="Didot"/>
              </a:rPr>
              <a:t>Информационно</a:t>
            </a:r>
            <a:r>
              <a:rPr b="0" lang="ru-RU" sz="5800" spc="-1" strike="noStrike">
                <a:solidFill>
                  <a:srgbClr val="324863"/>
                </a:solidFill>
                <a:latin typeface="Didot"/>
              </a:rPr>
              <a:t>-</a:t>
            </a:r>
            <a:r>
              <a:rPr b="1" lang="ru-RU" sz="5800" spc="-1" strike="noStrike">
                <a:solidFill>
                  <a:srgbClr val="324863"/>
                </a:solidFill>
                <a:latin typeface="Didot"/>
              </a:rPr>
              <a:t>коммуникационные</a:t>
            </a:r>
            <a:r>
              <a:rPr b="0" lang="ru-RU" sz="5800" spc="-1" strike="noStrike">
                <a:solidFill>
                  <a:srgbClr val="324863"/>
                </a:solidFill>
                <a:latin typeface="Didot"/>
              </a:rPr>
              <a:t> </a:t>
            </a:r>
            <a:r>
              <a:rPr b="1" lang="ru-RU" sz="5800" spc="-1" strike="noStrike">
                <a:solidFill>
                  <a:srgbClr val="324863"/>
                </a:solidFill>
                <a:latin typeface="Didot"/>
              </a:rPr>
              <a:t>технологии</a:t>
            </a:r>
            <a:r>
              <a:rPr b="0" lang="ru-RU" sz="5800" spc="-1" strike="noStrike">
                <a:solidFill>
                  <a:srgbClr val="324863"/>
                </a:solidFill>
                <a:latin typeface="Didot"/>
              </a:rPr>
              <a:t> </a:t>
            </a:r>
            <a:r>
              <a:rPr b="1" lang="ru-RU" sz="5800" spc="-1" strike="noStrike">
                <a:solidFill>
                  <a:srgbClr val="324863"/>
                </a:solidFill>
                <a:latin typeface="Didot"/>
              </a:rPr>
              <a:t>в образовании</a:t>
            </a:r>
            <a:r>
              <a:rPr b="0" lang="ru-RU" sz="5800" spc="-1" strike="noStrike">
                <a:solidFill>
                  <a:srgbClr val="324863"/>
                </a:solidFill>
                <a:latin typeface="Didot"/>
              </a:rPr>
              <a:t> (</a:t>
            </a:r>
            <a:r>
              <a:rPr b="1" lang="ru-RU" sz="5800" spc="-1" strike="noStrike">
                <a:solidFill>
                  <a:srgbClr val="324863"/>
                </a:solidFill>
                <a:latin typeface="Didot"/>
              </a:rPr>
              <a:t>ИКТ</a:t>
            </a:r>
            <a:r>
              <a:rPr b="0" lang="ru-RU" sz="5800" spc="-1" strike="noStrike">
                <a:solidFill>
                  <a:srgbClr val="324863"/>
                </a:solidFill>
                <a:latin typeface="Didot"/>
              </a:rPr>
              <a:t>)</a:t>
            </a:r>
            <a:r>
              <a:rPr b="0" lang="ru-RU" sz="5800" spc="-1" strike="noStrike">
                <a:solidFill>
                  <a:srgbClr val="314864"/>
                </a:solidFill>
                <a:latin typeface="Didot"/>
              </a:rPr>
              <a:t> </a:t>
            </a:r>
            <a:br>
              <a:rPr sz="5800"/>
            </a:br>
            <a:endParaRPr b="0" lang="en-US" sz="5800" spc="-1" strike="noStrike">
              <a:solidFill>
                <a:srgbClr val="314864"/>
              </a:solidFill>
              <a:latin typeface="Didot"/>
            </a:endParaRPr>
          </a:p>
        </p:txBody>
      </p:sp>
      <p:sp>
        <p:nvSpPr>
          <p:cNvPr id="203" name="Прямоугольник 4"/>
          <p:cNvSpPr/>
          <p:nvPr/>
        </p:nvSpPr>
        <p:spPr>
          <a:xfrm>
            <a:off x="380880" y="3508200"/>
            <a:ext cx="120985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ru-RU" sz="3000" spc="-1" strike="noStrike">
                <a:solidFill>
                  <a:srgbClr val="324863"/>
                </a:solidFill>
                <a:latin typeface="Palatino"/>
              </a:rPr>
              <a:t>– </a:t>
            </a:r>
            <a:r>
              <a:rPr b="0" lang="ru-RU" sz="3200" spc="-1" strike="noStrike">
                <a:solidFill>
                  <a:srgbClr val="324863"/>
                </a:solidFill>
                <a:latin typeface="Palatino"/>
              </a:rPr>
              <a:t>это комплекс учебно-методических материалов, технических и инструментальных средств вычислительной техники в учебном процессе, формах и методах их применения для совершенствования деятельности специалистов учреждений </a:t>
            </a:r>
            <a:r>
              <a:rPr b="1" lang="ru-RU" sz="3200" spc="-1" strike="noStrike">
                <a:solidFill>
                  <a:srgbClr val="324863"/>
                </a:solidFill>
                <a:latin typeface="Palatino"/>
              </a:rPr>
              <a:t>образования </a:t>
            </a:r>
            <a:r>
              <a:rPr b="0" lang="ru-RU" sz="3200" spc="-1" strike="noStrike">
                <a:solidFill>
                  <a:srgbClr val="324863"/>
                </a:solidFill>
                <a:latin typeface="Palatino"/>
              </a:rPr>
              <a:t>(администрации, воспитателей, специалистов, а также для </a:t>
            </a:r>
            <a:r>
              <a:rPr b="1" lang="ru-RU" sz="3200" spc="-1" strike="noStrike">
                <a:solidFill>
                  <a:srgbClr val="324863"/>
                </a:solidFill>
                <a:latin typeface="Palatino"/>
              </a:rPr>
              <a:t>образования</a:t>
            </a:r>
            <a:r>
              <a:rPr b="0" lang="ru-RU" sz="3200" spc="-1" strike="noStrike">
                <a:solidFill>
                  <a:srgbClr val="324863"/>
                </a:solidFill>
                <a:latin typeface="Palatino"/>
              </a:rPr>
              <a:t> (развития, диагностики, коррекции) детей. </a:t>
            </a:r>
            <a:endParaRPr b="0" lang="en-US" sz="3200" spc="-1" strike="noStrike">
              <a:solidFill>
                <a:srgbClr val="324863"/>
              </a:solidFill>
              <a:latin typeface="Palatino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520" y="41256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ru-RU" sz="6400" spc="-1" strike="noStrike">
                <a:solidFill>
                  <a:srgbClr val="314864"/>
                </a:solidFill>
                <a:latin typeface="Didot"/>
              </a:rPr>
              <a:t>Цель </a:t>
            </a:r>
            <a:r>
              <a:rPr b="0" lang="ru-RU" sz="6400" spc="-1" strike="noStrike">
                <a:solidFill>
                  <a:srgbClr val="314864"/>
                </a:solidFill>
                <a:latin typeface="Didot"/>
              </a:rPr>
              <a:t>работы:</a:t>
            </a:r>
            <a:endParaRPr b="0" lang="en-US" sz="6400" spc="-1" strike="noStrike">
              <a:solidFill>
                <a:srgbClr val="314864"/>
              </a:solidFill>
              <a:latin typeface="Dido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80520" y="3004920"/>
            <a:ext cx="12293640" cy="36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94000"/>
          </a:bodyPr>
          <a:p>
            <a:pPr marL="477360" indent="0" algn="ctr">
              <a:lnSpc>
                <a:spcPct val="15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1500" spc="-1" strike="noStrike">
              <a:solidFill>
                <a:srgbClr val="324863"/>
              </a:solidFill>
              <a:latin typeface="Palatino"/>
            </a:endParaRPr>
          </a:p>
          <a:p>
            <a:pPr marL="477360" indent="0" algn="ctr">
              <a:lnSpc>
                <a:spcPct val="15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1500" spc="-1" strike="noStrike">
              <a:solidFill>
                <a:srgbClr val="324863"/>
              </a:solidFill>
              <a:latin typeface="Palatino"/>
            </a:endParaRPr>
          </a:p>
          <a:p>
            <a:pPr marL="477360" indent="0" algn="ctr">
              <a:lnSpc>
                <a:spcPct val="15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Bookman Old Style"/>
              </a:rPr>
              <a:t>Рассказать про собственное использование ИКТ на уроках математики с целью эффективности рабочего процесса.</a:t>
            </a:r>
            <a:endParaRPr b="0" lang="en-US" sz="3300" spc="-1" strike="noStrike">
              <a:solidFill>
                <a:srgbClr val="324863"/>
              </a:solidFill>
              <a:latin typeface="Palatino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ru-RU" sz="6400" spc="-1" strike="noStrike">
                <a:solidFill>
                  <a:srgbClr val="7030a0"/>
                </a:solidFill>
                <a:latin typeface="Didot"/>
              </a:rPr>
              <a:t>Основная задача</a:t>
            </a:r>
            <a:endParaRPr b="0" lang="en-US" sz="6400" spc="-1" strike="noStrike">
              <a:solidFill>
                <a:srgbClr val="314864"/>
              </a:solidFill>
              <a:latin typeface="Dido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55320" y="2161800"/>
            <a:ext cx="12293640" cy="714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50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324863"/>
              </a:solidFill>
              <a:latin typeface="Palatino"/>
            </a:endParaRPr>
          </a:p>
          <a:p>
            <a:pPr marL="507960" indent="-507960">
              <a:spcBef>
                <a:spcPts val="4201"/>
              </a:spcBef>
              <a:buClr>
                <a:srgbClr val="5c86b9"/>
              </a:buClr>
              <a:buSzPct val="70000"/>
              <a:buFont typeface="Zapf Dingbats"/>
              <a:buChar char="✤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Palatino"/>
              </a:rPr>
              <a:t>активное внедрение ИКТ на уроках математики с учетом различных приемов и форм.</a:t>
            </a:r>
            <a:endParaRPr b="0" lang="en-US" sz="3600" spc="-1" strike="noStrike">
              <a:solidFill>
                <a:srgbClr val="324863"/>
              </a:solidFill>
              <a:latin typeface="Palatino"/>
            </a:endParaRPr>
          </a:p>
          <a:p>
            <a:pPr marL="50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600" spc="-1" strike="noStrike">
              <a:solidFill>
                <a:srgbClr val="324863"/>
              </a:solidFill>
              <a:latin typeface="Palatino"/>
            </a:endParaRPr>
          </a:p>
          <a:p>
            <a:pPr marL="507960" indent="0" algn="just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324863"/>
              </a:solidFill>
              <a:latin typeface="Palatino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25600" y="0"/>
            <a:ext cx="11933280" cy="20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ru-RU" sz="6000" spc="-1" strike="noStrike">
                <a:solidFill>
                  <a:srgbClr val="314864"/>
                </a:solidFill>
                <a:latin typeface="Didot"/>
              </a:rPr>
              <a:t>1. Учи.ру</a:t>
            </a:r>
            <a:endParaRPr b="0" lang="en-US" sz="6000" spc="-1" strike="noStrike">
              <a:solidFill>
                <a:srgbClr val="314864"/>
              </a:solidFill>
              <a:latin typeface="Didot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525600" y="1492200"/>
            <a:ext cx="9296280" cy="39052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669960" y="5429160"/>
            <a:ext cx="6000840" cy="432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89240" y="444240"/>
            <a:ext cx="11260080" cy="13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ru-RU" sz="6400" spc="-1" strike="noStrike">
                <a:solidFill>
                  <a:srgbClr val="314864"/>
                </a:solidFill>
                <a:latin typeface="Didot"/>
              </a:rPr>
              <a:t>2. ЯКласс</a:t>
            </a:r>
            <a:endParaRPr b="0" lang="en-US" sz="6400" spc="-1" strike="noStrike">
              <a:solidFill>
                <a:srgbClr val="314864"/>
              </a:solidFill>
              <a:latin typeface="Didot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598320" y="2284560"/>
            <a:ext cx="12200040" cy="625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ru-RU" sz="6400" spc="-1" strike="noStrike">
                <a:solidFill>
                  <a:srgbClr val="314864"/>
                </a:solidFill>
                <a:latin typeface="Didot"/>
              </a:rPr>
              <a:t>3. </a:t>
            </a:r>
            <a:r>
              <a:rPr b="0" lang="en-US" sz="6400" spc="-1" strike="noStrike">
                <a:solidFill>
                  <a:srgbClr val="314864"/>
                </a:solidFill>
                <a:latin typeface="Didot"/>
              </a:rPr>
              <a:t>Kahoot</a:t>
            </a:r>
            <a:endParaRPr b="0" lang="en-US" sz="6400" spc="-1" strike="noStrike">
              <a:solidFill>
                <a:srgbClr val="314864"/>
              </a:solidFill>
              <a:latin typeface="Didot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80880" y="2284560"/>
            <a:ext cx="12623760" cy="608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55320" y="444240"/>
            <a:ext cx="12293640" cy="20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ru-RU" sz="6400" spc="-1" strike="noStrike">
                <a:solidFill>
                  <a:srgbClr val="314864"/>
                </a:solidFill>
                <a:latin typeface="Didot"/>
              </a:rPr>
              <a:t>4. </a:t>
            </a:r>
            <a:r>
              <a:rPr b="0" lang="en-US" sz="6400" spc="-1" strike="noStrike">
                <a:solidFill>
                  <a:srgbClr val="314864"/>
                </a:solidFill>
                <a:latin typeface="Didot"/>
              </a:rPr>
              <a:t>Wordwall</a:t>
            </a:r>
            <a:endParaRPr b="0" lang="en-US" sz="6400" spc="-1" strike="noStrike">
              <a:solidFill>
                <a:srgbClr val="314864"/>
              </a:solidFill>
              <a:latin typeface="Didot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380880" y="2284560"/>
            <a:ext cx="12623760" cy="6576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Лена</dc:creator>
  <dc:description/>
  <dc:language>en-US</dc:language>
  <cp:lastModifiedBy>Admin</cp:lastModifiedBy>
  <dcterms:modified xsi:type="dcterms:W3CDTF">2021-03-14T17:27:30Z</dcterms:modified>
  <cp:revision>42</cp:revision>
  <dc:subject/>
  <dc:title>Игра как способ реализации технологии “Диалог культур” на уроках английского языка</dc:title>
</cp:coreProperties>
</file>