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2C2B-1B15-4169-BB50-C2F8DD28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DF3-3956-4AF8-BDD0-EDA2C493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91E-F364-44D9-9A3E-50455E8D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89D-3D90-4162-943E-53EE9216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C61F-C604-4D10-A825-105C3E9B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BA9A-127C-4ED1-81B5-BD133738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C017-71F9-4F16-B3A1-C8D0873E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0F80-1F04-4258-8528-783C62A4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123C-23C4-45E5-87AA-E1736CC0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190080"/>
            <a:ext cx="109728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6D26-D07F-4F59-90D7-649DE7CE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0FC5-A5AD-44EE-A886-7E85D5E1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DF2-5228-4B86-A212-F8210B04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B449-481C-41A5-A981-65CB0F33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57B7-DCDC-414D-AC51-FF32A063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E253-2341-4CC3-9545-64908296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E0A0-368B-4CB3-93C2-231E0659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0D4B-9CA4-48D3-AB3A-5B9F856B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410-59C5-4534-AD4E-7EE7F092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164-4FC4-49F6-80EA-1632C104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95F-6DFB-40E9-B62C-C50F33F6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90080"/>
            <a:ext cx="109728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924-B0C1-494C-B5CC-775E79A6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3BA-CD08-47AE-9976-8FF5EF64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97F8-C660-442E-8848-1F825487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AB8-868B-4ED7-BC28-118727E4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-7920" y="0"/>
            <a:ext cx="122000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D60E-703E-41F9-B59C-4E6B9E6F9B2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F745-FB3E-49F2-96C8-93F90F1234B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8040" y="615960"/>
            <a:ext cx="11074320" cy="22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вышение качества знаний через применение современных педагогических технолог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063880" y="3448080"/>
            <a:ext cx="961848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анюк Анна Андрее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английского язы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ОУ «Аромашевская СОШ им. В.Д. Кармацко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ременные  педагогические 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60320" y="1208160"/>
            <a:ext cx="1067112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гают эффективно организовать работу 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ствуют повышению качества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ют интерес к изучаемому предм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емые 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овы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сберегающи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-коммуникативны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 проектного 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8280" y="190440"/>
            <a:ext cx="1112364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хнология использования игр и игровых форм организации учеб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82240" y="1825200"/>
            <a:ext cx="110710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ует психологической раскрепощённости на уро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яет повысить интерес к предм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овые формы обучения на уроке – эффективная организация взаимодействия педагога и учащихся, продуктивная форма обучения с элементами соревнования, непосредственности, неподдельного интереса. Игра – творчество, игра – труд. В процессе игры вырабатывается привычка сосредотачиваться, мыслить самостоятельно, развивается внимание, стремление к зна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600" y="190440"/>
            <a:ext cx="1093932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95360" y="1825200"/>
            <a:ext cx="108583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культмину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игательно-речевы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формационно-коммуникативные 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52240" y="1825200"/>
            <a:ext cx="108010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воляют не только модернизировать образовательный процесс, повысить эффективность, мотивировать учащихся, но и дифференцировать процесс с учетом индивидуальных особенностей каждого уче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ультативность применения технолог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38080" y="1825560"/>
          <a:ext cx="10868040" cy="4173480"/>
        </p:xfrm>
        <a:graphic>
          <a:graphicData uri="http://schemas.openxmlformats.org/drawingml/2006/table">
            <a:tbl>
              <a:tblPr/>
              <a:tblGrid>
                <a:gridCol w="3622680"/>
                <a:gridCol w="3622680"/>
                <a:gridCol w="3622680"/>
              </a:tblGrid>
              <a:tr h="5097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-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-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режд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</a:tr>
              <a:tr h="81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иона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220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ый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ружной, всероссийский, международ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;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; 7; 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6T07:29:02Z</dcterms:created>
  <dc:creator>Учитель</dc:creator>
  <dc:description/>
  <dc:language>en-US</dc:language>
  <cp:lastModifiedBy>Учитель</cp:lastModifiedBy>
  <dcterms:modified xsi:type="dcterms:W3CDTF">2021-03-12T12:37:28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46</vt:lpwstr>
  </property>
</Properties>
</file>