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8FED-6B8B-4661-98FF-A19CC9BE68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8C31-1D2A-4EBA-BAFB-DE653DC85D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4B0A-DD2D-47FF-B60E-94F92B3EB5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CD49-4F9A-45BB-A3D7-9AB7393DD3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B8FB-8223-4E2A-AD5B-4D27162F93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F488-6897-48CC-A72D-3DADBFB434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5F96-CF30-4678-B10B-580F63F079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27D1-1B25-419A-9016-BA8FAE180D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0AB0-1BB4-4E45-B33D-81D08632A5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F11E-FC87-48D4-AB1D-A5A88CE34B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3586-15E1-4368-AC68-875259ACDC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5EFC-6CA4-4E23-8C4D-BAD8CAFB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DD5C-1E7F-4128-8E0D-F48B922F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EBF9-8380-4F5E-BB54-F6A053C3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107C-6BA2-4251-BF05-BE927EC9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F10-6FCF-4D9C-9554-E01BD7FF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5325-D5D5-47D3-9948-510D0C48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F93E-C736-43F0-A9E1-D3597BB9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BC0E-64C6-47F7-98F7-41A44FAF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096B-CA94-433C-BA9D-7C3BBECE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587F-EC11-4D9D-9298-286D79F5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FF78-3E91-4E2E-8359-9896C5EF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BFCB-723E-4E19-A363-F6E819C1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3370-2BB1-4698-9732-C4A7D04036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28036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 Black"/>
              </a:rPr>
              <a:t>ПРОЕКТНАЯ  ДЕЯТЕЛЬНОСТЬ  УЧАЩИХСЯ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c000"/>
                </a:solidFill>
                <a:latin typeface="Arial Black"/>
              </a:rPr>
              <a:t>конкурсное задание</a:t>
            </a:r>
            <a:br>
              <a:rPr sz="2800"/>
            </a:br>
            <a:r>
              <a:rPr b="1" lang="ru-RU" sz="2800" spc="-1" strike="noStrike">
                <a:solidFill>
                  <a:srgbClr val="ffc000"/>
                </a:solidFill>
                <a:latin typeface="Arial Black"/>
              </a:rPr>
              <a:t> «Методический семинар» </a:t>
            </a:r>
            <a:br>
              <a:rPr sz="2800"/>
            </a:br>
            <a:r>
              <a:rPr b="1" lang="ru-RU" sz="2800" spc="-1" strike="noStrike">
                <a:solidFill>
                  <a:srgbClr val="ffc000"/>
                </a:solidFill>
                <a:latin typeface="Arial Black"/>
              </a:rPr>
              <a:t>в рамках конкурса</a:t>
            </a:r>
            <a:br>
              <a:rPr sz="2800"/>
            </a:br>
            <a:r>
              <a:rPr b="1" lang="ru-RU" sz="2800" spc="-1" strike="noStrike">
                <a:solidFill>
                  <a:srgbClr val="ffc000"/>
                </a:solidFill>
                <a:latin typeface="Arial Black"/>
              </a:rPr>
              <a:t> «Учитель года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1979640" y="3868560"/>
            <a:ext cx="56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ричук Н. А., учитель русского языка и литературы филиала МАОУ «Аромашевская СОШ им. В. Д. Кармацкого» Кротовская СО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46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7c9e98"/>
                </a:solidFill>
                <a:latin typeface="Bookman Old Style"/>
              </a:rPr>
              <a:t>Дизайн-петля-алгоритм проектной деятельности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2700360" y="981000"/>
            <a:ext cx="2951280" cy="914400"/>
          </a:xfrm>
          <a:prstGeom prst="rect">
            <a:avLst/>
          </a:prstGeom>
          <a:solidFill>
            <a:srgbClr val="7c9e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Шаг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Определ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отреб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4716360" y="1844640"/>
            <a:ext cx="2735280" cy="1944720"/>
          </a:xfrm>
          <a:custGeom>
            <a:avLst/>
            <a:gdLst>
              <a:gd name="textAreaLeft" fmla="*/ 400320 w 2735280"/>
              <a:gd name="textAreaRight" fmla="*/ 2334960 w 2735280"/>
              <a:gd name="textAreaTop" fmla="*/ 284760 h 1944720"/>
              <a:gd name="textAreaBottom" fmla="*/ 1659960 h 1944720"/>
            </a:gdLst>
            <a:ahLst/>
            <a:rect l="textAreaLeft" t="textAreaTop" r="textAreaRight" b="textAreaBottom"/>
            <a:pathLst>
              <a:path w="21600" h="21600">
                <a:moveTo>
                  <a:pt x="17767" y="12972"/>
                </a:moveTo>
                <a:cubicBezTo>
                  <a:pt x="17986" y="12269"/>
                  <a:pt x="18098" y="11536"/>
                  <a:pt x="18098" y="10800"/>
                </a:cubicBezTo>
                <a:cubicBezTo>
                  <a:pt x="18098" y="6769"/>
                  <a:pt x="14830" y="3502"/>
                  <a:pt x="10800" y="3502"/>
                </a:cubicBezTo>
                <a:cubicBezTo>
                  <a:pt x="10161" y="3501"/>
                  <a:pt x="9526" y="3585"/>
                  <a:pt x="8909" y="3751"/>
                </a:cubicBezTo>
                <a:lnTo>
                  <a:pt x="8002" y="368"/>
                </a:lnTo>
                <a:cubicBezTo>
                  <a:pt x="8914" y="123"/>
                  <a:pt x="9855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890"/>
                  <a:pt x="21434" y="12974"/>
                  <a:pt x="21110" y="14015"/>
                </a:cubicBezTo>
                <a:lnTo>
                  <a:pt x="23687" y="14819"/>
                </a:lnTo>
                <a:lnTo>
                  <a:pt x="18112" y="17743"/>
                </a:lnTo>
                <a:lnTo>
                  <a:pt x="15189" y="12168"/>
                </a:lnTo>
                <a:lnTo>
                  <a:pt x="17767" y="1297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6"/>
          <p:cNvSpPr/>
          <p:nvPr/>
        </p:nvSpPr>
        <p:spPr>
          <a:xfrm rot="5131800">
            <a:off x="4948200" y="2476440"/>
            <a:ext cx="1468440" cy="5246640"/>
          </a:xfrm>
          <a:custGeom>
            <a:avLst/>
            <a:gdLst>
              <a:gd name="textAreaLeft" fmla="*/ 214920 w 1468440"/>
              <a:gd name="textAreaRight" fmla="*/ 1253520 w 1468440"/>
              <a:gd name="textAreaTop" fmla="*/ 768240 h 5246640"/>
              <a:gd name="textAreaBottom" fmla="*/ 4478400 h 52466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8101"/>
                  <a:pt x="14208" y="5817"/>
                  <a:pt x="11535" y="5450"/>
                </a:cubicBezTo>
                <a:lnTo>
                  <a:pt x="12270" y="100"/>
                </a:lnTo>
                <a:cubicBezTo>
                  <a:pt x="17616" y="835"/>
                  <a:pt x="21599" y="5403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7"/>
          <p:cNvSpPr/>
          <p:nvPr/>
        </p:nvSpPr>
        <p:spPr>
          <a:xfrm rot="10800000">
            <a:off x="1066320" y="4191120"/>
            <a:ext cx="4800600" cy="2133360"/>
          </a:xfrm>
          <a:custGeom>
            <a:avLst/>
            <a:gdLst>
              <a:gd name="textAreaLeft" fmla="*/ 702720 w 4800600"/>
              <a:gd name="textAreaRight" fmla="*/ 4097880 w 4800600"/>
              <a:gd name="textAreaTop" fmla="*/ 312120 h 2133360"/>
              <a:gd name="textAreaBottom" fmla="*/ 1821240 h 2133360"/>
            </a:gdLst>
            <a:ahLst/>
            <a:rect l="textAreaLeft" t="textAreaTop" r="textAreaRight" b="textAreaBottom"/>
            <a:pathLst>
              <a:path w="21600" h="21600">
                <a:moveTo>
                  <a:pt x="18591" y="11811"/>
                </a:moveTo>
                <a:cubicBezTo>
                  <a:pt x="18635" y="11476"/>
                  <a:pt x="18657" y="11138"/>
                  <a:pt x="18657" y="10800"/>
                </a:cubicBezTo>
                <a:cubicBezTo>
                  <a:pt x="18657" y="6697"/>
                  <a:pt x="15500" y="3285"/>
                  <a:pt x="11411" y="2966"/>
                </a:cubicBezTo>
                <a:lnTo>
                  <a:pt x="11640" y="32"/>
                </a:lnTo>
                <a:cubicBezTo>
                  <a:pt x="17261" y="471"/>
                  <a:pt x="21600" y="5161"/>
                  <a:pt x="21600" y="10800"/>
                </a:cubicBezTo>
                <a:cubicBezTo>
                  <a:pt x="21600" y="11265"/>
                  <a:pt x="21569" y="11729"/>
                  <a:pt x="21510" y="12190"/>
                </a:cubicBezTo>
                <a:lnTo>
                  <a:pt x="24187" y="12538"/>
                </a:lnTo>
                <a:lnTo>
                  <a:pt x="19514" y="16138"/>
                </a:lnTo>
                <a:lnTo>
                  <a:pt x="15914" y="11464"/>
                </a:lnTo>
                <a:lnTo>
                  <a:pt x="18591" y="1181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8"/>
          <p:cNvSpPr/>
          <p:nvPr/>
        </p:nvSpPr>
        <p:spPr>
          <a:xfrm rot="15133200">
            <a:off x="594720" y="925200"/>
            <a:ext cx="2597400" cy="3429000"/>
          </a:xfrm>
          <a:custGeom>
            <a:avLst/>
            <a:gdLst>
              <a:gd name="textAreaLeft" fmla="*/ 380160 w 2597400"/>
              <a:gd name="textAreaRight" fmla="*/ 2217240 w 2597400"/>
              <a:gd name="textAreaTop" fmla="*/ 501840 h 3429000"/>
              <a:gd name="textAreaBottom" fmla="*/ 2927160 h 3429000"/>
            </a:gdLst>
            <a:ahLst/>
            <a:rect l="textAreaLeft" t="textAreaTop" r="textAreaRight" b="textAreaBottom"/>
            <a:pathLst>
              <a:path w="21600" h="21600">
                <a:moveTo>
                  <a:pt x="18757" y="13697"/>
                </a:moveTo>
                <a:cubicBezTo>
                  <a:pt x="19095" y="12769"/>
                  <a:pt x="19269" y="11788"/>
                  <a:pt x="19269" y="10800"/>
                </a:cubicBezTo>
                <a:cubicBezTo>
                  <a:pt x="19269" y="6528"/>
                  <a:pt x="16087" y="2925"/>
                  <a:pt x="11849" y="2396"/>
                </a:cubicBezTo>
                <a:lnTo>
                  <a:pt x="12138" y="83"/>
                </a:lnTo>
                <a:cubicBezTo>
                  <a:pt x="17543" y="758"/>
                  <a:pt x="21600" y="5352"/>
                  <a:pt x="21600" y="10800"/>
                </a:cubicBezTo>
                <a:cubicBezTo>
                  <a:pt x="21600" y="12060"/>
                  <a:pt x="21379" y="13311"/>
                  <a:pt x="20948" y="14495"/>
                </a:cubicBezTo>
                <a:lnTo>
                  <a:pt x="23485" y="15419"/>
                </a:lnTo>
                <a:lnTo>
                  <a:pt x="18531" y="17729"/>
                </a:lnTo>
                <a:lnTo>
                  <a:pt x="16220" y="12774"/>
                </a:lnTo>
                <a:lnTo>
                  <a:pt x="18757" y="13697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940360" y="765000"/>
            <a:ext cx="2979720" cy="916920"/>
          </a:xfrm>
          <a:prstGeom prst="rect">
            <a:avLst/>
          </a:prstGeom>
          <a:noFill/>
          <a:ln w="38160">
            <a:solidFill>
              <a:srgbClr val="7c9e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Исследование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зайн-анали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ществующих объек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4572000" y="2421000"/>
            <a:ext cx="2016000" cy="916920"/>
          </a:xfrm>
          <a:prstGeom prst="rect">
            <a:avLst/>
          </a:prstGeom>
          <a:noFill/>
          <a:ln w="38160">
            <a:solidFill>
              <a:srgbClr val="7c9e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Обознач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бован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объек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6948360" y="3505320"/>
            <a:ext cx="2016360" cy="916920"/>
          </a:xfrm>
          <a:prstGeom prst="rect">
            <a:avLst/>
          </a:prstGeom>
          <a:noFill/>
          <a:ln w="38160">
            <a:solidFill>
              <a:srgbClr val="7c9e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Выработ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оначаль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д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2432520" y="5300640"/>
            <a:ext cx="1997280" cy="368280"/>
          </a:xfrm>
          <a:prstGeom prst="rect">
            <a:avLst/>
          </a:prstGeom>
          <a:noFill/>
          <a:ln w="38160">
            <a:solidFill>
              <a:srgbClr val="7c9e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План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5238000" y="4581360"/>
            <a:ext cx="1788480" cy="368280"/>
          </a:xfrm>
          <a:prstGeom prst="rect">
            <a:avLst/>
          </a:prstGeom>
          <a:noFill/>
          <a:ln w="38160">
            <a:solidFill>
              <a:srgbClr val="7c9e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Анализ ид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6462720" y="5805360"/>
            <a:ext cx="2422440" cy="368280"/>
          </a:xfrm>
          <a:prstGeom prst="rect">
            <a:avLst/>
          </a:prstGeom>
          <a:noFill/>
          <a:ln w="38160">
            <a:solidFill>
              <a:srgbClr val="7c9e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Выбор одной иде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244800" y="4114800"/>
            <a:ext cx="1910520" cy="368280"/>
          </a:xfrm>
          <a:prstGeom prst="rect">
            <a:avLst/>
          </a:prstGeom>
          <a:noFill/>
          <a:ln w="28440">
            <a:solidFill>
              <a:srgbClr val="7c9e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Изгото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914760" y="2349360"/>
            <a:ext cx="2608560" cy="368280"/>
          </a:xfrm>
          <a:prstGeom prst="rect">
            <a:avLst/>
          </a:prstGeom>
          <a:noFill/>
          <a:ln w="28440">
            <a:solidFill>
              <a:srgbClr val="7c9e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Оценка (рефлекс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3452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Школа будущего - школа проектов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777744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Bookman Old Style"/>
              </a:rPr>
              <a:t>Проект многогранен, эффективен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Bookman Old Style"/>
              </a:rPr>
              <a:t>Проект перспективен.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Bookman Old Style"/>
              </a:rPr>
              <a:t>Проект неисчерпаем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Bookman Old Style"/>
              </a:rPr>
              <a:t>Проект - это метод обучения, который может быть использован в изучении любого предмета, может применяться на уроках и во внеклассной работе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Bookman Old Style"/>
              </a:rPr>
              <a:t>Ориентирован на достижение целей самих учащихся, и поэтому он уникален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Bookman Old Style"/>
              </a:rPr>
              <a:t>Проект формирует невероятно большое количество умений и навыков, и поэтому он эффективен.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Bookman Old Style"/>
              </a:rPr>
              <a:t>Проект дает необходимый школьникам опыт деятельности, и поэтому он незаменим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Bookman Old Style"/>
              </a:rPr>
              <a:t>Проект - это форма организации учебного процесса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Bookman Old Style"/>
              </a:rPr>
              <a:t>Проект - это особая философия образования: философия цели и деятельности, результатов и достижений, - далекая от формирования чисто теоретической образованности.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Bookman Old Style"/>
              </a:rPr>
              <a:t>Позволяет органично соединить несоединимое - ценностно-смысловые основы культуры и процесс деятельной социализации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53452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Bookman Old Style"/>
              </a:rPr>
              <a:t>Практическая применимость творческого проекта: открытый урок литературы «Тема бала в русской литературе»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788508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9216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Рисунок 3" descr="E:\DCIM\116___03\IMG_0003.JPG"/>
          <p:cNvPicPr/>
          <p:nvPr/>
        </p:nvPicPr>
        <p:blipFill>
          <a:blip r:embed="rId1"/>
          <a:stretch/>
        </p:blipFill>
        <p:spPr>
          <a:xfrm>
            <a:off x="1476360" y="1628640"/>
            <a:ext cx="67676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585280" cy="59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38120" indent="-438120">
              <a:lnSpc>
                <a:spcPct val="90000"/>
              </a:lnSpc>
              <a:spcBef>
                <a:spcPts val="799"/>
              </a:spcBef>
              <a:buClr>
                <a:srgbClr val="419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19995"/>
                </a:solidFill>
                <a:latin typeface="Calibri"/>
              </a:rPr>
              <a:t>Проектная деятельность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педагога и обучающихся представлена на муниципальных и областных конкурсах.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  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Рисунок 3" descr="E:\DCIM\116___03\IMG_0001.JPG"/>
          <p:cNvPicPr/>
          <p:nvPr/>
        </p:nvPicPr>
        <p:blipFill>
          <a:blip r:embed="rId1"/>
          <a:stretch/>
        </p:blipFill>
        <p:spPr>
          <a:xfrm>
            <a:off x="1116000" y="2565360"/>
            <a:ext cx="6840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хема 7" descr=""/>
          <p:cNvPicPr/>
          <p:nvPr/>
        </p:nvPicPr>
        <p:blipFill>
          <a:blip r:embed="rId1"/>
          <a:stretch/>
        </p:blipFill>
        <p:spPr>
          <a:xfrm>
            <a:off x="6480" y="-237960"/>
            <a:ext cx="9137520" cy="65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3"/>
          <p:cNvSpPr/>
          <p:nvPr/>
        </p:nvSpPr>
        <p:spPr>
          <a:xfrm>
            <a:off x="165240" y="404640"/>
            <a:ext cx="8785080" cy="9144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57240">
            <a:solidFill>
              <a:srgbClr val="6f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419995"/>
                </a:solidFill>
                <a:latin typeface="Monotype Corsiva"/>
              </a:rPr>
              <a:t>Виды проектов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55600" y="1989000"/>
            <a:ext cx="8713800" cy="91440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исследовательски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142920" y="3271680"/>
            <a:ext cx="8785080" cy="9144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информационны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184320" y="4724280"/>
            <a:ext cx="8785080" cy="825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ТВОРЧЕСКИ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4"/>
          <p:cNvSpPr/>
          <p:nvPr/>
        </p:nvSpPr>
        <p:spPr>
          <a:xfrm>
            <a:off x="179280" y="189000"/>
            <a:ext cx="8713800" cy="91440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исследовательски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24000" y="119700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главной целью явля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выдвижение и проверка гипотезы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 использованием современных </a:t>
            </a: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научных методов</a:t>
            </a: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0" y="2637000"/>
            <a:ext cx="8785080" cy="9144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информационны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79280" y="350028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акцент поставлен на </a:t>
            </a: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работу с информаци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и презентацию продукта</a:t>
            </a: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9"/>
          <p:cNvSpPr/>
          <p:nvPr/>
        </p:nvSpPr>
        <p:spPr>
          <a:xfrm>
            <a:off x="179280" y="4508640"/>
            <a:ext cx="8785440" cy="93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ТВОРЧЕСКИ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179280" y="551664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роект, центром которого явля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творческий продукт </a:t>
            </a:r>
            <a:r>
              <a:rPr b="1" lang="ru-RU" sz="2400" spc="-1" strike="noStrike">
                <a:solidFill>
                  <a:srgbClr val="419995"/>
                </a:solidFill>
                <a:latin typeface="Bookman Old Style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результат самореализации  частников проектной груп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Схема 1" descr=""/>
          <p:cNvPicPr/>
          <p:nvPr/>
        </p:nvPicPr>
        <p:blipFill>
          <a:blip r:embed="rId1"/>
          <a:stretch/>
        </p:blipFill>
        <p:spPr>
          <a:xfrm>
            <a:off x="133200" y="0"/>
            <a:ext cx="909648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52280" y="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ЛИЗАЦИЯ КРАЕВЕДЧЕСКИХ ПРОЕК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61920" y="1052640"/>
          <a:ext cx="7345440" cy="5211720"/>
        </p:xfrm>
        <a:graphic>
          <a:graphicData uri="http://schemas.openxmlformats.org/drawingml/2006/table">
            <a:tbl>
              <a:tblPr/>
              <a:tblGrid>
                <a:gridCol w="2192400"/>
                <a:gridCol w="1581120"/>
                <a:gridCol w="1579680"/>
                <a:gridCol w="19922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АСТН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ОВ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Твои люди – село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учающиеся 7 клас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ябрь 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ко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знес-план проекта «Макулатур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ызгалова Т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ябрь 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йонн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урс творческих работ «Моя малая Родин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ызгалова Т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прель 20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зёр муниципального этап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урс «Символы региона»  номинация «Лучшее сочинение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селкова Ю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ябрь 20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ник областного этап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к мужества «Герой бессмертной батаре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учающиеся 8 класс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ябрь 2018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бедитель муниципального этап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900000" y="549360"/>
          <a:ext cx="7272360" cy="5400720"/>
        </p:xfrm>
        <a:graphic>
          <a:graphicData uri="http://schemas.openxmlformats.org/drawingml/2006/table">
            <a:tbl>
              <a:tblPr/>
              <a:tblGrid>
                <a:gridCol w="1932120"/>
                <a:gridCol w="1523880"/>
                <a:gridCol w="1524240"/>
                <a:gridCol w="2292120"/>
              </a:tblGrid>
              <a:tr h="367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АСТН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ОВ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ературно-музыкальная композиция о В. Бело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учающиеся 7-11 класс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ябрь 20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зёры муниципального уров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Узнай героя земляка»  герой Советского Союза Пётр Марчу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рамюк И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т 20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зёр муниципального уров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Символы региона»  В. Дерябкин – поэ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рамюк И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ябрь 201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ник муниципального этап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Узнай героя земляка» видеофильм о героях Аромашевского район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рамюк И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ябрь 20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зёр муниципального уров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Равнобедренный треугольник 1"/>
          <p:cNvSpPr/>
          <p:nvPr/>
        </p:nvSpPr>
        <p:spPr>
          <a:xfrm>
            <a:off x="0" y="333360"/>
            <a:ext cx="6588000" cy="60930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2744640" y="880920"/>
            <a:ext cx="120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ЖИДАЕМЫЙ РЕЗУЛЬТ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ая соединительная линия 9"/>
          <p:cNvSpPr/>
          <p:nvPr/>
        </p:nvSpPr>
        <p:spPr>
          <a:xfrm>
            <a:off x="468360" y="5732640"/>
            <a:ext cx="570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Прямая соединительная линия 14"/>
          <p:cNvSpPr/>
          <p:nvPr/>
        </p:nvSpPr>
        <p:spPr>
          <a:xfrm>
            <a:off x="1258920" y="4221000"/>
            <a:ext cx="417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Правая фигурная скобка 16"/>
          <p:cNvSpPr/>
          <p:nvPr/>
        </p:nvSpPr>
        <p:spPr>
          <a:xfrm>
            <a:off x="5148360" y="4221000"/>
            <a:ext cx="1439640" cy="1511640"/>
          </a:xfrm>
          <a:custGeom>
            <a:avLst/>
            <a:gdLst>
              <a:gd name="textAreaLeft" fmla="*/ 0 w 1439640"/>
              <a:gd name="textAreaRight" fmla="*/ 519840 w 1439640"/>
              <a:gd name="textAreaTop" fmla="*/ 37440 h 1511640"/>
              <a:gd name="textAreaBottom" fmla="*/ 1474200 h 151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58"/>
                  <a:pt x="10800" y="1715"/>
                </a:cubicBezTo>
                <a:lnTo>
                  <a:pt x="10800" y="9085"/>
                </a:lnTo>
                <a:cubicBezTo>
                  <a:pt x="10800" y="9943"/>
                  <a:pt x="16200" y="10800"/>
                  <a:pt x="21600" y="10800"/>
                </a:cubicBezTo>
                <a:cubicBezTo>
                  <a:pt x="16200" y="10800"/>
                  <a:pt x="10800" y="11658"/>
                  <a:pt x="10800" y="12515"/>
                </a:cubicBezTo>
                <a:lnTo>
                  <a:pt x="10800" y="19885"/>
                </a:lnTo>
                <a:cubicBezTo>
                  <a:pt x="10800" y="20743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6804000" y="4365720"/>
            <a:ext cx="2089080" cy="368280"/>
          </a:xfrm>
          <a:prstGeom prst="rect">
            <a:avLst/>
          </a:prstGeom>
          <a:solidFill>
            <a:srgbClr val="5e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ЧНОСТ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Правая фигурная скобка 18"/>
          <p:cNvSpPr/>
          <p:nvPr/>
        </p:nvSpPr>
        <p:spPr>
          <a:xfrm>
            <a:off x="6048360" y="5699160"/>
            <a:ext cx="1116000" cy="727200"/>
          </a:xfrm>
          <a:custGeom>
            <a:avLst/>
            <a:gdLst>
              <a:gd name="textAreaLeft" fmla="*/ 0 w 1116000"/>
              <a:gd name="textAreaRight" fmla="*/ 402840 w 1116000"/>
              <a:gd name="textAreaTop" fmla="*/ 18720 h 727200"/>
              <a:gd name="textAreaBottom" fmla="*/ 708480 h 72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21"/>
          <p:cNvSpPr/>
          <p:nvPr/>
        </p:nvSpPr>
        <p:spPr>
          <a:xfrm>
            <a:off x="7164360" y="5732640"/>
            <a:ext cx="1871640" cy="368280"/>
          </a:xfrm>
          <a:prstGeom prst="rect">
            <a:avLst/>
          </a:prstGeom>
          <a:solidFill>
            <a:srgbClr val="5e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МЕТ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Прямая соединительная линия 24"/>
          <p:cNvSpPr/>
          <p:nvPr/>
        </p:nvSpPr>
        <p:spPr>
          <a:xfrm>
            <a:off x="2340000" y="2205000"/>
            <a:ext cx="20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Правая фигурная скобка 30"/>
          <p:cNvSpPr/>
          <p:nvPr/>
        </p:nvSpPr>
        <p:spPr>
          <a:xfrm>
            <a:off x="4356000" y="2205000"/>
            <a:ext cx="1725840" cy="2016000"/>
          </a:xfrm>
          <a:custGeom>
            <a:avLst/>
            <a:gdLst>
              <a:gd name="textAreaLeft" fmla="*/ 0 w 1725840"/>
              <a:gd name="textAreaRight" fmla="*/ 623160 w 1725840"/>
              <a:gd name="textAreaTop" fmla="*/ 45000 h 2016000"/>
              <a:gd name="textAreaBottom" fmla="*/ 197100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1"/>
                  <a:pt x="10800" y="1541"/>
                </a:cubicBezTo>
                <a:lnTo>
                  <a:pt x="10800" y="9259"/>
                </a:lnTo>
                <a:cubicBezTo>
                  <a:pt x="10800" y="10030"/>
                  <a:pt x="16200" y="10800"/>
                  <a:pt x="21600" y="10800"/>
                </a:cubicBezTo>
                <a:cubicBezTo>
                  <a:pt x="16200" y="10800"/>
                  <a:pt x="10800" y="11571"/>
                  <a:pt x="10800" y="12341"/>
                </a:cubicBezTo>
                <a:lnTo>
                  <a:pt x="10800" y="20059"/>
                </a:lnTo>
                <a:cubicBezTo>
                  <a:pt x="10800" y="2083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31"/>
          <p:cNvSpPr/>
          <p:nvPr/>
        </p:nvSpPr>
        <p:spPr>
          <a:xfrm>
            <a:off x="5867280" y="3008160"/>
            <a:ext cx="2521080" cy="368280"/>
          </a:xfrm>
          <a:prstGeom prst="rect">
            <a:avLst/>
          </a:prstGeom>
          <a:solidFill>
            <a:srgbClr val="5e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ПРЕДМЕТ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35"/>
          <p:cNvSpPr/>
          <p:nvPr/>
        </p:nvSpPr>
        <p:spPr>
          <a:xfrm>
            <a:off x="1258920" y="422100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- САМОУВАЖЕНИЕ И САМООЦЕНКА;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- МОТИВАЦИЯ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- СПОСОБНОСТЬ К РЕШЕНИЮ ПРОБЛ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38"/>
          <p:cNvSpPr/>
          <p:nvPr/>
        </p:nvSpPr>
        <p:spPr>
          <a:xfrm>
            <a:off x="557280" y="5780160"/>
            <a:ext cx="549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ПЫТ ПО ПОЛУЧЕНИЮ, ПРЕОБРАЗОВАНИЮ И ПРИМЕНЕНИЮ НОВОГО ЗНА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39"/>
          <p:cNvSpPr/>
          <p:nvPr/>
        </p:nvSpPr>
        <p:spPr>
          <a:xfrm>
            <a:off x="2093760" y="2344680"/>
            <a:ext cx="2946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ИНИАЦИАТИВНОСТЬ И САМОСТОЯТЕЛЬНОСТЬ;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- РЕЧЕВАЯ ДЕЯТЕЛЬНОСТЬ;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- СРАВНЕНИЕ, АНАЛИЗ, ОБОБЩЕНИЕ, КЛАССИФИКАЦИЯ, УСТАНОВЛЕНИЯ АНАЛОГИЙ, ПОДВЕДЕНИЯ ПОД ПОНЯТ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79280" y="189000"/>
          <a:ext cx="8640720" cy="6226200"/>
        </p:xfrm>
        <a:graphic>
          <a:graphicData uri="http://schemas.openxmlformats.org/drawingml/2006/table">
            <a:tbl>
              <a:tblPr/>
              <a:tblGrid>
                <a:gridCol w="3130560"/>
                <a:gridCol w="2028960"/>
                <a:gridCol w="3481200"/>
              </a:tblGrid>
              <a:tr h="731880"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19995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lang="ru-RU" sz="2400" spc="-1" strike="noStrike">
                          <a:solidFill>
                            <a:srgbClr val="419995"/>
                          </a:solidFill>
                          <a:latin typeface="Arial"/>
                          <a:ea typeface="Times New Roman"/>
                        </a:rPr>
                        <a:t>Практическая направленност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040">
                <a:tc>
                  <a:txBody>
                    <a:bodyPr lIns="0" rIns="0" tIns="0" bIns="0" anchor="ctr">
                      <a:noAutofit/>
                    </a:bodyPr>
                    <a:p>
                      <a:pPr marL="954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54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, ПРЕЗЕНТАЦИЯ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54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54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54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ы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54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ЕТЕН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1480">
                <a:tc>
                  <a:txBody>
                    <a:bodyPr lIns="0" rIns="0" tIns="0" bIns="0" anchor="ctr">
                      <a:noAutofit/>
                    </a:bodyPr>
                    <a:p>
                      <a:pPr marL="954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ллюстрирование текста, составление сценария, опорной схемы, кластера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54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овая, индивидуальн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мение выделять главную мысль, вести поиск новой информации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ализировать информацию, делать обобщения и выводы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;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ходить не одно, а много вариантов решения проблемы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0" rIns="0" tIns="0" bIns="0" anchor="ctr">
                      <a:noAutofit/>
                    </a:bodyPr>
                    <a:p>
                      <a:pPr marL="954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здание видеофильма, презентации, буклета, стенгазе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ьная, группов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54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мение работать со справочным материалом, находить не одно, а много вариантов решения пробле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9680">
                <a:tc>
                  <a:txBody>
                    <a:bodyPr lIns="0" rIns="0" tIns="0" bIns="0" anchor="ctr">
                      <a:noAutofit/>
                    </a:bodyPr>
                    <a:p>
                      <a:pPr marL="954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пуск школьной газеты «Голос школы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ов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мения работать с информацие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мение выделять главную мысль, вести поиск новой информации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05:23:28Z</dcterms:created>
  <dc:creator>Anton</dc:creator>
  <dc:description/>
  <dc:language>en-US</dc:language>
  <cp:lastModifiedBy>школа</cp:lastModifiedBy>
  <dcterms:modified xsi:type="dcterms:W3CDTF">2021-03-11T12:45:05Z</dcterms:modified>
  <cp:revision>57</cp:revision>
  <dc:subject/>
  <dc:title>ПРОЕКТНАЯ ДЕЯТЕЛЬНОСТЬ УЧАЩИХСЯ</dc:title>
</cp:coreProperties>
</file>