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953F-BEEA-43BE-A0FB-0B85DDC6B5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1CB1-D821-41B1-BDE2-3FBFCA4273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D4BD-F1CD-4A79-8ABD-DD84A48801EF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4A2-694A-4602-8953-6BB7A9154A4C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C75B-B86D-4137-86A5-193415991A83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E66E-BC69-40A5-AC9A-20FAED60CF41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BF3C-C31D-4BEE-8C0F-4B479605C333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AF49-C0BB-4543-B8C2-45583FE65426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9446-D6E6-41FA-8E61-B67ADD1AA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D3ED-6157-4191-A627-F1BA87551D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162B-3FA3-4467-8270-A9631F59FC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615B-32E0-40D3-A78C-9C3913535309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343-85EB-44DB-846E-8203A798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FA7-5FA3-44D1-B49C-61B4A54A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5B0-19F3-4782-80D1-B92C4418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2CF-090D-4A44-AC4F-11BA2F3A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7999-5D0E-4E42-A03B-503114F2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B21B-A1E0-43D9-BA8D-9D5BA0F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9E73-8CB8-42AE-9CF3-AAEBA1D3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E4C5-AC96-408E-A5E7-3602B458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BFC9-0EEF-40C1-B920-593CB612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22F9-12ED-46F7-918D-63E8A53B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074B-4500-4056-8D7C-2432F43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537-9BAC-47EC-A13C-8FE8A365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2310-3EFC-4EF9-8EDC-B363EC5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B4D0-A809-4F9B-97B7-C12E6583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FE35-2B94-4BE4-B485-BF71BF28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8D20-EF48-4DC7-9D58-DA98E633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E333-3015-41B9-B57A-292DCE20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905A-CA09-4C0A-B1C1-7A6EDD91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A456-DEAF-4631-9A4A-BEE4886D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6310-C824-47FD-A35A-70E8A0BA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0B6B-9254-4009-ABD7-5A3C9E40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5A5B-9E6D-4E89-A260-2ADB6293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41B-1256-40F6-BD6B-BA1B6428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4D0B-433C-4338-BB1F-F7C7AD14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D3E5-1F76-4D29-A3C2-920F184D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1582-B66B-4F39-BF3C-2C07C0C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47B1-8A0A-48E4-B740-5A396C0B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07E4C-67CD-4339-8505-96C26250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9EA3-E604-49D4-9D8A-84AF361A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1750-E020-4B5A-BC7D-AC6AC0ED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859E-C7D2-4DC5-83CD-62DEBDC9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6B63-825D-44B8-9D92-1A041846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03FE-DEA1-4C18-9D3B-EF5C8DDC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C3E-396B-4954-A9C8-FB9B1317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8DCCB-153D-47AB-A383-5F7E5A28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2F13-65C1-4691-B4FF-C71CC9C3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F91D-E0C0-4CB9-8663-48C492C3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7E00-A8FE-4B76-A20F-161BA3E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64F7-233C-475E-A419-58A4D28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9BB5-1942-428B-9453-2748F60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6108-BA46-4350-8145-EA4BDC76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CE047-0EC1-4876-8BC2-509046C3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2D1F-D9F2-4E46-9203-6C968566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E813-EEED-44D4-BA67-AE2F2338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D54-F4C8-425D-B30A-F3C9FDCF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F4AB-B21C-4D93-8DA1-922478A3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ED54-207B-477B-B063-FAD45C64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13B33-510D-4C49-A2DB-B5A3BB5F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36FDB-C2C1-4BD0-BF2D-C11E1D16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5C805-65CE-483C-9B70-47A5E54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3CE7-F791-43D7-A0A5-2FECE2E0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CE974-AE95-479D-A603-A1F8305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61C54-DE01-42F4-BF93-288C9D91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91E1F-0960-46E7-B2C0-AABEE10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6F607-9E35-47A2-BE1B-4A9DA1BF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A60-6BE9-4275-AAB7-F0B95915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8FAA-9B81-43B6-945D-9B6A9155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893F1-BCAA-44D9-835A-148AE67F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AE460-B013-4CFE-8E9C-A13F9149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7A89-2EDC-444B-8477-B1AEA0A5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85C1-233D-4BA0-86B4-D905A592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633FB-302A-40AD-A6C6-D5861841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5E270-297F-4347-94EF-249D12CC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82E7A-DFE5-4EE5-9B61-D316622F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6B0AC-1422-47BC-9D9F-B6128473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8B5C2-F1D2-45AD-B57F-98A03EA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E4E-224D-4922-AFB1-6218F5A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642A-BA12-483E-AEFC-E19DA937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1B8AC-0F47-4153-AE30-AF35D1C8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21A5-4E0F-4BC1-8B5A-57E05784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7A4-827B-4836-B2B8-DE66512E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88D-6EBE-43A1-AF1D-BBA5520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24DF-FBCF-44CF-9777-FD8C6BB9AD83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8289-A482-4ED0-83F1-527603AEE2F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9B3A-726A-4BC0-891D-9E4F785DBDE5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DB3-CA6A-4D8C-B5BE-A32230D5560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1AD-5291-4179-AD7A-26DA97017DC4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E15A-8C3F-47E6-B2C7-87333A2054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1C14-F266-417C-95B1-DD040D5C7005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71F3-D92D-4B80-A2DE-7DD4C3BABC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D070-AAD7-4FF4-8937-7B1B1AD22274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4E88-B983-4E0C-8006-9ECFAB3EFFA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08CD-4D6B-4C12-995E-D21358FA3A77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61E2-EE10-4878-A52B-05DDF58B4D8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0C51-E53A-4F6C-9471-B8521D879563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Group 15"/>
          <p:cNvGrpSpPr/>
          <p:nvPr/>
        </p:nvGrpSpPr>
        <p:grpSpPr>
          <a:xfrm>
            <a:off x="61920" y="12600"/>
            <a:ext cx="9082080" cy="824040"/>
            <a:chOff x="61920" y="12600"/>
            <a:chExt cx="9082080" cy="824040"/>
          </a:xfrm>
        </p:grpSpPr>
        <p:sp>
          <p:nvSpPr>
            <p:cNvPr id="325" name="Text Box 16"/>
            <p:cNvSpPr/>
            <p:nvPr/>
          </p:nvSpPr>
          <p:spPr>
            <a:xfrm>
              <a:off x="971640" y="44280"/>
              <a:ext cx="8137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юменский областной государственный институт развития регионального образования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>
              <a:off x="1258920" y="404640"/>
              <a:ext cx="788508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Picture 18" descr="логотип"/>
            <p:cNvPicPr/>
            <p:nvPr/>
          </p:nvPicPr>
          <p:blipFill>
            <a:blip r:embed="rId1"/>
            <a:stretch/>
          </p:blipFill>
          <p:spPr>
            <a:xfrm>
              <a:off x="61920" y="12600"/>
              <a:ext cx="10540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Line 19"/>
            <p:cNvSpPr/>
            <p:nvPr/>
          </p:nvSpPr>
          <p:spPr>
            <a:xfrm>
              <a:off x="1547640" y="476280"/>
              <a:ext cx="759636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Прямоугольник 1"/>
          <p:cNvSpPr/>
          <p:nvPr/>
        </p:nvSpPr>
        <p:spPr>
          <a:xfrm>
            <a:off x="971640" y="83664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оектирование ООП ООО: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ограмма воспитания и социал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3708360" y="57150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йзуллина Алсу Рафаэл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цент, к.пед.н.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u_faisullina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"/>
          <p:cNvSpPr/>
          <p:nvPr/>
        </p:nvSpPr>
        <p:spPr>
          <a:xfrm rot="20880600">
            <a:off x="211320" y="3626280"/>
            <a:ext cx="83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Знания без воспитания – меч в руках сумасшедш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. И. Менделе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6"/>
          <p:cNvSpPr/>
          <p:nvPr/>
        </p:nvSpPr>
        <p:spPr>
          <a:xfrm>
            <a:off x="500040" y="214200"/>
            <a:ext cx="810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  <a:ea typeface="Arial"/>
              </a:rPr>
              <a:t>2.3.5.</a:t>
            </a:r>
            <a:r>
              <a:rPr b="1" lang="en-US" sz="1800" spc="-1" strike="noStrike">
                <a:solidFill>
                  <a:srgbClr val="0070c0"/>
                </a:solidFill>
                <a:latin typeface="Comic Sans MS"/>
                <a:ea typeface="Arial"/>
              </a:rPr>
              <a:t> </a:t>
            </a: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Этапы организации работы в системе социального воспитания в рамках образовательного учреждения, совместной деятельности образовательного учреждения с предприятиями, общественными организациями, в том числе с системой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928800" y="1643040"/>
            <a:ext cx="724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2.3.6.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 Основные формы организации педагогической поддержки социализации обучающихся по каждому из направлений с учётом урочной и внеурочной деятельности, а также формы участия специалистов и социальных партнёров по направлениям социального воспитания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1071720" y="3071880"/>
            <a:ext cx="7819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3.7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дели организации работы по формированию экологически целесообразного, здорового и безопасного образа жизни, включающие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рациональную организацию учебно-воспитательного процесса и образовательной сре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организацию  физкультурно-спортивной и оздоровительной работ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рофилактику употребления психоактивных веществ обучающимис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рофилактику детского дорожно-транспортного травматизма, организацию системы просветительской и методической работы с участникам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52f74"/>
                </a:solidFill>
                <a:uFillTx/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4B2F-30F1-4490-B479-1B82A4E1330F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Выгнутая влево стрелка 12"/>
          <p:cNvSpPr/>
          <p:nvPr/>
        </p:nvSpPr>
        <p:spPr>
          <a:xfrm>
            <a:off x="142920" y="4214880"/>
            <a:ext cx="714240" cy="1930320"/>
          </a:xfrm>
          <a:custGeom>
            <a:avLst/>
            <a:gdLst>
              <a:gd name="textAreaLeft" fmla="*/ 95400 w 714240"/>
              <a:gd name="textAreaRight" fmla="*/ 618840 w 714240"/>
              <a:gd name="textAreaTop" fmla="*/ 415440 h 1930320"/>
              <a:gd name="textAreaBottom" fmla="*/ 1425600 h 193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01" stAng="-5400000" swAng="-5400000"/>
                <a:lnTo>
                  <a:pt x="0" y="11300"/>
                </a:lnTo>
                <a:arcTo wR="21600" hR="9301" stAng="10800000" swAng="-3543127"/>
                <a:lnTo>
                  <a:pt x="16200" y="21305"/>
                </a:lnTo>
                <a:lnTo>
                  <a:pt x="21600" y="19602"/>
                </a:lnTo>
                <a:lnTo>
                  <a:pt x="16200" y="17308"/>
                </a:lnTo>
                <a:lnTo>
                  <a:pt x="16200" y="18307"/>
                </a:lnTo>
                <a:arcTo wR="21600" hR="9301" stAng="7256873" swAng="3383241"/>
                <a:lnTo>
                  <a:pt x="125" y="10300"/>
                </a:lnTo>
                <a:arcTo wR="21600" hR="9301" stAng="-10640113" swAng="5240113"/>
                <a:close/>
              </a:path>
              <a:path fill="darkenLess" w="21600" h="21600">
                <a:moveTo>
                  <a:pt x="21600" y="0"/>
                </a:moveTo>
                <a:arcTo wR="21600" hR="9301" stAng="-5400000" swAng="-5400000"/>
                <a:lnTo>
                  <a:pt x="0" y="9301"/>
                </a:lnTo>
                <a:arcTo wR="21600" hR="9301" stAng="10800000" swAng="-159887"/>
                <a:lnTo>
                  <a:pt x="125" y="10300"/>
                </a:lnTo>
                <a:arcTo wR="21600" hR="9301" stAng="-10640113" swAng="5240113"/>
                <a:close/>
              </a:path>
            </a:pathLst>
          </a:custGeom>
          <a:solidFill>
            <a:srgbClr val="00b0f0"/>
          </a:solidFill>
          <a:ln w="15840">
            <a:solidFill>
              <a:srgbClr val="60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Левая фигурная скобка 13"/>
          <p:cNvSpPr/>
          <p:nvPr/>
        </p:nvSpPr>
        <p:spPr>
          <a:xfrm>
            <a:off x="714240" y="4071960"/>
            <a:ext cx="389160" cy="2000160"/>
          </a:xfrm>
          <a:custGeom>
            <a:avLst/>
            <a:gdLst>
              <a:gd name="textAreaLeft" fmla="*/ 248760 w 389160"/>
              <a:gd name="textAreaRight" fmla="*/ 389520 w 38916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285840" y="500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mic Sans MS"/>
                <a:ea typeface="Arial"/>
              </a:rPr>
              <a:t>2.3.</a:t>
            </a:r>
            <a:r>
              <a:rPr b="1" lang="ru-RU" sz="1800" spc="-1" strike="noStrike">
                <a:solidFill>
                  <a:srgbClr val="c00000"/>
                </a:solidFill>
                <a:latin typeface="Comic Sans MS"/>
                <a:ea typeface="Arial"/>
              </a:rPr>
              <a:t>8</a:t>
            </a:r>
            <a:r>
              <a:rPr b="1" lang="en-US" sz="1800" spc="-1" strike="noStrike">
                <a:solidFill>
                  <a:srgbClr val="c00000"/>
                </a:solidFill>
                <a:latin typeface="Comic Sans MS"/>
                <a:ea typeface="Arial"/>
              </a:rPr>
              <a:t>. </a:t>
            </a: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 Описание деятельности образовательного учреждения в области непрерывного экологического здоровьесберегающего образования обучающихся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285840" y="157176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2.3.9. 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Система поощрения социальной успешности и проявлений активной жизненной позици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285840" y="2500200"/>
            <a:ext cx="86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2.3.10.</a:t>
            </a:r>
            <a:r>
              <a:rPr b="1" lang="en-US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Критерии, показатели эффективности деятельности образовательного учреждения в части духовно-нравственного развития, воспитания и социализации обучающихся, формирования здорового и безопасного образа жизни и экологической культуры обучающих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357120" y="407196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c66bb"/>
                </a:solidFill>
                <a:latin typeface="Comic Sans MS"/>
                <a:ea typeface="Arial"/>
              </a:rPr>
              <a:t>2.3.11.</a:t>
            </a:r>
            <a:r>
              <a:rPr b="1" lang="en-US" sz="1800" spc="-1" strike="noStrike">
                <a:solidFill>
                  <a:srgbClr val="ac66bb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ac66bb"/>
                </a:solidFill>
                <a:latin typeface="Comic Sans MS"/>
                <a:ea typeface="Arial"/>
              </a:rPr>
              <a:t>М</a:t>
            </a:r>
            <a:r>
              <a:rPr b="1" lang="ru-RU" sz="1800" spc="-1" strike="noStrike">
                <a:solidFill>
                  <a:srgbClr val="ac66bb"/>
                </a:solidFill>
                <a:latin typeface="Comic Sans MS"/>
              </a:rPr>
              <a:t>етодика и инструментарий мониторинга духовно-нравственного развития, воспитания и социализаци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357120" y="507204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.3.12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Планируемые результаты духовно-нравственного развития, воспитания и социализации обучающихся, формирования экологической культуры, культуры здорового и безопасного образа жизн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94B6-F8AB-4337-9EB2-B0CD9182B9A6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12840" y="69228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2.3.1.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Цель и задачи воспитания и социализ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714240" y="12859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 </a:t>
            </a:r>
            <a:r>
              <a:rPr b="1" lang="ru-RU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требования ФГОС - Концепция духовно-нравственного развития и воспитания личности гражданина России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1291680" y="3071880"/>
            <a:ext cx="73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omic Sans MS"/>
                <a:ea typeface="Arial"/>
              </a:rPr>
              <a:t>ценностные ориентиры – система базов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  <a:ea typeface="Arial"/>
              </a:rPr>
              <a:t>национальных цен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1500120" y="48578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b13f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Comic Sans MS"/>
                <a:ea typeface="Arial"/>
              </a:rPr>
              <a:t> </a:t>
            </a:r>
            <a:r>
              <a:rPr b="1" lang="ru-RU" sz="2400" spc="-1" strike="noStrike">
                <a:solidFill>
                  <a:srgbClr val="b13f9a"/>
                </a:solidFill>
                <a:latin typeface="Comic Sans MS"/>
                <a:ea typeface="Arial"/>
              </a:rPr>
              <a:t>требования к целевым ориентир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Выгнутая вправо стрелка 1"/>
          <p:cNvSpPr/>
          <p:nvPr/>
        </p:nvSpPr>
        <p:spPr>
          <a:xfrm>
            <a:off x="7862760" y="1428840"/>
            <a:ext cx="730440" cy="1214280"/>
          </a:xfrm>
          <a:custGeom>
            <a:avLst/>
            <a:gdLst>
              <a:gd name="textAreaLeft" fmla="*/ 97560 w 730440"/>
              <a:gd name="textAreaRight" fmla="*/ 632880 w 730440"/>
              <a:gd name="textAreaTop" fmla="*/ 235080 h 1214280"/>
              <a:gd name="textAreaBottom" fmla="*/ 88812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5" stAng="-5400000" swAng="5400000"/>
                <a:lnTo>
                  <a:pt x="21600" y="11613"/>
                </a:lnTo>
                <a:arcTo wR="21600" hR="8365" stAng="0" swAng="3378379"/>
                <a:lnTo>
                  <a:pt x="5400" y="21334"/>
                </a:lnTo>
                <a:lnTo>
                  <a:pt x="0" y="18353"/>
                </a:lnTo>
                <a:lnTo>
                  <a:pt x="5400" y="14840"/>
                </a:lnTo>
                <a:lnTo>
                  <a:pt x="5400" y="16463"/>
                </a:lnTo>
                <a:arcTo wR="21600" hR="8365" stAng="3378379" swAng="-3115412"/>
                <a:lnTo>
                  <a:pt x="21189" y="9989"/>
                </a:lnTo>
                <a:arcTo wR="21600" hR="8365" stAng="-262967" swAng="-5137033"/>
                <a:close/>
              </a:path>
              <a:path fill="darkenLess" w="21600" h="21600">
                <a:moveTo>
                  <a:pt x="0" y="0"/>
                </a:moveTo>
                <a:arcTo wR="21600" hR="8365" stAng="-5400000" swAng="5400000"/>
                <a:lnTo>
                  <a:pt x="21600" y="11613"/>
                </a:lnTo>
                <a:arcTo wR="21600" hR="8365" stAng="0" swAng="-262967"/>
                <a:lnTo>
                  <a:pt x="21189" y="9989"/>
                </a:lnTo>
                <a:arcTo wR="21600" hR="8365" stAng="-262967" swAng="-5137033"/>
                <a:close/>
              </a:path>
            </a:pathLst>
          </a:custGeom>
          <a:solidFill>
            <a:srgbClr val="7030a0"/>
          </a:solidFill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Выгнутая вправо стрелка 6"/>
          <p:cNvSpPr/>
          <p:nvPr/>
        </p:nvSpPr>
        <p:spPr>
          <a:xfrm>
            <a:off x="8042400" y="4643280"/>
            <a:ext cx="731880" cy="121464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4640"/>
              <a:gd name="textAreaBottom" fmla="*/ 88812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0" stAng="-5400000" swAng="5400000"/>
                <a:lnTo>
                  <a:pt x="21600" y="11614"/>
                </a:lnTo>
                <a:arcTo wR="21600" hR="8360" stAng="0" swAng="3377430"/>
                <a:lnTo>
                  <a:pt x="5400" y="21335"/>
                </a:lnTo>
                <a:lnTo>
                  <a:pt x="0" y="18346"/>
                </a:lnTo>
                <a:lnTo>
                  <a:pt x="5400" y="14827"/>
                </a:lnTo>
                <a:lnTo>
                  <a:pt x="5400" y="16454"/>
                </a:lnTo>
                <a:arcTo wR="21600" hR="8360" stAng="3377430" swAng="-3113954"/>
                <a:lnTo>
                  <a:pt x="21187" y="9987"/>
                </a:lnTo>
                <a:arcTo wR="21600" hR="8360" stAng="-263476" swAng="-5136524"/>
                <a:close/>
              </a:path>
              <a:path fill="darkenLess" w="21600" h="21600">
                <a:moveTo>
                  <a:pt x="0" y="0"/>
                </a:moveTo>
                <a:arcTo wR="21600" hR="8360" stAng="-5400000" swAng="5400000"/>
                <a:lnTo>
                  <a:pt x="21600" y="11614"/>
                </a:lnTo>
                <a:arcTo wR="21600" hR="8360" stAng="0" swAng="-263476"/>
                <a:lnTo>
                  <a:pt x="21187" y="9987"/>
                </a:lnTo>
                <a:arcTo wR="21600" hR="8360" stAng="-263476" swAng="-5136524"/>
                <a:close/>
              </a:path>
            </a:pathLst>
          </a:custGeom>
          <a:solidFill>
            <a:srgbClr val="7030a0"/>
          </a:solidFill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Выгнутая вправо стрелка 7"/>
          <p:cNvSpPr/>
          <p:nvPr/>
        </p:nvSpPr>
        <p:spPr>
          <a:xfrm>
            <a:off x="8211960" y="3002040"/>
            <a:ext cx="731880" cy="1355760"/>
          </a:xfrm>
          <a:custGeom>
            <a:avLst/>
            <a:gdLst>
              <a:gd name="textAreaLeft" fmla="*/ 97920 w 731880"/>
              <a:gd name="textAreaRight" fmla="*/ 633960 w 731880"/>
              <a:gd name="textAreaTop" fmla="*/ 270360 h 1355760"/>
              <a:gd name="textAreaBottom" fmla="*/ 993960 h 13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4" stAng="-5400000" swAng="5400000"/>
                <a:lnTo>
                  <a:pt x="21600" y="11528"/>
                </a:lnTo>
                <a:arcTo wR="21600" hR="8614" stAng="0" swAng="3424748"/>
                <a:lnTo>
                  <a:pt x="5400" y="21326"/>
                </a:lnTo>
                <a:lnTo>
                  <a:pt x="0" y="18685"/>
                </a:lnTo>
                <a:lnTo>
                  <a:pt x="5400" y="15496"/>
                </a:lnTo>
                <a:lnTo>
                  <a:pt x="5400" y="16954"/>
                </a:lnTo>
                <a:arcTo wR="21600" hR="8614" stAng="3424748" swAng="-3189836"/>
                <a:lnTo>
                  <a:pt x="21289" y="10071"/>
                </a:lnTo>
                <a:arcTo wR="21600" hR="8614" stAng="-234912" swAng="-5165088"/>
                <a:close/>
              </a:path>
              <a:path fill="darkenLess" w="21600" h="21600">
                <a:moveTo>
                  <a:pt x="0" y="0"/>
                </a:moveTo>
                <a:arcTo wR="21600" hR="8614" stAng="-5400000" swAng="5400000"/>
                <a:lnTo>
                  <a:pt x="21600" y="11528"/>
                </a:lnTo>
                <a:arcTo wR="21600" hR="8614" stAng="0" swAng="-234912"/>
                <a:lnTo>
                  <a:pt x="21289" y="10071"/>
                </a:lnTo>
                <a:arcTo wR="21600" hR="8614" stAng="-234912" swAng="-5165088"/>
                <a:close/>
              </a:path>
            </a:pathLst>
          </a:custGeom>
          <a:solidFill>
            <a:srgbClr val="7030a0"/>
          </a:solidFill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6A4-256B-47F0-B17B-FE66D349FC23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214200" y="285840"/>
            <a:ext cx="866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  <a:ea typeface="Arial"/>
              </a:rPr>
              <a:t>2.3.2.</a:t>
            </a:r>
            <a:r>
              <a:rPr b="1" lang="en-US" sz="2000" spc="-1" strike="noStrike">
                <a:solidFill>
                  <a:srgbClr val="00b050"/>
                </a:solidFill>
                <a:latin typeface="Comic Sans MS"/>
                <a:ea typeface="Arial"/>
              </a:rPr>
              <a:t> 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  <a:ea typeface="Arial"/>
              </a:rPr>
              <a:t>Направления деятельности по духовно-нравственному развитию, воспитанию и социализацию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  <a:ea typeface="Arial"/>
              </a:rPr>
              <a:t>профессиональной ориентации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  <a:ea typeface="Arial"/>
              </a:rPr>
              <a:t> 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  <a:ea typeface="Arial"/>
              </a:rPr>
              <a:t>обучающихс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  <a:ea typeface="Arial"/>
              </a:rPr>
              <a:t>здоровьесберегающей деятельности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  <a:ea typeface="Arial"/>
              </a:rPr>
              <a:t>формированию экологической культуры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285840" y="2000160"/>
            <a:ext cx="7700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52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52f74"/>
                </a:solidFill>
                <a:latin typeface="Calibri"/>
              </a:rPr>
              <a:t>освоение обучающимися социального опыта, основных социальных ролей, соответствующих ведущей деятельности данного возраста, норм и правил общественного поведения</a:t>
            </a:r>
            <a:r>
              <a:rPr b="1" lang="en-US" sz="2400" spc="-1" strike="noStrike">
                <a:solidFill>
                  <a:srgbClr val="852f74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357120" y="3071880"/>
            <a:ext cx="781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e36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6406"/>
                </a:solidFill>
                <a:latin typeface="Calibri"/>
              </a:rPr>
              <a:t>формирование готовности обучающихся к выбору направления своей профессиональной деятельности в соответствии с личными интересами, индивидуальными особенностями и способностями, с учётом потребностей рынка 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428760" y="4429080"/>
            <a:ext cx="792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формирование и развитие знаний, установок, личностных ориентиров и норм здорового и безопасного образа жизни с целью сохранения и укрепления физического, психологического и социального здоровья обучающих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Выгнутая вправо стрелка 1"/>
          <p:cNvSpPr/>
          <p:nvPr/>
        </p:nvSpPr>
        <p:spPr>
          <a:xfrm>
            <a:off x="8001000" y="928800"/>
            <a:ext cx="730080" cy="1214280"/>
          </a:xfrm>
          <a:custGeom>
            <a:avLst/>
            <a:gdLst>
              <a:gd name="textAreaLeft" fmla="*/ 97560 w 730080"/>
              <a:gd name="textAreaRight" fmla="*/ 632520 w 730080"/>
              <a:gd name="textAreaTop" fmla="*/ 235080 h 1214280"/>
              <a:gd name="textAreaBottom" fmla="*/ 88812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5" stAng="-5400000" swAng="5400000"/>
                <a:lnTo>
                  <a:pt x="21600" y="11613"/>
                </a:lnTo>
                <a:arcTo wR="21600" hR="8365" stAng="0" swAng="3378379"/>
                <a:lnTo>
                  <a:pt x="5400" y="21334"/>
                </a:lnTo>
                <a:lnTo>
                  <a:pt x="0" y="18353"/>
                </a:lnTo>
                <a:lnTo>
                  <a:pt x="5400" y="14840"/>
                </a:lnTo>
                <a:lnTo>
                  <a:pt x="5400" y="16463"/>
                </a:lnTo>
                <a:arcTo wR="21600" hR="8365" stAng="3378379" swAng="-3115412"/>
                <a:lnTo>
                  <a:pt x="21189" y="9989"/>
                </a:lnTo>
                <a:arcTo wR="21600" hR="8365" stAng="-262967" swAng="-5137033"/>
                <a:close/>
              </a:path>
              <a:path fill="darkenLess" w="21600" h="21600">
                <a:moveTo>
                  <a:pt x="0" y="0"/>
                </a:moveTo>
                <a:arcTo wR="21600" hR="8365" stAng="-5400000" swAng="5400000"/>
                <a:lnTo>
                  <a:pt x="21600" y="11613"/>
                </a:lnTo>
                <a:arcTo wR="21600" hR="8365" stAng="0" swAng="-262967"/>
                <a:lnTo>
                  <a:pt x="21189" y="9989"/>
                </a:lnTo>
                <a:arcTo wR="21600" hR="8365" stAng="-262967" swAng="-5137033"/>
                <a:close/>
              </a:path>
            </a:pathLst>
          </a:custGeom>
          <a:solidFill>
            <a:srgbClr val="7030a0"/>
          </a:solidFill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Выгнутая вправо стрелка 6"/>
          <p:cNvSpPr/>
          <p:nvPr/>
        </p:nvSpPr>
        <p:spPr>
          <a:xfrm>
            <a:off x="8215200" y="3643200"/>
            <a:ext cx="731880" cy="121464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4640"/>
              <a:gd name="textAreaBottom" fmla="*/ 88812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0" stAng="-5400000" swAng="5400000"/>
                <a:lnTo>
                  <a:pt x="21600" y="11614"/>
                </a:lnTo>
                <a:arcTo wR="21600" hR="8360" stAng="0" swAng="3377430"/>
                <a:lnTo>
                  <a:pt x="5400" y="21335"/>
                </a:lnTo>
                <a:lnTo>
                  <a:pt x="0" y="18346"/>
                </a:lnTo>
                <a:lnTo>
                  <a:pt x="5400" y="14827"/>
                </a:lnTo>
                <a:lnTo>
                  <a:pt x="5400" y="16454"/>
                </a:lnTo>
                <a:arcTo wR="21600" hR="8360" stAng="3377430" swAng="-3113954"/>
                <a:lnTo>
                  <a:pt x="21187" y="9987"/>
                </a:lnTo>
                <a:arcTo wR="21600" hR="8360" stAng="-263476" swAng="-5136524"/>
                <a:close/>
              </a:path>
              <a:path fill="darkenLess" w="21600" h="21600">
                <a:moveTo>
                  <a:pt x="0" y="0"/>
                </a:moveTo>
                <a:arcTo wR="21600" hR="8360" stAng="-5400000" swAng="5400000"/>
                <a:lnTo>
                  <a:pt x="21600" y="11614"/>
                </a:lnTo>
                <a:arcTo wR="21600" hR="8360" stAng="0" swAng="-263476"/>
                <a:lnTo>
                  <a:pt x="21187" y="9987"/>
                </a:lnTo>
                <a:arcTo wR="21600" hR="8360" stAng="-263476" swAng="-5136524"/>
                <a:close/>
              </a:path>
            </a:pathLst>
          </a:custGeom>
          <a:solidFill>
            <a:srgbClr val="7030a0"/>
          </a:solidFill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Выгнутая вправо стрелка 7"/>
          <p:cNvSpPr/>
          <p:nvPr/>
        </p:nvSpPr>
        <p:spPr>
          <a:xfrm>
            <a:off x="8072280" y="2214720"/>
            <a:ext cx="731880" cy="1355400"/>
          </a:xfrm>
          <a:custGeom>
            <a:avLst/>
            <a:gdLst>
              <a:gd name="textAreaLeft" fmla="*/ 97920 w 731880"/>
              <a:gd name="textAreaRight" fmla="*/ 633960 w 731880"/>
              <a:gd name="textAreaTop" fmla="*/ 270000 h 1355400"/>
              <a:gd name="textAreaBottom" fmla="*/ 993600 h 135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4" stAng="-5400000" swAng="5400000"/>
                <a:lnTo>
                  <a:pt x="21600" y="11528"/>
                </a:lnTo>
                <a:arcTo wR="21600" hR="8614" stAng="0" swAng="3424748"/>
                <a:lnTo>
                  <a:pt x="5400" y="21326"/>
                </a:lnTo>
                <a:lnTo>
                  <a:pt x="0" y="18685"/>
                </a:lnTo>
                <a:lnTo>
                  <a:pt x="5400" y="15496"/>
                </a:lnTo>
                <a:lnTo>
                  <a:pt x="5400" y="16954"/>
                </a:lnTo>
                <a:arcTo wR="21600" hR="8614" stAng="3424748" swAng="-3189836"/>
                <a:lnTo>
                  <a:pt x="21289" y="10071"/>
                </a:lnTo>
                <a:arcTo wR="21600" hR="8614" stAng="-234912" swAng="-5165088"/>
                <a:close/>
              </a:path>
              <a:path fill="darkenLess" w="21600" h="21600">
                <a:moveTo>
                  <a:pt x="0" y="0"/>
                </a:moveTo>
                <a:arcTo wR="21600" hR="8614" stAng="-5400000" swAng="5400000"/>
                <a:lnTo>
                  <a:pt x="21600" y="11528"/>
                </a:lnTo>
                <a:arcTo wR="21600" hR="8614" stAng="0" swAng="-234912"/>
                <a:lnTo>
                  <a:pt x="21289" y="10071"/>
                </a:lnTo>
                <a:arcTo wR="21600" hR="8614" stAng="-234912" swAng="-5165088"/>
                <a:close/>
              </a:path>
            </a:pathLst>
          </a:custGeom>
          <a:solidFill>
            <a:srgbClr val="7030a0"/>
          </a:solidFill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22EE-A203-45CE-A5E9-5B0B0201A9DF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571680" y="5786280"/>
            <a:ext cx="77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alibri"/>
              </a:rPr>
              <a:t>формирование экологической культуры обучающихся </a:t>
            </a:r>
            <a:r>
              <a:rPr b="1" lang="en-US" sz="2400" spc="-1" strike="noStrike">
                <a:solidFill>
                  <a:srgbClr val="852f74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Выгнутая вправо стрелка 10"/>
          <p:cNvSpPr/>
          <p:nvPr/>
        </p:nvSpPr>
        <p:spPr>
          <a:xfrm>
            <a:off x="8215200" y="4929120"/>
            <a:ext cx="731880" cy="121464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4640"/>
              <a:gd name="textAreaBottom" fmla="*/ 88812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0" stAng="-5400000" swAng="5400000"/>
                <a:lnTo>
                  <a:pt x="21600" y="11614"/>
                </a:lnTo>
                <a:arcTo wR="21600" hR="8360" stAng="0" swAng="3377430"/>
                <a:lnTo>
                  <a:pt x="5400" y="21335"/>
                </a:lnTo>
                <a:lnTo>
                  <a:pt x="0" y="18346"/>
                </a:lnTo>
                <a:lnTo>
                  <a:pt x="5400" y="14827"/>
                </a:lnTo>
                <a:lnTo>
                  <a:pt x="5400" y="16454"/>
                </a:lnTo>
                <a:arcTo wR="21600" hR="8360" stAng="3377430" swAng="-3113954"/>
                <a:lnTo>
                  <a:pt x="21187" y="9987"/>
                </a:lnTo>
                <a:arcTo wR="21600" hR="8360" stAng="-263476" swAng="-5136524"/>
                <a:close/>
              </a:path>
              <a:path fill="darkenLess" w="21600" h="21600">
                <a:moveTo>
                  <a:pt x="0" y="0"/>
                </a:moveTo>
                <a:arcTo wR="21600" hR="8360" stAng="-5400000" swAng="5400000"/>
                <a:lnTo>
                  <a:pt x="21600" y="11614"/>
                </a:lnTo>
                <a:arcTo wR="21600" hR="8360" stAng="0" swAng="-263476"/>
                <a:lnTo>
                  <a:pt x="21187" y="9987"/>
                </a:lnTo>
                <a:arcTo wR="21600" hR="8360" stAng="-263476" swAng="-5136524"/>
                <a:close/>
              </a:path>
            </a:pathLst>
          </a:custGeom>
          <a:solidFill>
            <a:srgbClr val="7030a0"/>
          </a:solidFill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615C-63D4-49C4-B326-A0BC205B4189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Схема 2" descr=""/>
          <p:cNvPicPr/>
          <p:nvPr/>
        </p:nvPicPr>
        <p:blipFill>
          <a:blip r:embed="rId1"/>
          <a:stretch/>
        </p:blipFill>
        <p:spPr>
          <a:xfrm>
            <a:off x="706320" y="554040"/>
            <a:ext cx="80168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-6480" y="0"/>
          <a:ext cx="9144000" cy="7561440"/>
        </p:xfrm>
        <a:graphic>
          <a:graphicData uri="http://schemas.openxmlformats.org/drawingml/2006/table">
            <a:tbl>
              <a:tblPr/>
              <a:tblGrid>
                <a:gridCol w="258840"/>
                <a:gridCol w="4248360"/>
                <a:gridCol w="46368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3.3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ды деятельности и формы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 обучающими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</a:tr>
              <a:tr h="733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Воспитание гражданственности, патриотизма, уважения к правам, свободам и обязанностям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•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щее представление о политическом устройстве российского государства, его институтах, их роли в жизни общества, о символах государства, их историческом происхождении и социально-культурном значении, о ключевых ценностях современного общества Росс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•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истемные представления об институтах гражданского общества, их истории и современном состоянии в России и мире, о возможностях участия граждан в общественном управлен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•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нимание и одобрение правил поведения в обществе, уважение органов и лиц, охраняющих общественный поряд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•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конституционного долга и обязанностей гражданина своей Родин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зучают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Конституцию Российской Федерац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получают знания об основных правах и обязанностях граждан России, о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политическом устройстве Российского государств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его институтах, их роли в жизни общества,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символах государств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лаге, Гербе России, о флаге и гербе субъекта Российской Федерации, в котором находится образовательное учреж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накомятся с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героическими страницами истории России, жизнью замечательных люде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явивших примеры гражданского служения, исполнения патриотического долга, с обязанностями гражданина (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в процессе бесед, экскурсий, просмотра кинофильмов, путешествий по историческим и памятным местам, сюжетно-ролевых игр гражданского и историко-патриотического содержания, изучения учебных дисципли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накомятся с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историей и культурой родного края, народным творчеством, этнокультурными традициями, фольклором, особенностями быта народов Росс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(в процессе бесед, сюжетно-ролевых игр, просмотра кинофильмов, творческих конкурсов, фестивалей, праздников, экскурсий, путешествий, туристско-краеведческих экспедиций, изучения учебных дисциплин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накомятся с важнейшими событиями в истории нашей страны, содержанием и значением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государственных праздник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(в процессе бесед, проведения классных часов, просмотра учебных фильмов, участия в подготовке и проведении мероприятий, посвящённых государственным праздника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34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E05D-C52A-4457-BE17-3938F6F21FD2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81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"/>
          <p:cNvGraphicFramePr/>
          <p:nvPr/>
        </p:nvGraphicFramePr>
        <p:xfrm>
          <a:off x="214200" y="571680"/>
          <a:ext cx="8929800" cy="6000480"/>
        </p:xfrm>
        <a:graphic>
          <a:graphicData uri="http://schemas.openxmlformats.org/drawingml/2006/table">
            <a:tbl>
              <a:tblPr/>
              <a:tblGrid>
                <a:gridCol w="2833920"/>
                <a:gridCol w="216000"/>
                <a:gridCol w="991800"/>
                <a:gridCol w="921240"/>
                <a:gridCol w="1204200"/>
                <a:gridCol w="1700280"/>
                <a:gridCol w="1062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рмы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Воспитание нравственных чувств, убеждений, этического с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блок. Учеб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-9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рамках изучения предметов: литература, иностранный язык, история, обществознание, ге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блок. Внеуроч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искуссионный клуб «Ровесн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лектронная газета «Школьные ведом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блок. Воспита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ассны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ассные часы, бес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.час «Мои хочу и мои мог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седа «Нравственность – это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испут «Человек как звезда рождает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искуссия «Можно ли быть свободным без ответствен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баты «Как мне жить в будуще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щешкольны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стиваль «Дружба народ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нкурс презентаций «Праздники моей стран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блок. Социально значим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ект «Встреча поколе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кция «Наши младшие друз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7" name="Номер слайда 1"/>
          <p:cNvSpPr/>
          <p:nvPr/>
        </p:nvSpPr>
        <p:spPr>
          <a:xfrm>
            <a:off x="385776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31FA-7757-4B1B-9842-18786A342662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0" y="0"/>
          <a:ext cx="9144000" cy="7072200"/>
        </p:xfrm>
        <a:graphic>
          <a:graphicData uri="http://schemas.openxmlformats.org/drawingml/2006/table">
            <a:tbl>
              <a:tblPr/>
              <a:tblGrid>
                <a:gridCol w="250920"/>
                <a:gridCol w="2160360"/>
                <a:gridCol w="1729080"/>
                <a:gridCol w="144360"/>
                <a:gridCol w="779400"/>
                <a:gridCol w="84240"/>
                <a:gridCol w="1361880"/>
                <a:gridCol w="1446480"/>
                <a:gridCol w="1187280"/>
              </a:tblGrid>
              <a:tr h="83988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(1-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Формы занятий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Условия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рганизатор /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ланируемые результаты воспитания и социал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бразователь-ные эфф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2102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8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гражданственности, патриотизма, уважения к правам, свободам и обязанностям челове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b13f9a"/>
                          </a:solidFill>
                          <a:uFillTx/>
                          <a:latin typeface="Times New Roman"/>
                          <a:ea typeface="Times New Roman"/>
                        </a:rPr>
                        <a:t>Получают знания</a:t>
                      </a: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 о символах Р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Классный ча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«Символы РФ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1-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Знание </a:t>
                      </a:r>
                      <a:r>
                        <a:rPr b="1" lang="ru-RU" sz="1300" spc="-1" strike="noStrike" u="sng">
                          <a:solidFill>
                            <a:srgbClr val="b13f9a"/>
                          </a:solidFill>
                          <a:uFillTx/>
                          <a:latin typeface="Times New Roman"/>
                          <a:ea typeface="Times New Roman"/>
                        </a:rPr>
                        <a:t>символов</a:t>
                      </a: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300" spc="-1" strike="noStrike" u="sng">
                          <a:solidFill>
                            <a:srgbClr val="b13f9a"/>
                          </a:solidFill>
                          <a:uFillTx/>
                          <a:latin typeface="Times New Roman"/>
                          <a:ea typeface="Times New Roman"/>
                        </a:rPr>
                        <a:t>государства</a:t>
                      </a: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11538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b13f9a"/>
                          </a:solidFill>
                          <a:uFillTx/>
                          <a:latin typeface="Times New Roman"/>
                          <a:ea typeface="Times New Roman"/>
                        </a:rPr>
                        <a:t>Получают знания</a:t>
                      </a: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 о символах Тюменской области и города Тюме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Классный ча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«Символы Тюменской области и г. Тюмен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1-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Знание </a:t>
                      </a:r>
                      <a:r>
                        <a:rPr b="1" lang="ru-RU" sz="1300" spc="-1" strike="noStrike" u="sng">
                          <a:solidFill>
                            <a:srgbClr val="b13f9a"/>
                          </a:solidFill>
                          <a:uFillTx/>
                          <a:latin typeface="Times New Roman"/>
                          <a:ea typeface="Times New Roman"/>
                        </a:rPr>
                        <a:t>символов субъекта</a:t>
                      </a:r>
                      <a:r>
                        <a:rPr b="1" lang="ru-RU" sz="13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 РФ, в котором находится О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Возможность принять участие в городском конкурсе проектов «Моя Тюмень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9104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лучают знания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 политическом устройстве Российского государ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аты «Политическое устройство современной Росси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класс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 клас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организатор, учитель исто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ние основных положений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ституции Р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1346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зучают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ституцию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ая игра «Конституционные основы государственно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клас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клас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организатор, учитель истории классный руковод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ние основных прав и обязанностей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аждан Росс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родителей в образовательный процесс: участие в школьных команд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455400">
                <a:tc rowSpan="3"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rowSpan="3"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комятся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героическими страницами истории Росс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в муз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9 клас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мотр кинофильм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 клас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клас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организато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но-ролевая иг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0клас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истории классный руководи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4201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комятс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жизнью замечательных лю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sp>
        <p:nvSpPr>
          <p:cNvPr id="439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42F-2F97-4087-94DD-790ADFDE3823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214200" y="1428840"/>
          <a:ext cx="8715600" cy="4787640"/>
        </p:xfrm>
        <a:graphic>
          <a:graphicData uri="http://schemas.openxmlformats.org/drawingml/2006/table">
            <a:tbl>
              <a:tblPr/>
              <a:tblGrid>
                <a:gridCol w="428760"/>
                <a:gridCol w="3000240"/>
                <a:gridCol w="1785960"/>
                <a:gridCol w="3500640"/>
              </a:tblGrid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базовой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варианты базовой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ча информации или обмен е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ут, лекция, встреча, рассказ, беседа-убе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ределенного результ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о-творческое дело, трудов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нав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ое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, тренинг, упраж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ние возможностей и способностей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, турнир, олимпиада, «Веселые старты»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е переживание собы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ация, фестиваль, ярмарка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различных ро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но-ролев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, спортивные игры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определенного простра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здка, прогулка, поход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</a:tbl>
          </a:graphicData>
        </a:graphic>
      </p:graphicFrame>
      <p:sp>
        <p:nvSpPr>
          <p:cNvPr id="441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7B59-8015-4774-B385-ED9AB3790F20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Заголовок 4" descr=""/>
          <p:cNvPicPr/>
          <p:nvPr/>
        </p:nvPicPr>
        <p:blipFill>
          <a:blip r:embed="rId1"/>
          <a:stretch/>
        </p:blipFill>
        <p:spPr>
          <a:xfrm>
            <a:off x="353880" y="165240"/>
            <a:ext cx="8436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Содержимое 8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8942400" cy="5875200"/>
          </a:xfrm>
          <a:prstGeom prst="rect">
            <a:avLst/>
          </a:prstGeom>
          <a:ln w="0">
            <a:noFill/>
          </a:ln>
        </p:spPr>
      </p:pic>
      <p:sp>
        <p:nvSpPr>
          <p:cNvPr id="44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D088-CE0E-48A2-91C7-ABFB5E7D62C1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2"/>
          <p:cNvSpPr/>
          <p:nvPr/>
        </p:nvSpPr>
        <p:spPr>
          <a:xfrm>
            <a:off x="684360" y="189000"/>
            <a:ext cx="826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онно-методическая деятельность – основа проектирования воспитательной рабо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ФГОС ООО и СО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493560" y="16257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он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476280" y="285264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пределение компетенций и полномоч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5148360" y="16542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и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5091120" y="285264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еспечение и сопрово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3780000" y="4497480"/>
            <a:ext cx="516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а на адаптацию установленных на уровне государства норм и регламентов школьного образования применительно к условиям конкретной территории и шк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8" name="Прямая со стрелкой 9"/>
          <p:cNvCxnSpPr>
            <a:stCxn id="332" idx="2"/>
            <a:endCxn id="333" idx="0"/>
          </p:cNvCxnSpPr>
          <p:nvPr/>
        </p:nvCxnSpPr>
        <p:spPr>
          <a:xfrm flipH="1">
            <a:off x="1645920" y="1204560"/>
            <a:ext cx="3170880" cy="4215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9" name="Прямая со стрелкой 11"/>
          <p:cNvCxnSpPr>
            <a:stCxn id="332" idx="2"/>
            <a:endCxn id="335" idx="0"/>
          </p:cNvCxnSpPr>
          <p:nvPr/>
        </p:nvCxnSpPr>
        <p:spPr>
          <a:xfrm>
            <a:off x="4816080" y="1204920"/>
            <a:ext cx="1485000" cy="45000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0" name="Прямая со стрелкой 13"/>
          <p:cNvCxnSpPr>
            <a:stCxn id="333" idx="2"/>
          </p:cNvCxnSpPr>
          <p:nvPr/>
        </p:nvCxnSpPr>
        <p:spPr>
          <a:xfrm flipH="1">
            <a:off x="1627920" y="2025360"/>
            <a:ext cx="18360" cy="8276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1" name="Прямая со стрелкой 15"/>
          <p:cNvCxnSpPr>
            <a:endCxn id="336" idx="0"/>
          </p:cNvCxnSpPr>
          <p:nvPr/>
        </p:nvCxnSpPr>
        <p:spPr>
          <a:xfrm>
            <a:off x="6243120" y="2133360"/>
            <a:ext cx="1080" cy="7196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2" name="Прямая со стрелкой 19"/>
          <p:cNvCxnSpPr>
            <a:stCxn id="336" idx="2"/>
          </p:cNvCxnSpPr>
          <p:nvPr/>
        </p:nvCxnSpPr>
        <p:spPr>
          <a:xfrm>
            <a:off x="6243120" y="3560760"/>
            <a:ext cx="1080" cy="9374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4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EE3E-8301-47B7-B7EE-7D6B3F94F8BD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6"/>
          <p:cNvSpPr/>
          <p:nvPr/>
        </p:nvSpPr>
        <p:spPr>
          <a:xfrm>
            <a:off x="500040" y="214200"/>
            <a:ext cx="810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  <a:ea typeface="Arial"/>
              </a:rPr>
              <a:t>2.3.5.</a:t>
            </a:r>
            <a:r>
              <a:rPr b="1" lang="en-US" sz="1800" spc="-1" strike="noStrike">
                <a:solidFill>
                  <a:srgbClr val="0070c0"/>
                </a:solidFill>
                <a:latin typeface="Comic Sans MS"/>
                <a:ea typeface="Arial"/>
              </a:rPr>
              <a:t> </a:t>
            </a: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Этапы организации работы в системе социального воспитания в рамках образовательного учреждения, совместной деятельности образовательного учреждения с предприятиями, общественными организациями, в том числе с системой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714240" y="1785960"/>
            <a:ext cx="8177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Comic Sans MS"/>
              </a:rPr>
              <a:t>Организационно-административный этап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социальной среды школ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нравственного уклада семьи и школ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форм социального партнерства с общественными институтами и организац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Comic Sans MS"/>
              </a:rPr>
              <a:t>Организационно-педагогический этап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ятельность детских общественных объединений и организаци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ученического самоуправл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и реализация программы социально-значимой деятельности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Comic Sans MS"/>
              </a:rPr>
              <a:t>Этап социализ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ение социального опыт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ая деятельно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казание индивидуальной помощ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F08D-3870-43F2-A7D3-6767CFA6B307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Выгнутая влево стрелка 12"/>
          <p:cNvSpPr/>
          <p:nvPr/>
        </p:nvSpPr>
        <p:spPr>
          <a:xfrm>
            <a:off x="142920" y="1928880"/>
            <a:ext cx="714240" cy="3643200"/>
          </a:xfrm>
          <a:custGeom>
            <a:avLst/>
            <a:gdLst>
              <a:gd name="textAreaLeft" fmla="*/ 95400 w 714240"/>
              <a:gd name="textAreaRight" fmla="*/ 618840 w 714240"/>
              <a:gd name="textAreaTop" fmla="*/ 843840 h 3643200"/>
              <a:gd name="textAreaBottom" fmla="*/ 2710080 h 36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6" stAng="-5400000" swAng="-5400000"/>
                <a:lnTo>
                  <a:pt x="0" y="11064"/>
                </a:lnTo>
                <a:arcTo wR="21600" hR="10006" stAng="10800000" swAng="-3651947"/>
                <a:lnTo>
                  <a:pt x="16200" y="21282"/>
                </a:lnTo>
                <a:lnTo>
                  <a:pt x="21600" y="20541"/>
                </a:lnTo>
                <a:lnTo>
                  <a:pt x="16200" y="19164"/>
                </a:lnTo>
                <a:lnTo>
                  <a:pt x="16200" y="19694"/>
                </a:lnTo>
                <a:arcTo wR="21600" hR="10006" stAng="7148053" swAng="3567653"/>
                <a:lnTo>
                  <a:pt x="30" y="10535"/>
                </a:lnTo>
                <a:arcTo wR="21600" hR="10006" stAng="-10715706" swAng="5315706"/>
                <a:close/>
              </a:path>
              <a:path fill="darkenLess" w="21600" h="21600">
                <a:moveTo>
                  <a:pt x="21600" y="0"/>
                </a:moveTo>
                <a:arcTo wR="21600" hR="10006" stAng="-5400000" swAng="-5400000"/>
                <a:lnTo>
                  <a:pt x="0" y="10006"/>
                </a:lnTo>
                <a:arcTo wR="21600" hR="10006" stAng="10800000" swAng="-84294"/>
                <a:lnTo>
                  <a:pt x="30" y="10535"/>
                </a:lnTo>
                <a:arcTo wR="21600" hR="10006" stAng="-10715706" swAng="5315706"/>
                <a:close/>
              </a:path>
            </a:pathLst>
          </a:custGeom>
          <a:solidFill>
            <a:srgbClr val="00b0f0"/>
          </a:solidFill>
          <a:ln w="15840">
            <a:solidFill>
              <a:srgbClr val="60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Левая фигурная скобка 13"/>
          <p:cNvSpPr/>
          <p:nvPr/>
        </p:nvSpPr>
        <p:spPr>
          <a:xfrm>
            <a:off x="357120" y="2143080"/>
            <a:ext cx="389160" cy="3000600"/>
          </a:xfrm>
          <a:custGeom>
            <a:avLst/>
            <a:gdLst>
              <a:gd name="textAreaLeft" fmla="*/ 248760 w 389160"/>
              <a:gd name="textAreaRight" fmla="*/ 389520 w 38916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428760" y="142920"/>
            <a:ext cx="8466120" cy="94932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оспитания и социализаци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8"/>
          <p:cNvSpPr/>
          <p:nvPr/>
        </p:nvSpPr>
        <p:spPr>
          <a:xfrm flipV="1">
            <a:off x="428760" y="142848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10" descr="противоречие"/>
          <p:cNvPicPr/>
          <p:nvPr/>
        </p:nvPicPr>
        <p:blipFill>
          <a:blip r:embed="rId1"/>
          <a:stretch/>
        </p:blipFill>
        <p:spPr>
          <a:xfrm>
            <a:off x="0" y="5072040"/>
            <a:ext cx="825480" cy="127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571680" y="1143000"/>
          <a:ext cx="8358120" cy="5214960"/>
        </p:xfrm>
        <a:graphic>
          <a:graphicData uri="http://schemas.openxmlformats.org/drawingml/2006/table">
            <a:tbl>
              <a:tblPr/>
              <a:tblGrid>
                <a:gridCol w="4051080"/>
                <a:gridCol w="309600"/>
                <a:gridCol w="399744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ци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ктивное полагание себя вовне, самовоспитание, саморазвитие и самореализация = самоакту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даптация, интеграция, саморазвитие и само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4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уховно-нравственное развитие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требованное социальное качество личности (тип лич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4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8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витие индивидуальности человека как уникального сплава интеллектуального и социокультурного знания, переживания и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производство типа личности с востребованными обществом социальными стереотипами и стандартами, образцами ролевого п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454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5889-EBE7-4497-9915-21FDE2C19C86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317520" y="79200"/>
            <a:ext cx="8832960" cy="157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0" y="1557360"/>
          <a:ext cx="9036000" cy="5165640"/>
        </p:xfrm>
        <a:graphic>
          <a:graphicData uri="http://schemas.openxmlformats.org/drawingml/2006/table">
            <a:tbl>
              <a:tblPr/>
              <a:tblGrid>
                <a:gridCol w="1998720"/>
                <a:gridCol w="703728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чная 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уроках обществознания, истории, литературы – дискуссии, диспуты по теме раздела. Уроки-знакомства с историко-архитектурными памятниками города и края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урочная 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дела. Экскурсии в детские клубы, Центр детского творчества, учреждения дополнительного образования с целью популяризации сети творческих объединений, клубов, спортивных секций. Экскурсии в школьный музей, краеведческий, художественный музеи, «Купеческую усадьбу», галерею «Стерх», ИКЦ «Старый Сургут», Музейный центр, Центр патриотического наследия,  выставочные за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ие фестиваля военно-патриотической песни, военно – спортивных соревнований: смотр строя и песни, «Богатырские игрища», межшкольной эстафеты, а также других праздничных мероприятий (концертов), посвященных великим праздникам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сре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й музей – центр гражданско-патриотического воспитания. Военно- патриотический поисковый отряд «Орион». В  рекреациях – законы школы, символика. Школьная газета «13-й портал»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ение и самоуправл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управления постоянные (совет класса,  совет старшеклассников, Управляющий совет школы) и временные (оргкомитет, совет дела). Проведение семинара  «Формирование гражданина и патриота».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родителя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родительских комитетов класса. Конкурс на лучшую краеведческую находку года из семейного архива «Семейная реликвия». Родительское собрание «Растить гражданина». Круглый стол для родителей «Законодательство РФ «О воинском учёте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о- педагогическая поддерж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е лектории (встречи с представителями психолого-педагогической службы, медработниками).  Индивидуальные и групповые консультации  всех субъектов (психолог, педагог-организатор, зам директора, директор)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B7A4-A45C-439A-BC2A-503D28E8CB0C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6"/>
          <p:cNvSpPr/>
          <p:nvPr/>
        </p:nvSpPr>
        <p:spPr>
          <a:xfrm>
            <a:off x="214200" y="1714680"/>
            <a:ext cx="86788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Ролевые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боры ученического самоуправле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ламентские игры «Я - гражданин», «Я - президент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астие в проектах «Я - будущий мэр моего любимого города», «На дорогах города», «МЧС спешит на помощь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левая игра «Город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левая игра «Лабиринт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левая игра «Моя безопасность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ролевая игра «Мы - артист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8"/>
          <p:cNvSpPr/>
          <p:nvPr/>
        </p:nvSpPr>
        <p:spPr>
          <a:xfrm>
            <a:off x="1000080" y="214200"/>
            <a:ext cx="724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2.3.6.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 Основные формы организации педагогической поддержки социализации обучающихся по каждому из направлений с учётом урочной и внеурочной деятельности, а также формы участия специалистов и социальных партнёров по направлениям социального воспитания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0F7A-59F3-4D9E-8ED7-D5D32CCB1592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6"/>
          <p:cNvSpPr/>
          <p:nvPr/>
        </p:nvSpPr>
        <p:spPr>
          <a:xfrm>
            <a:off x="214200" y="1714680"/>
            <a:ext cx="86788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</a:rPr>
              <a:t>Педагогическая поддержка социализации обучающихся школ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</a:rPr>
              <a:t>в ходе познавательн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нормативный срок освоения - 5 лет) обеспечивает освоение обучающимися общеобразовательных программ основного общего образования, становление и формирование личности обучающегося, развитие его склонностей, интересов и способности к социальному самоопредел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чную деятельность можно представить на основе особенностей изучения той или иной предметной обла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асы компонент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ступени основного общего образования используются для углубленного изучения базовых предметов, раннего изучения отдельных предметов, развития познавательных способностей обучающихся, ведения элективных курсов, предпрофильной подготов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1000080" y="214200"/>
            <a:ext cx="724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2.3.6.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 Основные формы организации педагогической поддержки социализации обучающихся по каждому из направлений с учётом урочной и внеурочной деятельности, а также формы участия специалистов и социальных партнёров по направлениям социального воспитания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FF64-4860-4A78-97EC-2F52CD03491A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6"/>
          <p:cNvSpPr/>
          <p:nvPr/>
        </p:nvSpPr>
        <p:spPr>
          <a:xfrm>
            <a:off x="214200" y="214200"/>
            <a:ext cx="867888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</a:rPr>
              <a:t>Педагогическая поддержка социализации обучающихся средствами обще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выработка Единых требований к поведению школьни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инятие законов и атрибутики школ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еловые игры по классам «Создаем конституцию класса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иалоги и размышления «Зачем нужен общественный порядок?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еловая игра «Ученик школы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ролевая игра «Колесо истории» (по материалам истории школы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участие в реализации социально значимых программ, социально значимых проектах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операция «Поиск», «Реликвии моей семьи - история моей родины», «Ветеран живет рядом» (поздравления ветеранов войны и труда), акция «Наши дела – красивому городу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волонтерские миссии в дом ветеранов, детские дома, дома престарелы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участие в акциях, разработка и реализация дизайнерского проекта школьного двора и клумб «Цветочная радуга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оддержка детско-юношеской общественной организации  и школьного самоуправле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организация рейдов по поддержанию порядка, дисциплины в школе, дежурства по школе, рейдов по выполнению прав и обязанностей обучающихс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участие в принятии решений управляющего совета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C544-9C3B-4EA7-A653-D87C872BDF0A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9"/>
          <p:cNvSpPr/>
          <p:nvPr/>
        </p:nvSpPr>
        <p:spPr>
          <a:xfrm>
            <a:off x="357120" y="285840"/>
            <a:ext cx="8534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3.7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дели организации работы по формированию экологически целесообразного, здорового и безопасного образа жизни, включающие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организацию учебно-воспитательного процесса и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зовательной среды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ющу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и физкультуры, ОБЖ, биолог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ку образовательной среды (уголка здоровья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ном кабинете, оформление столовой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ащенность спортивного зала и др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организацию  физкультурно-спортив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оздоровительной работы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ящую и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ртивно-массовых мероприятий, рабо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ртивных секций, динамических пауз, флешмоб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кториев, встречи с врачами, тренерами, спортсмен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профилактику употребления психоактивных веществ обучающимис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профилактику детского дорожно-транспортного травматиз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рганизацию системы просветительской и методической работы с участникам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52f74"/>
                </a:solidFill>
                <a:uFillTx/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6159-3B25-401C-9E77-0DD6C4C07C0F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15" descr="C:\Users\дл\Desktop\ИФК 2013\конференция здоровье ноябрь 2012\конференция Здоровье 2013\Милованова доклад 2013\31480.jpg"/>
          <p:cNvPicPr/>
          <p:nvPr/>
        </p:nvPicPr>
        <p:blipFill>
          <a:blip r:embed="rId1"/>
          <a:stretch/>
        </p:blipFill>
        <p:spPr>
          <a:xfrm rot="21000000">
            <a:off x="5803560" y="2760840"/>
            <a:ext cx="3179880" cy="21175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C:\Users\дл\Desktop\ИФК 2013\конференция здоровье ноябрь 2012\конференция Здоровье 2013\Милованова доклад 2013\aHR0cDovL29sZC5rb21pLmVyLnJ1L2xvZ29zL2ZpbGVzL2ZfNGJkYWFlMDlkMjgxZi5qcGc=.jpg"/>
          <p:cNvPicPr/>
          <p:nvPr/>
        </p:nvPicPr>
        <p:blipFill>
          <a:blip r:embed="rId2"/>
          <a:stretch/>
        </p:blipFill>
        <p:spPr>
          <a:xfrm>
            <a:off x="214200" y="114300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1"/>
          <p:cNvSpPr/>
          <p:nvPr/>
        </p:nvSpPr>
        <p:spPr>
          <a:xfrm>
            <a:off x="285840" y="500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mic Sans MS"/>
                <a:ea typeface="Arial"/>
              </a:rPr>
              <a:t>2.3.</a:t>
            </a:r>
            <a:r>
              <a:rPr b="1" lang="ru-RU" sz="1800" spc="-1" strike="noStrike">
                <a:solidFill>
                  <a:srgbClr val="c00000"/>
                </a:solidFill>
                <a:latin typeface="Comic Sans MS"/>
                <a:ea typeface="Arial"/>
              </a:rPr>
              <a:t>8</a:t>
            </a:r>
            <a:r>
              <a:rPr b="1" lang="en-US" sz="1800" spc="-1" strike="noStrike">
                <a:solidFill>
                  <a:srgbClr val="c00000"/>
                </a:solidFill>
                <a:latin typeface="Comic Sans MS"/>
                <a:ea typeface="Arial"/>
              </a:rPr>
              <a:t>. </a:t>
            </a: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 Описание деятельности образовательного учреждения в области непрерывного экологического здоровьесберегающего образования обучающихся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9"/>
          <p:cNvSpPr/>
          <p:nvPr/>
        </p:nvSpPr>
        <p:spPr>
          <a:xfrm>
            <a:off x="285840" y="157176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2.3.9. 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Система поощрения социальной успешности и проявлений активной жизненной позици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10"/>
          <p:cNvSpPr/>
          <p:nvPr/>
        </p:nvSpPr>
        <p:spPr>
          <a:xfrm>
            <a:off x="285840" y="2500200"/>
            <a:ext cx="86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2.3.10.</a:t>
            </a:r>
            <a:r>
              <a:rPr b="1" lang="en-US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Критерии, показатели эффективности деятельности образовательного учреждения в части духовно-нравственного развития, воспитания и социализации обучающихся, формирования здорового и безопасного образа жизни и экологической культуры обучающих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11"/>
          <p:cNvSpPr/>
          <p:nvPr/>
        </p:nvSpPr>
        <p:spPr>
          <a:xfrm>
            <a:off x="357120" y="407196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c66bb"/>
                </a:solidFill>
                <a:latin typeface="Comic Sans MS"/>
                <a:ea typeface="Arial"/>
              </a:rPr>
              <a:t>2.3.11.</a:t>
            </a:r>
            <a:r>
              <a:rPr b="1" lang="en-US" sz="1800" spc="-1" strike="noStrike">
                <a:solidFill>
                  <a:srgbClr val="ac66bb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ac66bb"/>
                </a:solidFill>
                <a:latin typeface="Comic Sans MS"/>
                <a:ea typeface="Arial"/>
              </a:rPr>
              <a:t>М</a:t>
            </a:r>
            <a:r>
              <a:rPr b="1" lang="ru-RU" sz="1800" spc="-1" strike="noStrike">
                <a:solidFill>
                  <a:srgbClr val="ac66bb"/>
                </a:solidFill>
                <a:latin typeface="Comic Sans MS"/>
              </a:rPr>
              <a:t>етодика и инструментарий мониторинга духовно-нравственного развития, воспитания и социализаци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13"/>
          <p:cNvSpPr/>
          <p:nvPr/>
        </p:nvSpPr>
        <p:spPr>
          <a:xfrm>
            <a:off x="357120" y="507204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.3.12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Планируемые результаты духовно-нравственного развития, воспитания и социализации обучающихся, формирования экологической культуры, культуры здорового и безопасного образа жизн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476E-FCDC-420B-9DBB-D25AB00A3C23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8"/>
          <p:cNvSpPr/>
          <p:nvPr/>
        </p:nvSpPr>
        <p:spPr>
          <a:xfrm>
            <a:off x="2869560" y="5929200"/>
            <a:ext cx="28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74396"/>
                </a:solidFill>
                <a:latin typeface="Arial"/>
                <a:ea typeface="Arial"/>
              </a:rPr>
              <a:t>просветительская рабо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74396"/>
                </a:solidFill>
                <a:latin typeface="Arial"/>
                <a:ea typeface="Arial"/>
              </a:rPr>
              <a:t>с родител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Line 12"/>
          <p:cNvSpPr/>
          <p:nvPr/>
        </p:nvSpPr>
        <p:spPr>
          <a:xfrm flipV="1">
            <a:off x="2500200" y="5072040"/>
            <a:ext cx="685800" cy="4572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Line 15"/>
          <p:cNvSpPr/>
          <p:nvPr/>
        </p:nvSpPr>
        <p:spPr>
          <a:xfrm flipH="1" flipV="1">
            <a:off x="5643360" y="5072040"/>
            <a:ext cx="685800" cy="53352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12"/>
          <p:cNvSpPr/>
          <p:nvPr/>
        </p:nvSpPr>
        <p:spPr>
          <a:xfrm flipH="1" flipV="1">
            <a:off x="2214360" y="2857680"/>
            <a:ext cx="533160" cy="38088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2786040" y="2571840"/>
            <a:ext cx="3429000" cy="2500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Деятельность образовательного учреждения в области непрерывного экологического здоровьесберегающего образования обучающих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2"/>
          <p:cNvSpPr/>
          <p:nvPr/>
        </p:nvSpPr>
        <p:spPr>
          <a:xfrm flipV="1">
            <a:off x="4429080" y="5143320"/>
            <a:ext cx="0" cy="60948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0" y="35719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создание эффективной безопасной здоровьесберегающей инфраструкту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5715000" y="12859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эффективная организация физкультурно-оздоровительн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286680" y="3857760"/>
            <a:ext cx="285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Arial"/>
              </a:rPr>
              <a:t>реализация модульных 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500040" y="128592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рациональная организация учебной и внеучебной деятельности обучаю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12"/>
          <p:cNvSpPr/>
          <p:nvPr/>
        </p:nvSpPr>
        <p:spPr>
          <a:xfrm flipH="1" flipV="1">
            <a:off x="3286080" y="1928520"/>
            <a:ext cx="457200" cy="5331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Line 12"/>
          <p:cNvSpPr/>
          <p:nvPr/>
        </p:nvSpPr>
        <p:spPr>
          <a:xfrm flipV="1">
            <a:off x="5429160" y="1928520"/>
            <a:ext cx="304920" cy="60948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Line 12"/>
          <p:cNvSpPr/>
          <p:nvPr/>
        </p:nvSpPr>
        <p:spPr>
          <a:xfrm flipV="1">
            <a:off x="6286680" y="3499920"/>
            <a:ext cx="533160" cy="3812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9"/>
          <p:cNvSpPr/>
          <p:nvPr/>
        </p:nvSpPr>
        <p:spPr>
          <a:xfrm>
            <a:off x="357120" y="3571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2.3.9. 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Система поощрения социальной успешности и проявлений активной жизненной позици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428760" y="3857760"/>
            <a:ext cx="84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Принцип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4b73"/>
                </a:solidFill>
                <a:latin typeface="Calibri"/>
              </a:rPr>
              <a:t>·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убличность поощ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· соответствие артефактов и процедур награждения укладу жизни школы, специфической символике, выработанной и существующей в сообществе в виде тради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· прозрачность правил поощр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· регулирование частоты награжд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· сочетание индивидуального и коллективного поощ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· дифференцированность поощр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82DE-695A-4E14-A609-733C3C7C1D84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Схема 7" descr=""/>
          <p:cNvPicPr/>
          <p:nvPr/>
        </p:nvPicPr>
        <p:blipFill>
          <a:blip r:embed="rId1"/>
          <a:stretch/>
        </p:blipFill>
        <p:spPr>
          <a:xfrm>
            <a:off x="1085760" y="981000"/>
            <a:ext cx="706464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2"/>
          <p:cNvSpPr/>
          <p:nvPr/>
        </p:nvSpPr>
        <p:spPr>
          <a:xfrm>
            <a:off x="250920" y="1700280"/>
            <a:ext cx="8664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тодическое обеспеч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дивидуализ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сонифика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ения образовательного поля выбор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ен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беспеч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жведом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заимодействия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еса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ен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р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ации вариативных форм получения образования и форм обучения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образования, семейного образования, дистанционных технологий, электронно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строение образовательных программ, дающих возможность выйти на индивидуальный образовательный маршрут в условиях массовой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трудности в части методического обеспечения воспитательного процесса возникают в разработке программ воспитания и социализации, направленной на формир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равственного уклада школьной жизн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снов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азовых национальных ценност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ого общества, учитывающег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сторико-культурную и этническую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ецифику региона, на формир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циально-педагогической сред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928800" y="112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ГО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5256360" y="158760"/>
            <a:ext cx="36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он «Об образовани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2525760" y="773280"/>
            <a:ext cx="29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ме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8" name="Прямая со стрелкой 8"/>
          <p:cNvCxnSpPr>
            <a:stCxn id="345" idx="2"/>
          </p:cNvCxnSpPr>
          <p:nvPr/>
        </p:nvCxnSpPr>
        <p:spPr>
          <a:xfrm>
            <a:off x="1757160" y="572760"/>
            <a:ext cx="1230840" cy="432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9" name="Прямая со стрелкой 10"/>
          <p:cNvCxnSpPr>
            <a:stCxn id="346" idx="2"/>
          </p:cNvCxnSpPr>
          <p:nvPr/>
        </p:nvCxnSpPr>
        <p:spPr>
          <a:xfrm flipH="1">
            <a:off x="4932000" y="558360"/>
            <a:ext cx="2154960" cy="4467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5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11C4-8CF8-48AB-BECC-0A86F6365422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9"/>
          <p:cNvSpPr/>
          <p:nvPr/>
        </p:nvSpPr>
        <p:spPr>
          <a:xfrm>
            <a:off x="214200" y="1643040"/>
            <a:ext cx="8429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Comic Sans MS"/>
              </a:rPr>
              <a:t>-по направлениям: 1) духовно-нравственного развития, 2) воспитания и социализации, 3) формирования экологической культуры, 4) формирования культуры здорового и безопасного образа жизни, 5) профессиональной ори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по сформированности  личностной культуры, социальной культуры,  семейной культуры,  безопасной здоровьесберегающей культуры, трудовой (профессиональной)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Comic Sans MS"/>
                <a:ea typeface="Arial"/>
              </a:rPr>
              <a:t>по сформированности потенциала личности (нравственного, коммуникативного, физического, познавательного) и сформированности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по направлениям духовно-нравственного развития, воспитания и социализации обучающихся (воспитание гражданственности, патриотизма, воспитание социальной ответственности и компетентности и др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о сформированности ценностных отношений к Отечеству, к прекрасному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428760" y="3571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.3.12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Планируемые результаты духовно-нравственного развития, воспитания и социализации обучающихся, формирования экологической культуры, культуры здорового и безопасного образа жизн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9515-BE3D-4038-AE73-4DE71722071C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"/>
          <p:cNvGraphicFramePr/>
          <p:nvPr/>
        </p:nvGraphicFramePr>
        <p:xfrm>
          <a:off x="142920" y="1857240"/>
          <a:ext cx="8786880" cy="4357800"/>
        </p:xfrm>
        <a:graphic>
          <a:graphicData uri="http://schemas.openxmlformats.org/drawingml/2006/table">
            <a:tbl>
              <a:tblPr/>
              <a:tblGrid>
                <a:gridCol w="1542960"/>
                <a:gridCol w="3168720"/>
                <a:gridCol w="4075200"/>
              </a:tblGrid>
              <a:tr h="289080">
                <a:tc>
                  <a:txBody>
                    <a:bodyPr lIns="8640" rIns="8640" tIns="8640" bIns="8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720">
                <a:tc>
                  <a:txBody>
                    <a:bodyPr lIns="8640" rIns="8640" tIns="8640" bIns="8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а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его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 учащихся. Развитость мышления. Познавательная активность. Авторитет и степень привлекательности школы в глазах педагогов, родителей, учащихся, общественности, органов управления образованием. Усвоение учащимися образовательной программы; Поступление школьников в ВУЗы. Участие учащихся и педагогов и смотрах, конкурсах, олимпиадах, соревнованиях. Обучение в школе учащихся микрорайонов других школ, отток учащихся в другие учебные заведения, уровень сотрудничества педагогов и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ий анализ текущей и итоговой успеваемости. Методики изучения развития познавательных процессов личности ребенка. Школьный тест умственного развития (ШТУР). Методы экспертной оценки педагогов и самооценки учащихся. Педагогическое наблюдение, статистический анализ данных социально- психологического паспорта в школе. Анкета для родителей А.А. Андрее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о-ориентированный анализ результатов деятельности школьных творческих организаций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D848-59C7-404F-83EC-23F0B0B68452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TextBox 10" descr=""/>
          <p:cNvPicPr/>
          <p:nvPr/>
        </p:nvPicPr>
        <p:blipFill>
          <a:blip r:embed="rId1"/>
          <a:stretch/>
        </p:blipFill>
        <p:spPr>
          <a:xfrm>
            <a:off x="384120" y="109440"/>
            <a:ext cx="83757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142920" y="147600"/>
          <a:ext cx="8786880" cy="6710400"/>
        </p:xfrm>
        <a:graphic>
          <a:graphicData uri="http://schemas.openxmlformats.org/drawingml/2006/table">
            <a:tbl>
              <a:tblPr/>
              <a:tblGrid>
                <a:gridCol w="1542960"/>
                <a:gridCol w="3168720"/>
                <a:gridCol w="4075200"/>
              </a:tblGrid>
              <a:tr h="262080">
                <a:tc>
                  <a:txBody>
                    <a:bodyPr lIns="8640" rIns="8640" tIns="8640" bIns="8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1760">
                <a:tc>
                  <a:txBody>
                    <a:bodyPr lIns="8640" rIns="8640" tIns="8640" bIns="8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нравственного потенциала личности обучаю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енная направленность. Сформированность отношений личности к Родине, обществу, семье, школе, классному коллективу, себе, природе, учебе и труду. Социальная активность. Духовно-нравственная воспитанность учащихся (нравственная направленность личности, способность нравственной самореализации поведения, ценностное отношение к мир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Н.Е. Щурковой «Размышляем о жизненном опыте» для определения нравственной направленности личн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С.М. Петровой «Пословицы» для определения направленности личн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и Б.П. Битинаса и М.И. Шиловой для изучения воспитанности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2720">
                <a:tc>
                  <a:txBody>
                    <a:bodyPr lIns="8640" rIns="8640" tIns="8640" bIns="8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коммуникативного потенциала личности обучаю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бельность. Сформированность коммуникативной культуры учащихся. Коммуникативная культура учащихся (способность к пониманию, состраданию другом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выявления коммуникативных склонностей. Методы экспертной оценки педагогов и самооценки учащихся. Педагогическое наблюдение. Методика «Пословицы» Петровой С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640">
                <a:tc>
                  <a:txBody>
                    <a:bodyPr lIns="8640" rIns="8640" tIns="8640" bIns="8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эстетического потенциала лич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ость чувства прекрасного и других эстетических чув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экспертной оценки педагогов и самооценки учащихся. Педагогическое наблю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5200">
                <a:tc>
                  <a:txBody>
                    <a:bodyPr lIns="8640" rIns="8640" tIns="8640" bIns="8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физического потенциала лич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здоровья учащихся. Развитость физических кач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ий медицинский анализ состояния здоровья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экспертной оценки педагогов и самооценки учащихся. Педагогическое наблю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ий медицинский анализ состояния здоровья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 «Здоровый образ жизн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0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908E-D0E9-4CAE-816C-BC57AC38CE56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1" name=""/>
          <p:cNvGraphicFramePr/>
          <p:nvPr/>
        </p:nvGraphicFramePr>
        <p:xfrm>
          <a:off x="214200" y="428760"/>
          <a:ext cx="8786880" cy="5203800"/>
        </p:xfrm>
        <a:graphic>
          <a:graphicData uri="http://schemas.openxmlformats.org/drawingml/2006/table">
            <a:tbl>
              <a:tblPr/>
              <a:tblGrid>
                <a:gridCol w="1543320"/>
                <a:gridCol w="3168360"/>
                <a:gridCol w="4075200"/>
              </a:tblGrid>
              <a:tr h="262440">
                <a:tc>
                  <a:txBody>
                    <a:bodyPr lIns="8640" rIns="8640" tIns="8640" bIns="8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9320">
                <a:tc>
                  <a:txBody>
                    <a:bodyPr lIns="8640" rIns="8640" tIns="8640" bIns="8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ость учащихся, педагогов и родителей жизнедеятельностью в шко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А.А. Андреева «Изучение удовлетворенности учащихся школьной жизнью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и Е.Н. Степанова для исследования удовлетворенности педагогов и родителей жизнедеятельностью в образовательном учрежде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040">
                <a:tc>
                  <a:txBody>
                    <a:bodyPr lIns="8640" rIns="8640" tIns="8640" bIns="8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общешкольного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и нравственно- психологический микроклимат во взросло-детском коллективе на трех уровнях: взрослый-ребенок, ребенок-ребенок, взрослый-взрослы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пределение уровня развития сформированности педагогического, общешкольного и классных коллективов»; Творческая атмосфера в школе. Возможность для личностного духовного становления педагогов и учащихся; Степень готовности взрослых и детей оказать друг другу поддержку и помощь; Комфортность в шко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Р.С. Немова «Социально-психологическая самоаттестация коллектива (СПСК)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М.И. Рожкова «Определение уровня развития ученического самоуправления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Л.В. Байбородовой для изучения степени развития основных компонентов педагогического взаимодейст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2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82FC-1C6F-411E-B7E6-D9660F9A9763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285840" y="214200"/>
          <a:ext cx="8858160" cy="6380280"/>
        </p:xfrm>
        <a:graphic>
          <a:graphicData uri="http://schemas.openxmlformats.org/drawingml/2006/table">
            <a:tbl>
              <a:tblPr/>
              <a:tblGrid>
                <a:gridCol w="2066760"/>
                <a:gridCol w="2067120"/>
                <a:gridCol w="2361960"/>
                <a:gridCol w="2362320"/>
              </a:tblGrid>
              <a:tr h="245160">
                <a:tc rowSpan="2"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 сформированности ценно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сформированности от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8760">
                <a:tc>
                  <a:txBody>
                    <a:bodyPr lIns="37800" rIns="378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Осознанность ценностного отношения (когнитивный компонен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е или минимум знаний об объекте действительности, к которому характерно неосознанное 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коплен определенный объем знаний, но которые еще не являются глубокими и системными, поэтому не в полной мере осознается ребенком ценность данного объекта действи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формировались достаточно глубокие и отчетливые представления об объектах природной или социальной действительности, обусловливающие осознанное отношение школьника к 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960">
                <a:tc>
                  <a:txBody>
                    <a:bodyPr lIns="37800" rIns="378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Выраженность эмоций и чувств при проявлении отношения (эмоционально-чувственный компонен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ьник фактически безразличен к данному объекту действительности, не вызывающего у него эмоционального от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этому объекту действительности ребенок проявляет интерес как эмоционально положительное отношение, но оно не является долгим и си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вство любви и устойчивую заинтересованность вызывает у школьника данный объект действи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960">
                <a:tc>
                  <a:txBody>
                    <a:bodyPr lIns="37800" rIns="378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Активность поведения и деятельности (поведенческо-деятельностный компонен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большинстве случаев ребенку присуща позиция зрителя (пассивного наблюдате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ще всего учащимся занимается позиция ведомого исполнителя в процессе познания и преобразования фрагмента действительности, к которому проявляется 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редко для школьника характерна позиция организатора деятельнос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BE6C-D3BA-4FFC-AE49-9A0D26CEAB21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11"/>
          <p:cNvSpPr/>
          <p:nvPr/>
        </p:nvSpPr>
        <p:spPr>
          <a:xfrm>
            <a:off x="285840" y="2858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c66bb"/>
                </a:solidFill>
                <a:latin typeface="Comic Sans MS"/>
                <a:ea typeface="Arial"/>
              </a:rPr>
              <a:t>2.3.11.</a:t>
            </a:r>
            <a:r>
              <a:rPr b="1" lang="en-US" sz="1800" spc="-1" strike="noStrike">
                <a:solidFill>
                  <a:srgbClr val="ac66bb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ac66bb"/>
                </a:solidFill>
                <a:latin typeface="Comic Sans MS"/>
                <a:ea typeface="Arial"/>
              </a:rPr>
              <a:t>М</a:t>
            </a:r>
            <a:r>
              <a:rPr b="1" lang="ru-RU" sz="1800" spc="-1" strike="noStrike">
                <a:solidFill>
                  <a:srgbClr val="ac66bb"/>
                </a:solidFill>
                <a:latin typeface="Comic Sans MS"/>
              </a:rPr>
              <a:t>етодика и инструментарий мониторинга духовно-нравственного развития, воспитания и социализаци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14200" y="1000080"/>
          <a:ext cx="8715600" cy="5883480"/>
        </p:xfrm>
        <a:graphic>
          <a:graphicData uri="http://schemas.openxmlformats.org/drawingml/2006/table">
            <a:tbl>
              <a:tblPr/>
              <a:tblGrid>
                <a:gridCol w="2768760"/>
                <a:gridCol w="594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иагностический инструмента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питание гражданственн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атриотизма, уважения к прав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вободам и обязанностям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тодика «Патриотизм и как я его понимаю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тодики А.Н.Капустиной и М.И.Шиловой (из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овня воспитанности обучающихс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даптированный вариант методики М.Рокича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следования ценностных ориентаций школь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седа (с обучающимися, родителями, педагогами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тод наблюдения, анкетирование, проекти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чинение, ранжирование, социомет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питание социаль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ветственности и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Личностный опросник Кеттелла» (в мод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сюковой Л.А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тодика Торренс Э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сты креа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тодика социометрического обследования Битяновой М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кспресс-диагностика социальных ценностей лич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иагностические методики Капустина Н.Л. и Щурковой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нкета «Индекс воспитанности школьник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</a:tbl>
          </a:graphicData>
        </a:graphic>
      </p:graphicFrame>
      <p:sp>
        <p:nvSpPr>
          <p:cNvPr id="50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E268-FF5D-46CD-92BF-09EC62187DDB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3"/>
          <p:cNvSpPr/>
          <p:nvPr/>
        </p:nvSpPr>
        <p:spPr>
          <a:xfrm>
            <a:off x="826920" y="404640"/>
            <a:ext cx="7993080" cy="648000"/>
          </a:xfrm>
          <a:prstGeom prst="rect">
            <a:avLst/>
          </a:prstGeom>
          <a:solidFill>
            <a:srgbClr val="f2d7e0"/>
          </a:solidFill>
          <a:ln w="15840">
            <a:solidFill>
              <a:srgbClr val="f1d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Типичные оши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611280" y="1125360"/>
            <a:ext cx="8137440" cy="71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92d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mic Sans MS"/>
                <a:ea typeface="Arial"/>
              </a:rPr>
              <a:t>Формулировка цели и задач воспитания и социализации обучающихся требует конкретизации, уточ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b0f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  <a:ea typeface="Arial"/>
              </a:rPr>
              <a:t>Не прописаны особенности организации воспитания и социал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87439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74396"/>
                </a:solidFill>
                <a:latin typeface="Comic Sans MS"/>
                <a:ea typeface="Arial"/>
              </a:rPr>
              <a:t>Содержание воспитания и социализации охватывает следующие виды деятельности: урочная, внеурочная, внеклассная, внешкольная и др., а обозначены первые д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b83d68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83d68"/>
                </a:solidFill>
                <a:latin typeface="Comic Sans MS"/>
                <a:ea typeface="Arial"/>
              </a:rPr>
              <a:t>Не представлены формы занятий в соответствии с основным содержанием и видами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  <a:ea typeface="Arial"/>
              </a:rPr>
              <a:t>Раздел «Этапы организации совместной деятельности ОУ …» включает лишь взаимодействие семьи и школы, не указано содержание деятельности взаимодействия ОУ с др. социальными партнер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Практически не представлены содержание и организация работы ОУ по формированию экологически целесообразного, здорового и безопасного образа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B05C-383B-4C1B-80D2-CE15111BB799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3"/>
          <p:cNvSpPr/>
          <p:nvPr/>
        </p:nvSpPr>
        <p:spPr>
          <a:xfrm>
            <a:off x="826920" y="404640"/>
            <a:ext cx="7993080" cy="648000"/>
          </a:xfrm>
          <a:prstGeom prst="rect">
            <a:avLst/>
          </a:prstGeom>
          <a:solidFill>
            <a:srgbClr val="f2d7e0"/>
          </a:solidFill>
          <a:ln w="15840">
            <a:solidFill>
              <a:srgbClr val="f1d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Типичные оши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611280" y="1125360"/>
            <a:ext cx="8137440" cy="65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mic Sans MS"/>
                <a:ea typeface="Arial"/>
              </a:rPr>
              <a:t>7.Обратить внимание на мониторинг эффективности реализации ОУ программы воспитания и социализации –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комплексная оценка результатов, требующая соответствующий диагностический инструментар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Особенности развития личностной, социальной, профессиональной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9933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omic Sans MS"/>
                <a:ea typeface="Arial"/>
              </a:rPr>
              <a:t>Социально-педагогическая среда, общая психологическая атмосф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Особенности детско-родительских отношений и степень включенности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8.Заимствованы этапы психолого-педагогического исследования из примерной основной образовательной программы (контрольный, формирующий и др.), не обозначены сроки каждого из этапов, содерж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204"/>
                </a:solidFill>
                <a:latin typeface="Comic Sans MS"/>
                <a:ea typeface="Arial"/>
              </a:rPr>
              <a:t>9.Нет списка использованной литературы с указанием нормативно-правовой ба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88c5"/>
                </a:solidFill>
                <a:latin typeface="Comic Sans MS"/>
                <a:ea typeface="Arial"/>
              </a:rPr>
              <a:t>10. Некорректный стиль изложения програм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7C2A-F592-4DE8-ADF8-C69513ED0FF0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28600" y="928800"/>
          <a:ext cx="8610480" cy="5548320"/>
        </p:xfrm>
        <a:graphic>
          <a:graphicData uri="http://schemas.openxmlformats.org/drawingml/2006/table">
            <a:tbl>
              <a:tblPr/>
              <a:tblGrid>
                <a:gridCol w="1639800"/>
                <a:gridCol w="1511280"/>
                <a:gridCol w="1629000"/>
                <a:gridCol w="239760"/>
                <a:gridCol w="1809720"/>
                <a:gridCol w="1780920"/>
              </a:tblGrid>
              <a:tr h="615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 gridSpan="6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учение политического устройства российского государства, символики Российской Федер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5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 и гим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и к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 округ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я и 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му гор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к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че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иная «Ове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ой фла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ут «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ома «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я, сама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я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объя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: «зл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ывающее е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зненные си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ос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ст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социальных проект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ждый правый имеет пра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5" name="Rectangle 289"/>
          <p:cNvSpPr/>
          <p:nvPr/>
        </p:nvSpPr>
        <p:spPr>
          <a:xfrm>
            <a:off x="2556000" y="2811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52f74"/>
                </a:solidFill>
                <a:latin typeface="Arial"/>
              </a:rPr>
              <a:t>Система меро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7F60-80C1-4939-A500-F22524C55662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228600" y="995400"/>
          <a:ext cx="8915400" cy="5862600"/>
        </p:xfrm>
        <a:graphic>
          <a:graphicData uri="http://schemas.openxmlformats.org/drawingml/2006/table">
            <a:tbl>
              <a:tblPr/>
              <a:tblGrid>
                <a:gridCol w="1716120"/>
                <a:gridCol w="1582560"/>
                <a:gridCol w="1627200"/>
                <a:gridCol w="3989520"/>
              </a:tblGrid>
              <a:tr h="423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равовых зн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правил поведения в школе и общественных местах. Библиотечный урок "Ваши права, дети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и закон (разбор ситуаций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этом можешь ты не быть, но гражданином быть обязан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я – основной закон нашей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ут «Что важнее – знать или выполнять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ы в Управляющий сов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ы  в ученическое соуправл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7640"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лекторий «Закон и порядок» (встречи с представителями правоохранительных органов, психологической службы, ГИБДД, медработникам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празднике «День народного единств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вета профилактики правонарушений среди несовершеннолетн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ое собрание «Растить граждани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й стол для родителей «Законодательство РФ «О воинском учёте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етодического семинара в педагогическом коллективе школы «Формирование гражданина и патриот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8" name="Rectangle 118"/>
          <p:cNvSpPr/>
          <p:nvPr/>
        </p:nvSpPr>
        <p:spPr>
          <a:xfrm>
            <a:off x="3066120" y="349200"/>
            <a:ext cx="301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Arial"/>
              </a:rPr>
              <a:t>Система</a:t>
            </a: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b13f9a"/>
                </a:solidFill>
                <a:latin typeface="Arial"/>
              </a:rPr>
              <a:t>меро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31C9-1A56-43B5-87FC-834DD784DA1E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4"/>
          <p:cNvSpPr/>
          <p:nvPr/>
        </p:nvSpPr>
        <p:spPr>
          <a:xfrm>
            <a:off x="6948360" y="1197000"/>
            <a:ext cx="1582920" cy="2952720"/>
          </a:xfrm>
          <a:prstGeom prst="ellipse">
            <a:avLst/>
          </a:prstGeom>
          <a:gradFill rotWithShape="0">
            <a:gsLst>
              <a:gs pos="0">
                <a:srgbClr val="e3c3ca"/>
              </a:gs>
              <a:gs pos="100000">
                <a:srgbClr val="c68f9b"/>
              </a:gs>
            </a:gsLst>
            <a:lin ang="5400000"/>
          </a:gradFill>
          <a:ln w="9360">
            <a:solidFill>
              <a:srgbClr val="b83d6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и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ом числ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276720" y="976320"/>
            <a:ext cx="289548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предмет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 ориентированы 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нтегративный результ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развитии личности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а развит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отражает их взаимо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 содержанием отдельных учеб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предметов, внеурочной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нешкольной деятельност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а воспитания и социализации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(ориентирована на интегративный результат в развитии лич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3132000" y="2205000"/>
            <a:ext cx="144720" cy="144360"/>
          </a:xfrm>
          <a:prstGeom prst="diamond">
            <a:avLst/>
          </a:prstGeom>
          <a:solidFill>
            <a:srgbClr val="df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3059280" y="3284640"/>
            <a:ext cx="144360" cy="144360"/>
          </a:xfrm>
          <a:prstGeom prst="diamond">
            <a:avLst/>
          </a:prstGeom>
          <a:solidFill>
            <a:srgbClr val="df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3059280" y="4724280"/>
            <a:ext cx="144360" cy="144720"/>
          </a:xfrm>
          <a:prstGeom prst="diamond">
            <a:avLst/>
          </a:prstGeom>
          <a:solidFill>
            <a:srgbClr val="df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6135840" y="2655720"/>
            <a:ext cx="718920" cy="486000"/>
          </a:xfrm>
          <a:prstGeom prst="leftRightArrow">
            <a:avLst>
              <a:gd name="adj1" fmla="val 50000"/>
              <a:gd name="adj2" fmla="val 29448"/>
            </a:avLst>
          </a:prstGeom>
          <a:gradFill rotWithShape="0">
            <a:gsLst>
              <a:gs pos="0">
                <a:srgbClr val="e3c3ca"/>
              </a:gs>
              <a:gs pos="100000">
                <a:srgbClr val="c68f9b"/>
              </a:gs>
            </a:gsLst>
            <a:lin ang="5400000"/>
          </a:gradFill>
          <a:ln w="9360">
            <a:solidFill>
              <a:srgbClr val="b83d6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AutoShape 10"/>
          <p:cNvSpPr/>
          <p:nvPr/>
        </p:nvSpPr>
        <p:spPr>
          <a:xfrm>
            <a:off x="500040" y="1844640"/>
            <a:ext cx="1871640" cy="3024360"/>
          </a:xfrm>
          <a:custGeom>
            <a:avLst/>
            <a:gdLst>
              <a:gd name="textAreaLeft" fmla="*/ 0 w 1871640"/>
              <a:gd name="textAreaRight" fmla="*/ 1872000 w 1871640"/>
              <a:gd name="textAreaTop" fmla="*/ 756000 h 3024360"/>
              <a:gd name="textAreaBottom" fmla="*/ 226836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gradFill rotWithShape="0">
            <a:gsLst>
              <a:gs pos="0">
                <a:srgbClr val="e3c3ca"/>
              </a:gs>
              <a:gs pos="100000">
                <a:srgbClr val="c68f9b"/>
              </a:gs>
            </a:gsLst>
            <a:lin ang="5400000"/>
          </a:gradFill>
          <a:ln w="9360">
            <a:solidFill>
              <a:srgbClr val="b83d6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546120" y="1197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овые це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703080" y="51246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Line 14"/>
          <p:cNvSpPr/>
          <p:nvPr/>
        </p:nvSpPr>
        <p:spPr>
          <a:xfrm flipV="1">
            <a:off x="2340000" y="2420640"/>
            <a:ext cx="719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15"/>
          <p:cNvSpPr/>
          <p:nvPr/>
        </p:nvSpPr>
        <p:spPr>
          <a:xfrm flipV="1">
            <a:off x="2362320" y="3505320"/>
            <a:ext cx="6094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16"/>
          <p:cNvSpPr/>
          <p:nvPr/>
        </p:nvSpPr>
        <p:spPr>
          <a:xfrm>
            <a:off x="2362320" y="4114800"/>
            <a:ext cx="57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468360" y="1382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сто программы воспитания и социализ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ОП  ООО и С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6300720" y="4000680"/>
            <a:ext cx="2735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равственный уклад школьной жиз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рочная, внеурочная и общественно значимая деятельность, система воспитательных мероприятий, культурных и социальны практ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5" name="Соединительная линия уступом 4"/>
          <p:cNvCxnSpPr/>
          <p:nvPr/>
        </p:nvCxnSpPr>
        <p:spPr>
          <a:xfrm>
            <a:off x="4932360" y="4438440"/>
            <a:ext cx="1240560" cy="286200"/>
          </a:xfrm>
          <a:prstGeom prst="bentConnector3">
            <a:avLst>
              <a:gd name="adj1" fmla="val 49985"/>
            </a:avLst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08000" y="620640"/>
          <a:ext cx="8928000" cy="5923080"/>
        </p:xfrm>
        <a:graphic>
          <a:graphicData uri="http://schemas.openxmlformats.org/drawingml/2006/table">
            <a:tbl>
              <a:tblPr/>
              <a:tblGrid>
                <a:gridCol w="1579680"/>
                <a:gridCol w="1834920"/>
                <a:gridCol w="1662120"/>
                <a:gridCol w="1873440"/>
                <a:gridCol w="1977840"/>
              </a:tblGrid>
              <a:tr h="384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5"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ко-краеведческая рабо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9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Мой гор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ейные уроки «Юные герои вой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Мы твои друзья, природа!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ходы «Край родной, на век любимый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Югра: вчера, сегодня, завт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 земле Югорской»   Игра «Что? Где? Когда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ейные уроки «Сургутяне в годы вой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на «Кто лучше знает свой город» Поэтический час «Только доблесть живет вечно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куссия «Природа и мы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презентаций «Моя малая Родина», «Листая страницы истор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 школьной территор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стенгазет "Страницы истории родного края", "К родному краю с любовью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омощи ветеранам, труженикам тыла, старожил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оциальных акций «Забота», «Доброе сердц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6840">
                <a:tc gridSpan="5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на лучшую краеведческую находку года из семейного архива «Семейная реликвия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 в городской краеведческий музей, школьный муз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-знакомства с историко-архитектурными памятниками города и кра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курсии по живописным местам кра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21" name="Rectangle 287" descr=""/>
          <p:cNvPicPr/>
          <p:nvPr/>
        </p:nvPicPr>
        <p:blipFill>
          <a:blip r:embed="rId1"/>
          <a:stretch/>
        </p:blipFill>
        <p:spPr>
          <a:xfrm>
            <a:off x="2981160" y="158760"/>
            <a:ext cx="3364200" cy="658800"/>
          </a:xfrm>
          <a:prstGeom prst="rect">
            <a:avLst/>
          </a:prstGeom>
          <a:ln w="0">
            <a:noFill/>
          </a:ln>
        </p:spPr>
      </p:pic>
      <p:sp>
        <p:nvSpPr>
          <p:cNvPr id="522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C5EE-930A-4717-AC0E-A6D42AEF4D0C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2017800" y="146160"/>
            <a:ext cx="6619680" cy="6951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Характеристика класс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блемы учащихся и коллектива. Ранжирование проблем по субъектам взаимодейств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лавная идея развития класса, системообразующий вид воспитательной деятельности, принципы (правила) жизнедеятель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Цель и задачи воспитания (перспективная, текущие) по этапам реал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ерспективный план реализации проекта по приоритетным направлениям воспитательной деятельности, с планируемым результато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лендарный план реализации проекта на учебный год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ритерии эффективности реализации проекта развития класс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«Риски» проек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D5F9-651B-4E35-8959-114F91CD9896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ик 3"/>
          <p:cNvSpPr/>
          <p:nvPr/>
        </p:nvSpPr>
        <p:spPr>
          <a:xfrm>
            <a:off x="179280" y="189000"/>
            <a:ext cx="8785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рмативное обеспечение воспитания и соци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ституция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венция о правах ребен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ание Президента РФ Федеральному Собранию Российской Федерации от 12.12.2012 го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льный Закон от 29.12.2012 г. №273-ФЗ «Об образовании в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льный закон от 24.07.1998 г. № 124-ФЗ «Об основных гарантиях прав ребёнка в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з Президента Российской Федерации «О национальной стратегии действий в интересах детей на 2012-2017 годы» от 1 июня 2012 года № 76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ая программа Российской Федерации «Развитие образования», утвержденная распоряжением Правительства Российской Федерации от 22 ноября 2012 г. № 2148-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ция долгосрочного социально-экономического развития до 2020 года, раздел III «Образование» (одобрена Правительством РФ 1 октября 2008 года, протокол № 36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ция государственной семейной политики в Российской Федерации на период до 2025 го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ция развития дополнительного образования де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каз Минобрнауки от 13.05.2013 №ИР-352/09 Программа развития воспитательной компоненты в общеобразовательных учрежде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Стратегии  развития воспитания в Российской Федерации на период до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C130-75CB-44DC-B3B3-C760A0FD5677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72216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а воспитания и соци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22860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яснительная записка включ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Принцип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Система оценки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4621320" y="660240"/>
            <a:ext cx="4330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Духовно – нравственное воспит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урок, ключевые дела, мероприятия в параллели, общешкольные, коллектив класса) – все в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Социализация и профориентац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внеурочная деятельность по предмету, профориентационные мероприятия, проекты, самоуправление, детские и молодежные организации, участие в конкурсах, летний лагерь, музе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Экологическая культура  и ЗОЖ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 ЗОЖ на уроке, общешкольные дела, спорт, целевые программы, благотворительность - волонтеры, «Антитеррор» и т.п.), </a:t>
            </a: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кции экологические, клубы, формы по ПДД, ориентации на безопасное поведение в экстр. ситуац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Работа с родител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ППМС служба поддерж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44440" y="1200240"/>
            <a:ext cx="34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учре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244440" y="555948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воспит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692360" y="5013360"/>
            <a:ext cx="485640" cy="576360"/>
          </a:xfrm>
          <a:prstGeom prst="upDownArrow">
            <a:avLst>
              <a:gd name="adj1" fmla="val 50000"/>
              <a:gd name="adj2" fmla="val 23626"/>
            </a:avLst>
          </a:prstGeom>
          <a:gradFill rotWithShape="0">
            <a:gsLst>
              <a:gs pos="0">
                <a:srgbClr val="e3c3ca"/>
              </a:gs>
              <a:gs pos="100000">
                <a:srgbClr val="c68f9b"/>
              </a:gs>
            </a:gsLst>
            <a:lin ang="5400000"/>
          </a:gradFill>
          <a:ln w="9360">
            <a:solidFill>
              <a:srgbClr val="b83d6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1692360" y="1917720"/>
            <a:ext cx="485640" cy="45720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e3c3ca"/>
              </a:gs>
              <a:gs pos="100000">
                <a:srgbClr val="c68f9b"/>
              </a:gs>
            </a:gsLst>
            <a:lin ang="5400000"/>
          </a:gradFill>
          <a:ln w="9360">
            <a:solidFill>
              <a:srgbClr val="b83d6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3203640" y="836280"/>
            <a:ext cx="1512720" cy="45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0"/>
          <p:cNvSpPr/>
          <p:nvPr/>
        </p:nvSpPr>
        <p:spPr>
          <a:xfrm flipV="1">
            <a:off x="3203640" y="1917720"/>
            <a:ext cx="1512720" cy="35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1"/>
          <p:cNvSpPr/>
          <p:nvPr/>
        </p:nvSpPr>
        <p:spPr>
          <a:xfrm flipV="1">
            <a:off x="3203640" y="3499920"/>
            <a:ext cx="151272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2"/>
          <p:cNvSpPr/>
          <p:nvPr/>
        </p:nvSpPr>
        <p:spPr>
          <a:xfrm flipV="1">
            <a:off x="3203640" y="5445000"/>
            <a:ext cx="14176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3203640" y="5661000"/>
            <a:ext cx="14176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5-конечная звезда 1"/>
          <p:cNvSpPr/>
          <p:nvPr/>
        </p:nvSpPr>
        <p:spPr>
          <a:xfrm>
            <a:off x="3059280" y="5302080"/>
            <a:ext cx="288720" cy="360360"/>
          </a:xfrm>
          <a:prstGeom prst="pie">
            <a:avLst/>
          </a:prstGeom>
          <a:gradFill rotWithShape="0">
            <a:gsLst>
              <a:gs pos="0">
                <a:srgbClr val="e3c3ca"/>
              </a:gs>
              <a:gs pos="100000">
                <a:srgbClr val="c68f9b"/>
              </a:gs>
            </a:gsLst>
            <a:lin ang="5400000"/>
          </a:gradFill>
          <a:ln w="9360">
            <a:solidFill>
              <a:srgbClr val="b83d6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96CB-6DCE-464D-B8E8-E137AA4E7DCD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Владеющи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сновами умения учитьс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пособный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рганизации собственной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амостоятельно действует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 отвечает за свои поступки перед семьёй и обществ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48320" y="1828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 algn="just"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Умеющи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ся, осознающий важность образования и самообразования для жизни и деятельност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 algn="just"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пособный применят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лученные знания на практи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 algn="just"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оциально активны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, уважает закон и правопорядок, умеет соизмерять свои поступки с нравственными ценностями, осознаёт свои обязанности перед семьёй, обществом, Отечеств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TextBox 1"/>
          <p:cNvSpPr/>
          <p:nvPr/>
        </p:nvSpPr>
        <p:spPr>
          <a:xfrm>
            <a:off x="1852560" y="2761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ртрет выпуск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2"/>
          <p:cNvSpPr/>
          <p:nvPr/>
        </p:nvSpPr>
        <p:spPr>
          <a:xfrm>
            <a:off x="641520" y="1125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чальн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5003640" y="112536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E749-54F8-4025-8AF8-2D960EFC4845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1240" y="98100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ЗНАНИЯ +  умения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ПЫТ ТВОРЧЕСКОЙ ДЕЯТЕЛЬНОСТИ +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ЭМОЦИОНАЛЬНО-ЦЕННОСТНЫЕ ОТНОШЕНИЯ +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ПОСОБЫ ДЕЯТЕЛЬНОСТИ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=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(СПОСОБНОСТЬ И ГОТОВНОСТЬ К ПРАКТИЧЕСКОЙ ДЕЯТЕЛЬНОСТИ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КОМПЕТЕНЦ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В области личностной культур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В области социальной культур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В области семейной культур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TextBox 1"/>
          <p:cNvSpPr/>
          <p:nvPr/>
        </p:nvSpPr>
        <p:spPr>
          <a:xfrm>
            <a:off x="1501920" y="11592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временное представление о содержании качеств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4768-E9A6-4617-99F3-3C465FB24495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2"/>
          <p:cNvSpPr/>
          <p:nvPr/>
        </p:nvSpPr>
        <p:spPr>
          <a:xfrm>
            <a:off x="250920" y="404640"/>
            <a:ext cx="85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грамма воспитания и социализ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учающих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иентирована на получ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ативного результа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звитии личности, охватывающий следующие обла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личностной куль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социальной куль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семейной куль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безопасной здоровьесберегающей куль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трудовой (профессиональной) куль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468360" y="364500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и примерное содержание программы воспитания и социализации обучающихся ООО и СОО представлены в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ГОС среднего общего образования (п.18.2.3) и примерной образовательной программе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CD5B-A020-4CBF-80B0-C183BDD54B75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333360" y="189000"/>
            <a:ext cx="74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2.3. Программа воспитания и социализации обучающихся на ступени основного общего образования </a:t>
            </a:r>
            <a:r>
              <a:rPr b="1" i="1" lang="ru-RU" sz="1800" spc="-1" strike="noStrike">
                <a:solidFill>
                  <a:srgbClr val="00b0f0"/>
                </a:solidFill>
                <a:latin typeface="Comic Sans MS"/>
                <a:ea typeface="Arial"/>
              </a:rPr>
              <a:t>– направлена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4329000" y="123192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0f0"/>
                </a:solidFill>
                <a:uFillTx/>
                <a:latin typeface="Comic Sans MS"/>
                <a:ea typeface="Arial"/>
              </a:rPr>
              <a:t>воспитательную, учебную, внеучебную, социально значимую деятельность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324000" y="928800"/>
            <a:ext cx="37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omic Sans MS"/>
                <a:ea typeface="Arial"/>
              </a:rPr>
              <a:t>формирование </a:t>
            </a:r>
            <a:r>
              <a:rPr b="1" lang="ru-RU" sz="1800" spc="-1" strike="noStrike" u="sng">
                <a:solidFill>
                  <a:srgbClr val="00b0f0"/>
                </a:solidFill>
                <a:uFillTx/>
                <a:latin typeface="Comic Sans MS"/>
                <a:ea typeface="Arial"/>
              </a:rPr>
              <a:t>нравственного уклада школь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Выгнутая вверх стрелка 4"/>
          <p:cNvSpPr/>
          <p:nvPr/>
        </p:nvSpPr>
        <p:spPr>
          <a:xfrm rot="757800">
            <a:off x="3733560" y="843120"/>
            <a:ext cx="1299960" cy="317520"/>
          </a:xfrm>
          <a:custGeom>
            <a:avLst/>
            <a:gdLst>
              <a:gd name="textAreaLeft" fmla="*/ 295200 w 1299960"/>
              <a:gd name="textAreaRight" fmla="*/ 965160 w 1299960"/>
              <a:gd name="textAreaTop" fmla="*/ 42480 h 317520"/>
              <a:gd name="textAreaBottom" fmla="*/ 2750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1" hR="21600" stAng="10800000" swAng="5400000"/>
                <a:lnTo>
                  <a:pt x="11130" y="0"/>
                </a:lnTo>
                <a:arcTo wR="9811" hR="21600" stAng="-5400000" swAng="3623027"/>
                <a:lnTo>
                  <a:pt x="21288" y="16200"/>
                </a:lnTo>
                <a:lnTo>
                  <a:pt x="20282" y="21600"/>
                </a:lnTo>
                <a:lnTo>
                  <a:pt x="18651" y="16200"/>
                </a:lnTo>
                <a:lnTo>
                  <a:pt x="19310" y="16200"/>
                </a:lnTo>
                <a:arcTo wR="9811" hR="21600" stAng="-1776973" swAng="-3517860"/>
                <a:lnTo>
                  <a:pt x="10471" y="49"/>
                </a:lnTo>
                <a:arcTo wR="9811" hR="21600" stAng="-5505168" swAng="-5294832"/>
                <a:close/>
              </a:path>
              <a:path fill="darkenLess" w="21600" h="21600">
                <a:moveTo>
                  <a:pt x="0" y="21600"/>
                </a:moveTo>
                <a:arcTo wR="9811" hR="21600" stAng="10800000" swAng="5400000"/>
                <a:lnTo>
                  <a:pt x="9811" y="0"/>
                </a:lnTo>
                <a:arcTo wR="9811" hR="21600" stAng="-5400000" swAng="105168"/>
                <a:lnTo>
                  <a:pt x="10471" y="49"/>
                </a:lnTo>
                <a:arcTo wR="9811" hR="21600" stAng="-5505168" swAng="-5294832"/>
                <a:close/>
              </a:path>
            </a:pathLst>
          </a:custGeom>
          <a:solidFill>
            <a:srgbClr val="ff0000"/>
          </a:solidFill>
          <a:ln w="15840">
            <a:solidFill>
              <a:srgbClr val="60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103320" y="2155680"/>
            <a:ext cx="80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2.3.1.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Цель и задачи духовно-нравственного развития, воспитания и социализаци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285840" y="2857680"/>
            <a:ext cx="810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2.3.2.</a:t>
            </a:r>
            <a:r>
              <a:rPr b="1" lang="en-US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Направления деятельности по духовно-нравственному развитию, воспитанию и социализацию, профессиональной ориентации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обучающихся, здоровьесберегающей деятельности и формированию экологической культуры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8"/>
          <p:cNvSpPr/>
          <p:nvPr/>
        </p:nvSpPr>
        <p:spPr>
          <a:xfrm>
            <a:off x="395280" y="4292640"/>
            <a:ext cx="72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.3.3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Содержание, виды деятельности и формы занятий по каждому из направлений духовно-нравственного развития, воспитания и социализации обучающихс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785880" y="5357880"/>
            <a:ext cx="78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52f74"/>
                </a:solidFill>
                <a:latin typeface="Comic Sans MS"/>
              </a:rPr>
              <a:t>2.3.4. Формы индивидуальной и групповой организации профессиональной ориентации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29D8-0C1E-45E3-8939-17AB0CF561B5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2:40:30Z</dcterms:created>
  <dc:creator>1</dc:creator>
  <dc:description/>
  <dc:language>en-US</dc:language>
  <cp:lastModifiedBy>лена</cp:lastModifiedBy>
  <cp:lastPrinted>2014-08-21T04:55:12Z</cp:lastPrinted>
  <dcterms:modified xsi:type="dcterms:W3CDTF">2015-09-22T10:50:01Z</dcterms:modified>
  <cp:revision>300</cp:revision>
  <dc:subject/>
  <dc:title>Презентация PowerPoint</dc:title>
</cp:coreProperties>
</file>